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4279900" cy="5486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428040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1854360" cy="2746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7000" bIns="27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3"/>
          </p:nvPr>
        </p:nvSpPr>
        <p:spPr>
          <a:xfrm>
            <a:off x="2425320" y="-360"/>
            <a:ext cx="1854360" cy="2746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7000" bIns="27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768240" y="410760"/>
            <a:ext cx="27432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b5ba2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1b5ba2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569520" y="2606400"/>
            <a:ext cx="3140280" cy="246852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7000" bIns="27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4"/>
          </p:nvPr>
        </p:nvSpPr>
        <p:spPr>
          <a:xfrm>
            <a:off x="-360" y="5211360"/>
            <a:ext cx="1854360" cy="2746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7000" bIns="270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5"/>
          </p:nvPr>
        </p:nvSpPr>
        <p:spPr>
          <a:xfrm>
            <a:off x="2425320" y="5211360"/>
            <a:ext cx="1854360" cy="274680"/>
          </a:xfrm>
          <a:prstGeom prst="rect">
            <a:avLst/>
          </a:prstGeom>
          <a:noFill/>
          <a:ln w="0">
            <a:noFill/>
          </a:ln>
        </p:spPr>
        <p:txBody>
          <a:bodyPr lIns="53640" rIns="53640" tIns="27000" bIns="27000" anchor="b">
            <a:noAutofit/>
          </a:bodyPr>
          <a:lstStyle>
            <a:lvl1pPr indent="0" algn="r">
              <a:buNone/>
              <a:tabLst>
                <a:tab algn="l" pos="0"/>
                <a:tab algn="l" pos="538200"/>
                <a:tab algn="l" pos="1076400"/>
                <a:tab algn="l" pos="1614600"/>
                <a:tab algn="l" pos="2152800"/>
                <a:tab algn="l" pos="2690640"/>
                <a:tab algn="l" pos="3228840"/>
                <a:tab algn="l" pos="3767040"/>
                <a:tab algn="l" pos="4305240"/>
                <a:tab algn="l" pos="4843440"/>
                <a:tab algn="l" pos="5381640"/>
                <a:tab algn="l" pos="5919840"/>
                <a:tab algn="l" pos="6458040"/>
                <a:tab algn="l" pos="6996240"/>
                <a:tab algn="l" pos="7534440"/>
                <a:tab algn="l" pos="8072280"/>
                <a:tab algn="l" pos="8610480"/>
                <a:tab algn="l" pos="9148680"/>
                <a:tab algn="l" pos="9686880"/>
                <a:tab algn="l" pos="10225080"/>
                <a:tab algn="l" pos="1076328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538200"/>
                <a:tab algn="l" pos="1076400"/>
                <a:tab algn="l" pos="1614600"/>
                <a:tab algn="l" pos="2152800"/>
                <a:tab algn="l" pos="2690640"/>
                <a:tab algn="l" pos="3228840"/>
                <a:tab algn="l" pos="3767040"/>
                <a:tab algn="l" pos="4305240"/>
                <a:tab algn="l" pos="4843440"/>
                <a:tab algn="l" pos="5381640"/>
                <a:tab algn="l" pos="5919840"/>
                <a:tab algn="l" pos="6458040"/>
                <a:tab algn="l" pos="6996240"/>
                <a:tab algn="l" pos="7534440"/>
                <a:tab algn="l" pos="8072280"/>
                <a:tab algn="l" pos="8610480"/>
                <a:tab algn="l" pos="9148680"/>
                <a:tab algn="l" pos="9686880"/>
                <a:tab algn="l" pos="10225080"/>
                <a:tab algn="l" pos="10763280"/>
              </a:tabLst>
            </a:pPr>
            <a:fld id="{1C6EF15C-0D6B-423C-AE8B-C36456B74F3E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2425680" y="5211720"/>
            <a:ext cx="1854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27000" bIns="27000" anchor="b">
            <a:noAutofit/>
          </a:bodyPr>
          <a:p>
            <a:pPr algn="r">
              <a:tabLst>
                <a:tab algn="l" pos="0"/>
                <a:tab algn="l" pos="538200"/>
                <a:tab algn="l" pos="1076400"/>
                <a:tab algn="l" pos="1614600"/>
                <a:tab algn="l" pos="2152800"/>
                <a:tab algn="l" pos="2690640"/>
                <a:tab algn="l" pos="3228840"/>
                <a:tab algn="l" pos="3767040"/>
                <a:tab algn="l" pos="4305240"/>
                <a:tab algn="l" pos="4843440"/>
                <a:tab algn="l" pos="5381640"/>
                <a:tab algn="l" pos="5919840"/>
                <a:tab algn="l" pos="6458040"/>
                <a:tab algn="l" pos="6996240"/>
                <a:tab algn="l" pos="7534440"/>
                <a:tab algn="l" pos="8072280"/>
                <a:tab algn="l" pos="8610480"/>
                <a:tab algn="l" pos="9148680"/>
                <a:tab algn="l" pos="9686880"/>
                <a:tab algn="l" pos="10225080"/>
                <a:tab algn="l" pos="10763280"/>
              </a:tabLst>
            </a:pPr>
            <a:fld id="{E31C22A6-7255-483E-B533-DCDE5E6279B5}" type="slidenum">
              <a:rPr b="0" lang="en-US" sz="7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7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768240" y="411120"/>
            <a:ext cx="2743200" cy="20574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569520" y="2606400"/>
            <a:ext cx="3140280" cy="246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B9EA1-3969-4F09-89EF-C4BE977266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0807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5ba2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4212000"/>
            <a:ext cx="777240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5C399-F96D-4DD9-938F-C360244C8E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0807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5ba2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379260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040" y="1988640"/>
            <a:ext cx="379260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4212000"/>
            <a:ext cx="379260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7040" y="4212000"/>
            <a:ext cx="379260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508DC-AE3D-4CE5-A658-2986A4D8B6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0807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5ba2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250236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988640"/>
            <a:ext cx="250236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0000" y="1988640"/>
            <a:ext cx="250236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4212000"/>
            <a:ext cx="250236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4212000"/>
            <a:ext cx="250236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0000" y="4212000"/>
            <a:ext cx="250236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457CC-D709-4B2A-BA74-D319C866E6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31016-5454-4298-A3D9-669CED6243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0807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5ba2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4360" y="1988640"/>
            <a:ext cx="777240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D3CFE-F85D-4921-8442-438741D7BF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0807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5ba2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4345D-2075-489C-BBC0-473BCD064E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0807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5ba2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3792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7040" y="1988640"/>
            <a:ext cx="3792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AB9D2-0318-41A2-B888-89C5FE0207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0807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5ba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C7AA6-BE24-4EDD-B105-AE96EC93F6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1080720"/>
            <a:ext cx="77724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82FD1-8CE2-422B-BEC0-863BCB49C6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0807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5ba2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379260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7040" y="1988640"/>
            <a:ext cx="3792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4360" y="4212000"/>
            <a:ext cx="379260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EF620-9AD0-40EE-9D95-D80525B073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807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5ba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988640"/>
            <a:ext cx="777240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30D0C-768A-45B3-AA1B-62FB413422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0807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5ba2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3792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7040" y="1988640"/>
            <a:ext cx="379260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7040" y="4212000"/>
            <a:ext cx="379260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38EA9-FD55-4B62-A645-85FFD74B91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0807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5ba2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379260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7040" y="1988640"/>
            <a:ext cx="379260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4360" y="4212000"/>
            <a:ext cx="777240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40C34-2E80-4C8D-8CDC-C1CBE9808F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0807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5ba2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4360" y="4212000"/>
            <a:ext cx="777240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3B443-9505-4500-88F8-E3E0E9BE34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0807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5ba2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379260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7040" y="1988640"/>
            <a:ext cx="379260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4360" y="4212000"/>
            <a:ext cx="379260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7040" y="4212000"/>
            <a:ext cx="379260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89FFB-83CD-46D2-BBB4-E327689354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0807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5ba2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250236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2360" y="1988640"/>
            <a:ext cx="250236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0000" y="1988640"/>
            <a:ext cx="250236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4360" y="4212000"/>
            <a:ext cx="250236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2360" y="4212000"/>
            <a:ext cx="250236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0000" y="4212000"/>
            <a:ext cx="250236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F17D5-6D2A-4FE3-ADB9-A5F0280330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807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5ba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9BFE2-E583-4EF7-916B-ECD32B2AF0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0807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5ba2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3792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040" y="1988640"/>
            <a:ext cx="3792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79B2D-FC96-4C90-8482-D8EA59A668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807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5ba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D66CB-788C-45F2-9A0E-93D8EC8DDF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080720"/>
            <a:ext cx="77724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B8450-B03B-4DAC-995D-EDF1D0BAC0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0807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5ba2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379260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040" y="1988640"/>
            <a:ext cx="3792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4212000"/>
            <a:ext cx="379260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2BB3A-FBDE-4302-938F-705FC79E7D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0807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5ba2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3792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040" y="1988640"/>
            <a:ext cx="379260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7040" y="4212000"/>
            <a:ext cx="379260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FDC7B-B226-4D5E-AFF7-344109DF20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0807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5ba2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379260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040" y="1988640"/>
            <a:ext cx="379260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4212000"/>
            <a:ext cx="777240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0DE13-999F-4134-ADDF-0F590F05D8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0" descr="Watermark"/>
          <p:cNvPicPr/>
          <p:nvPr/>
        </p:nvPicPr>
        <p:blipFill>
          <a:blip r:embed="rId2"/>
          <a:srcRect l="6724" t="0" r="0" b="12775"/>
          <a:stretch/>
        </p:blipFill>
        <p:spPr>
          <a:xfrm>
            <a:off x="0" y="809640"/>
            <a:ext cx="6467400" cy="6048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0807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b5ba2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b5ba2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8769240" y="6403680"/>
            <a:ext cx="339840" cy="26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e438a"/>
                </a:solidFill>
                <a:latin typeface="Zurich BT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5FAF-161C-418B-948A-2F389A92E416}" type="slidenum">
              <a:rPr b="0" lang="en-US" sz="1000" spc="-1" strike="noStrike">
                <a:solidFill>
                  <a:srgbClr val="0e438a"/>
                </a:solidFill>
                <a:latin typeface="Zurich BT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684360" y="1988640"/>
            <a:ext cx="77724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5c5c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5c5c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5c5c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5c5c5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5c5c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5c5c5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5c5c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5c5c5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5c5c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5c5c5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5c5c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pic>
        <p:nvPicPr>
          <p:cNvPr id="4" name="Picture 52" descr=""/>
          <p:cNvPicPr/>
          <p:nvPr/>
        </p:nvPicPr>
        <p:blipFill>
          <a:blip r:embed="rId3"/>
          <a:stretch/>
        </p:blipFill>
        <p:spPr>
          <a:xfrm>
            <a:off x="6804000" y="6124680"/>
            <a:ext cx="1933560" cy="733320"/>
          </a:xfrm>
          <a:prstGeom prst="rect">
            <a:avLst/>
          </a:prstGeom>
          <a:ln w="0">
            <a:noFill/>
          </a:ln>
        </p:spPr>
      </p:pic>
      <p:sp>
        <p:nvSpPr>
          <p:cNvPr id="5" name="Rectangle 66"/>
          <p:cNvSpPr/>
          <p:nvPr/>
        </p:nvSpPr>
        <p:spPr>
          <a:xfrm>
            <a:off x="3894480" y="6357960"/>
            <a:ext cx="31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e438a"/>
                </a:solidFill>
                <a:latin typeface="Zurich BlkEx BT"/>
              </a:rPr>
              <a:t>Committed to connecting the world</a:t>
            </a:r>
            <a:endParaRPr b="0" lang="en-US" sz="14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214200" y="6286680"/>
            <a:ext cx="250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438a"/>
                </a:solidFill>
                <a:latin typeface="Zurich BT"/>
              </a:rPr>
              <a:t>Trondheim, 21 June 2010</a:t>
            </a:r>
            <a:endParaRPr b="0" lang="en-US" sz="1000" spc="-1" strike="noStrike">
              <a:solidFill>
                <a:srgbClr val="64646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Watermark"/>
          <p:cNvPicPr/>
          <p:nvPr/>
        </p:nvPicPr>
        <p:blipFill>
          <a:blip r:embed="rId2"/>
          <a:srcRect l="6724" t="0" r="0" b="12775"/>
          <a:stretch/>
        </p:blipFill>
        <p:spPr>
          <a:xfrm>
            <a:off x="0" y="549360"/>
            <a:ext cx="6467400" cy="60483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7"/>
          <p:cNvSpPr/>
          <p:nvPr/>
        </p:nvSpPr>
        <p:spPr>
          <a:xfrm>
            <a:off x="7584480" y="6175440"/>
            <a:ext cx="135252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Univers"/>
              </a:rPr>
              <a:t>International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Univers"/>
              </a:rPr>
              <a:t>Telecommunication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Univers"/>
              </a:rPr>
              <a:t>Union</a:t>
            </a:r>
            <a:endParaRPr b="0" lang="en-US" sz="1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6432120" y="434340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4b84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7326000" y="452448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4b84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5285160" y="480204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646464"/>
              </a:solidFill>
              <a:latin typeface="Verdana"/>
            </a:endParaRPr>
          </a:p>
        </p:txBody>
      </p:sp>
      <p:pic>
        <p:nvPicPr>
          <p:cNvPr id="48" name="Picture 22" descr=""/>
          <p:cNvPicPr/>
          <p:nvPr/>
        </p:nvPicPr>
        <p:blipFill>
          <a:blip r:embed="rId3"/>
          <a:stretch/>
        </p:blipFill>
        <p:spPr>
          <a:xfrm>
            <a:off x="6670800" y="6080040"/>
            <a:ext cx="1933560" cy="7336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3"/>
          <p:cNvSpPr/>
          <p:nvPr/>
        </p:nvSpPr>
        <p:spPr>
          <a:xfrm>
            <a:off x="3538440" y="6357960"/>
            <a:ext cx="31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e438a"/>
                </a:solidFill>
                <a:latin typeface="Verdana"/>
              </a:rPr>
              <a:t>Committed to connecting the world</a:t>
            </a:r>
            <a:endParaRPr b="0" lang="en-US" sz="14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50" name="Rectangle 28"/>
          <p:cNvSpPr/>
          <p:nvPr/>
        </p:nvSpPr>
        <p:spPr>
          <a:xfrm>
            <a:off x="242640" y="6381720"/>
            <a:ext cx="172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438a"/>
                </a:solidFill>
                <a:latin typeface="Zurich BT"/>
                <a:ea typeface="Times New Roman"/>
              </a:rPr>
              <a:t>Trondheim, 21 June 2010</a:t>
            </a:r>
            <a:endParaRPr b="0" lang="en-US" sz="1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0807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b5ba2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b5ba2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4360" y="1988640"/>
            <a:ext cx="77724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5c5c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5c5c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5c5c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5c5c5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5c5c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5c5c5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5c5c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5c5c5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5c5c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5c5c5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5c5c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8769240" y="6403680"/>
            <a:ext cx="339840" cy="26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e438a"/>
                </a:solidFill>
                <a:latin typeface="Zurich BT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4098-412F-4787-9F13-0F63F37095EE}" type="slidenum">
              <a:rPr b="0" lang="en-US" sz="1000" spc="-1" strike="noStrike">
                <a:solidFill>
                  <a:srgbClr val="0e438a"/>
                </a:solidFill>
                <a:latin typeface="Zurich BT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7"/>
          <p:cNvSpPr/>
          <p:nvPr/>
        </p:nvSpPr>
        <p:spPr>
          <a:xfrm>
            <a:off x="8539560" y="6404040"/>
            <a:ext cx="799560" cy="26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3137-5618-4FC8-9CFF-FEE2A198FA49}" type="slidenum">
              <a:rPr b="0" lang="en-US" sz="1000" spc="-1" strike="noStrike">
                <a:solidFill>
                  <a:srgbClr val="0e438a"/>
                </a:solidFill>
                <a:latin typeface="Zurich BT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0" y="856800"/>
            <a:ext cx="89280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c5c5c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Verdana"/>
              </a:rPr>
              <a:t>ITU </a:t>
            </a:r>
            <a:endParaRPr b="0" lang="en-US" sz="2800" spc="-1" strike="noStrike">
              <a:solidFill>
                <a:srgbClr val="5c5c5c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e438a"/>
                </a:solidFill>
                <a:latin typeface="Verdana"/>
              </a:rPr>
              <a:t>(International Telecommunication Union)</a:t>
            </a:r>
            <a:r>
              <a:rPr b="0" lang="en-US" sz="2000" spc="-1" strike="noStrike">
                <a:solidFill>
                  <a:srgbClr val="0e438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5c5c5c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Verdana"/>
              </a:rPr>
              <a:t>ITU-T </a:t>
            </a:r>
            <a:endParaRPr b="0" lang="en-US" sz="2800" spc="-1" strike="noStrike">
              <a:solidFill>
                <a:srgbClr val="5c5c5c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e438a"/>
                </a:solidFill>
                <a:latin typeface="Verdana"/>
              </a:rPr>
              <a:t>(Telecommunication standardization sector) </a:t>
            </a:r>
            <a:endParaRPr b="0" lang="en-US" sz="2000" spc="-1" strike="noStrike">
              <a:solidFill>
                <a:srgbClr val="5c5c5c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Verdana"/>
              </a:rPr>
              <a:t>Study Group 12</a:t>
            </a:r>
            <a:endParaRPr b="0" lang="en-US" sz="2800" spc="-1" strike="noStrike">
              <a:solidFill>
                <a:srgbClr val="5c5c5c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e438a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e438a"/>
                </a:solidFill>
                <a:latin typeface="Verdana"/>
              </a:rPr>
              <a:t>(Performance, QoS and QoE)</a:t>
            </a:r>
            <a:endParaRPr b="0" lang="en-US" sz="2000" spc="-1" strike="noStrike">
              <a:solidFill>
                <a:srgbClr val="5c5c5c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c5c5c"/>
                </a:solidFill>
                <a:latin typeface="Verdana"/>
              </a:rPr>
              <a:t>Overview of Multimedia Assessment Activities </a:t>
            </a:r>
            <a:br>
              <a:rPr sz="2800"/>
            </a:br>
            <a:r>
              <a:rPr b="0" i="1" lang="en-US" sz="2800" spc="-1" strike="noStrike">
                <a:solidFill>
                  <a:srgbClr val="5c5c5c"/>
                </a:solidFill>
                <a:latin typeface="Verdana"/>
              </a:rPr>
              <a:t>in ITU-T Study Group 12 </a:t>
            </a:r>
            <a:endParaRPr b="0" lang="en-US" sz="2800" spc="-1" strike="noStrike">
              <a:solidFill>
                <a:srgbClr val="5c5c5c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5c5c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1b5ba2"/>
                </a:solidFill>
                <a:latin typeface="Verdana"/>
              </a:rPr>
              <a:t>QoMEX’10, Trondheim, Norway</a:t>
            </a:r>
            <a:endParaRPr b="0" lang="en-US" sz="1600" spc="-1" strike="noStrike">
              <a:solidFill>
                <a:srgbClr val="5c5c5c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c5c5c"/>
                </a:solidFill>
                <a:latin typeface="Verdana"/>
              </a:rPr>
              <a:t>Alexander Raake, Jörgen Gustafsson</a:t>
            </a:r>
            <a:br>
              <a:rPr sz="1800"/>
            </a:br>
            <a:r>
              <a:rPr b="0" lang="en-US" sz="1800" spc="-1" strike="noStrike">
                <a:solidFill>
                  <a:srgbClr val="0099cc"/>
                </a:solidFill>
                <a:latin typeface="Verdana"/>
              </a:rPr>
              <a:t>Co-Rapporteurs Q.14/12</a:t>
            </a:r>
            <a:br>
              <a:rPr sz="1800"/>
            </a:br>
            <a:endParaRPr b="0" lang="en-US" sz="1800" spc="-1" strike="noStrike">
              <a:solidFill>
                <a:srgbClr val="5c5c5c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5877000"/>
            <a:ext cx="914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2720" y="306360"/>
            <a:ext cx="85597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5ba2"/>
                </a:solidFill>
                <a:latin typeface="Verdana"/>
              </a:rPr>
              <a:t>Subjective multimedia test methods</a:t>
            </a:r>
            <a:br>
              <a:rPr sz="2800"/>
            </a:br>
            <a:r>
              <a:rPr b="1" lang="en-US" sz="2800" spc="-1" strike="noStrike">
                <a:solidFill>
                  <a:srgbClr val="1b5ba2"/>
                </a:solidFill>
                <a:latin typeface="Verdana"/>
              </a:rPr>
              <a:t>ITU-T &amp; ITU-R standards</a:t>
            </a:r>
            <a:endParaRPr b="1" lang="en-US" sz="2800" spc="-1" strike="noStrike">
              <a:solidFill>
                <a:srgbClr val="1b5ba2"/>
              </a:solidFill>
              <a:latin typeface="Verdana"/>
            </a:endParaRPr>
          </a:p>
        </p:txBody>
      </p:sp>
      <p:sp>
        <p:nvSpPr>
          <p:cNvPr id="137" name="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60280" y="1397160"/>
            <a:ext cx="851400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c5c5c"/>
                </a:solidFill>
                <a:latin typeface="Arial"/>
                <a:ea typeface="ＭＳ Ｐゴシック"/>
              </a:rPr>
              <a:t>Video quality testing</a:t>
            </a:r>
            <a:endParaRPr b="0" lang="en-US" sz="2000" spc="-1" strike="noStrike">
              <a:solidFill>
                <a:srgbClr val="5c5c5c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b5ba2"/>
                </a:solidFill>
                <a:latin typeface="Arial"/>
                <a:ea typeface="ＭＳ Ｐゴシック"/>
              </a:rPr>
              <a:t>ITU-T Rec. P.910 (2008), e.g. </a:t>
            </a:r>
            <a:endParaRPr b="0" lang="en-US" sz="2000" spc="-1" strike="noStrike">
              <a:solidFill>
                <a:srgbClr val="5c5c5c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b5ba2"/>
                </a:solidFill>
                <a:latin typeface="Arial"/>
                <a:ea typeface="ＭＳ Ｐゴシック"/>
              </a:rPr>
              <a:t>ACR (Absolute Category Rating)</a:t>
            </a:r>
            <a:endParaRPr b="0" lang="en-US" sz="1800" spc="-1" strike="noStrike">
              <a:solidFill>
                <a:srgbClr val="5c5c5c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b5ba2"/>
                </a:solidFill>
                <a:latin typeface="Arial"/>
                <a:ea typeface="ＭＳ Ｐゴシック"/>
              </a:rPr>
              <a:t>ACR-HRR (ACR with Hidden Reference Removal)</a:t>
            </a:r>
            <a:endParaRPr b="0" lang="en-US" sz="1800" spc="-1" strike="noStrike">
              <a:solidFill>
                <a:srgbClr val="5c5c5c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b5ba2"/>
                </a:solidFill>
                <a:latin typeface="Arial"/>
                <a:ea typeface="ＭＳ Ｐゴシック"/>
              </a:rPr>
              <a:t>DCR (Degradation Category Rating)</a:t>
            </a:r>
            <a:endParaRPr b="0" lang="en-US" sz="1800" spc="-1" strike="noStrike">
              <a:solidFill>
                <a:srgbClr val="5c5c5c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c5c5c"/>
                </a:solidFill>
                <a:latin typeface="Arial"/>
                <a:ea typeface="ＭＳ Ｐゴシック"/>
              </a:rPr>
              <a:t>ITU-R Rec. BT.500-11 (2002), e.g.</a:t>
            </a:r>
            <a:endParaRPr b="0" lang="en-US" sz="2000" spc="-1" strike="noStrike">
              <a:solidFill>
                <a:srgbClr val="5c5c5c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c5c5c"/>
                </a:solidFill>
                <a:latin typeface="Arial"/>
                <a:ea typeface="ＭＳ Ｐゴシック"/>
              </a:rPr>
              <a:t>DSCQS (Double stimulus continuous quality scale method)</a:t>
            </a:r>
            <a:endParaRPr b="0" lang="en-US" sz="1800" spc="-1" strike="noStrike">
              <a:solidFill>
                <a:srgbClr val="5c5c5c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c5c5c"/>
                </a:solidFill>
                <a:latin typeface="Arial"/>
                <a:ea typeface="ＭＳ Ｐゴシック"/>
              </a:rPr>
              <a:t>DSIS (Double stimulus impairment scale)</a:t>
            </a:r>
            <a:endParaRPr b="0" lang="en-US" sz="1800" spc="-1" strike="noStrike">
              <a:solidFill>
                <a:srgbClr val="5c5c5c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c5c5c"/>
                </a:solidFill>
                <a:latin typeface="Arial"/>
                <a:ea typeface="ＭＳ Ｐゴシック"/>
              </a:rPr>
              <a:t>ITU-R Rec. BT.710-4 (1998), e.g.</a:t>
            </a:r>
            <a:endParaRPr b="0" lang="en-US" sz="2000" spc="-1" strike="noStrike">
              <a:solidFill>
                <a:srgbClr val="5c5c5c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c5c5c"/>
                </a:solidFill>
                <a:latin typeface="Arial"/>
                <a:ea typeface="ＭＳ Ｐゴシック"/>
              </a:rPr>
              <a:t>Specific methods for high-definition television assessment</a:t>
            </a:r>
            <a:endParaRPr b="0" lang="en-US" sz="1800" spc="-1" strike="noStrike">
              <a:solidFill>
                <a:srgbClr val="5c5c5c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c5c5c"/>
                </a:solidFill>
                <a:latin typeface="Arial"/>
                <a:ea typeface="ＭＳ Ｐゴシック"/>
              </a:rPr>
              <a:t>Audiovisual quality testing</a:t>
            </a:r>
            <a:endParaRPr b="0" lang="en-US" sz="2000" spc="-1" strike="noStrike">
              <a:solidFill>
                <a:srgbClr val="5c5c5c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b5ba2"/>
                </a:solidFill>
                <a:latin typeface="Arial"/>
                <a:ea typeface="ＭＳ Ｐゴシック"/>
              </a:rPr>
              <a:t>ITU-T Rec. P.911 (1998), e.g.</a:t>
            </a:r>
            <a:endParaRPr b="0" lang="en-US" sz="2000" spc="-1" strike="noStrike">
              <a:solidFill>
                <a:srgbClr val="5c5c5c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b5ba2"/>
                </a:solidFill>
                <a:latin typeface="Arial"/>
                <a:ea typeface="ＭＳ Ｐゴシック"/>
              </a:rPr>
              <a:t>SSCQE (Single Stimulus Continuous Quality Evaluation) </a:t>
            </a:r>
            <a:endParaRPr b="0" lang="en-US" sz="1800" spc="-1" strike="noStrike">
              <a:solidFill>
                <a:srgbClr val="5c5c5c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c5c5c"/>
                </a:solidFill>
                <a:latin typeface="Arial"/>
                <a:ea typeface="ＭＳ Ｐゴシック"/>
              </a:rPr>
              <a:t>Interactive systems</a:t>
            </a:r>
            <a:endParaRPr b="0" lang="en-US" sz="2000" spc="-1" strike="noStrike">
              <a:solidFill>
                <a:srgbClr val="5c5c5c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b5ba2"/>
                </a:solidFill>
                <a:latin typeface="Arial"/>
                <a:ea typeface="ＭＳ Ｐゴシック"/>
              </a:rPr>
              <a:t>ITU-T Rec. P.920 (2000)</a:t>
            </a:r>
            <a:endParaRPr b="0" lang="en-US" sz="2000" spc="-1" strike="noStrike">
              <a:solidFill>
                <a:srgbClr val="5c5c5c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b5ba2"/>
                </a:solidFill>
                <a:latin typeface="Arial"/>
                <a:ea typeface="ＭＳ Ｐゴシック"/>
              </a:rPr>
              <a:t>incl. conversation scenarios</a:t>
            </a:r>
            <a:endParaRPr b="0" lang="en-US" sz="1800" spc="-1" strike="noStrike">
              <a:solidFill>
                <a:srgbClr val="5c5c5c"/>
              </a:solidFill>
              <a:latin typeface="Verdan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1"/>
          <p:cNvSpPr/>
          <p:nvPr/>
        </p:nvSpPr>
        <p:spPr>
          <a:xfrm>
            <a:off x="8547480" y="6404040"/>
            <a:ext cx="799560" cy="26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DC2D-F709-47FF-8370-2A993BDC4736}" type="slidenum">
              <a:rPr b="0" lang="en-US" sz="1000" spc="-1" strike="noStrike">
                <a:solidFill>
                  <a:srgbClr val="0e438a"/>
                </a:solidFill>
                <a:latin typeface="Zurich BT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428760" y="1643040"/>
            <a:ext cx="850104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Overview Video-related standardization </a:t>
            </a:r>
            <a:br>
              <a:rPr sz="2400"/>
            </a:b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in ITU-T &amp; ITU-R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Overview active bodies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ITU-T SG9 &amp; 12 – Video-related questions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asks Q.13/12 &amp; Q.14/12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Subjective quality assessment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b5ba2"/>
                </a:solidFill>
                <a:latin typeface="Arial"/>
              </a:rPr>
              <a:t>Instrumental quality assessment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b5ba2"/>
                </a:solidFill>
                <a:latin typeface="Arial"/>
              </a:rPr>
              <a:t>Overview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P.NAMS/P.NBAMS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343080" y="306360"/>
            <a:ext cx="8559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5ba2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646464"/>
              </a:solidFill>
              <a:latin typeface="Verdan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42720" y="306360"/>
            <a:ext cx="85597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5ba2"/>
                </a:solidFill>
                <a:latin typeface="Verdana"/>
              </a:rPr>
              <a:t>Instrumental quality assessment</a:t>
            </a:r>
            <a:br>
              <a:rPr sz="2800"/>
            </a:br>
            <a:endParaRPr b="1" lang="en-US" sz="2800" spc="-1" strike="noStrike">
              <a:solidFill>
                <a:srgbClr val="1b5ba2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2174760" y="1486080"/>
            <a:ext cx="5361120" cy="11430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7f7f7f"/>
              </a:gs>
            </a:gsLst>
            <a:lin ang="5400000"/>
          </a:gradFill>
          <a:ln w="9360">
            <a:solidFill>
              <a:srgbClr val="a3a3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44" name="AutoShape 42"/>
          <p:cNvSpPr/>
          <p:nvPr/>
        </p:nvSpPr>
        <p:spPr>
          <a:xfrm>
            <a:off x="3166920" y="1652760"/>
            <a:ext cx="792360" cy="572760"/>
          </a:xfrm>
          <a:prstGeom prst="can">
            <a:avLst>
              <a:gd name="adj" fmla="val 34023"/>
            </a:avLst>
          </a:prstGeom>
          <a:gradFill rotWithShape="0">
            <a:gsLst>
              <a:gs pos="0">
                <a:srgbClr val="a1c1db"/>
              </a:gs>
              <a:gs pos="100000">
                <a:srgbClr val="264660"/>
              </a:gs>
            </a:gsLst>
            <a:lin ang="0"/>
          </a:gradFill>
          <a:ln w="9360">
            <a:solidFill>
              <a:srgbClr val="264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45" name="AutoShape 42"/>
          <p:cNvSpPr/>
          <p:nvPr/>
        </p:nvSpPr>
        <p:spPr>
          <a:xfrm>
            <a:off x="4040280" y="1652760"/>
            <a:ext cx="792000" cy="572760"/>
          </a:xfrm>
          <a:prstGeom prst="can">
            <a:avLst>
              <a:gd name="adj" fmla="val 34023"/>
            </a:avLst>
          </a:prstGeom>
          <a:gradFill rotWithShape="0">
            <a:gsLst>
              <a:gs pos="0">
                <a:srgbClr val="a1c1db"/>
              </a:gs>
              <a:gs pos="100000">
                <a:srgbClr val="264660"/>
              </a:gs>
            </a:gsLst>
            <a:lin ang="0"/>
          </a:gradFill>
          <a:ln w="9360">
            <a:solidFill>
              <a:srgbClr val="264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46" name="AutoShape 42"/>
          <p:cNvSpPr/>
          <p:nvPr/>
        </p:nvSpPr>
        <p:spPr>
          <a:xfrm>
            <a:off x="5573880" y="1652760"/>
            <a:ext cx="792000" cy="572760"/>
          </a:xfrm>
          <a:prstGeom prst="can">
            <a:avLst>
              <a:gd name="adj" fmla="val 34023"/>
            </a:avLst>
          </a:prstGeom>
          <a:gradFill rotWithShape="0">
            <a:gsLst>
              <a:gs pos="0">
                <a:srgbClr val="a1c1db"/>
              </a:gs>
              <a:gs pos="100000">
                <a:srgbClr val="264660"/>
              </a:gs>
            </a:gsLst>
            <a:lin ang="0"/>
          </a:gradFill>
          <a:ln w="9360">
            <a:solidFill>
              <a:srgbClr val="264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47" name="AutoShape 42"/>
          <p:cNvSpPr/>
          <p:nvPr/>
        </p:nvSpPr>
        <p:spPr>
          <a:xfrm>
            <a:off x="6610320" y="1652760"/>
            <a:ext cx="792360" cy="572760"/>
          </a:xfrm>
          <a:prstGeom prst="can">
            <a:avLst>
              <a:gd name="adj" fmla="val 34023"/>
            </a:avLst>
          </a:prstGeom>
          <a:gradFill rotWithShape="0">
            <a:gsLst>
              <a:gs pos="0">
                <a:srgbClr val="a1c1db"/>
              </a:gs>
              <a:gs pos="100000">
                <a:srgbClr val="264660"/>
              </a:gs>
            </a:gsLst>
            <a:lin ang="0"/>
          </a:gradFill>
          <a:ln w="9360">
            <a:solidFill>
              <a:srgbClr val="264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48" name="AutoShape 42"/>
          <p:cNvSpPr/>
          <p:nvPr/>
        </p:nvSpPr>
        <p:spPr>
          <a:xfrm>
            <a:off x="2295360" y="1652760"/>
            <a:ext cx="792360" cy="572760"/>
          </a:xfrm>
          <a:prstGeom prst="can">
            <a:avLst>
              <a:gd name="adj" fmla="val 34023"/>
            </a:avLst>
          </a:prstGeom>
          <a:gradFill rotWithShape="0">
            <a:gsLst>
              <a:gs pos="0">
                <a:srgbClr val="a1c1db"/>
              </a:gs>
              <a:gs pos="100000">
                <a:srgbClr val="264660"/>
              </a:gs>
            </a:gsLst>
            <a:lin ang="0"/>
          </a:gradFill>
          <a:ln w="9360">
            <a:solidFill>
              <a:srgbClr val="264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193920" y="3379680"/>
            <a:ext cx="1202040" cy="1179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0000" y="3289320"/>
            <a:ext cx="1123920" cy="12175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152800" y="2382840"/>
            <a:ext cx="519732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5981760" y="3646440"/>
            <a:ext cx="140328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5c5c5c"/>
                </a:solidFill>
                <a:latin typeface="Arial"/>
                <a:ea typeface="Times New Roman"/>
              </a:rPr>
              <a:t>Subjective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5c5c5c"/>
                </a:solidFill>
                <a:latin typeface="Arial"/>
                <a:ea typeface="Times New Roman"/>
              </a:rPr>
              <a:t>quality-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5c5c5c"/>
                </a:solidFill>
                <a:latin typeface="Arial"/>
                <a:ea typeface="Times New Roman"/>
              </a:rPr>
              <a:t>rating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5245200" y="3987720"/>
            <a:ext cx="414360" cy="0"/>
          </a:xfrm>
          <a:prstGeom prst="line">
            <a:avLst/>
          </a:prstGeom>
          <a:ln w="31680">
            <a:solidFill>
              <a:srgbClr val="1b5ba2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54" name=""/>
          <p:cNvSpPr/>
          <p:nvPr/>
        </p:nvSpPr>
        <p:spPr>
          <a:xfrm>
            <a:off x="1822320" y="3392640"/>
            <a:ext cx="507960" cy="458640"/>
          </a:xfrm>
          <a:custGeom>
            <a:avLst/>
            <a:gdLst/>
            <a:ahLst/>
            <a:rect l="l" t="t" r="r" b="b"/>
            <a:pathLst>
              <a:path w="5101" h="3028">
                <a:moveTo>
                  <a:pt x="0" y="1466"/>
                </a:moveTo>
                <a:cubicBezTo>
                  <a:pt x="38" y="1346"/>
                  <a:pt x="13" y="1215"/>
                  <a:pt x="51" y="1095"/>
                </a:cubicBezTo>
                <a:cubicBezTo>
                  <a:pt x="64" y="997"/>
                  <a:pt x="91" y="896"/>
                  <a:pt x="115" y="800"/>
                </a:cubicBezTo>
                <a:cubicBezTo>
                  <a:pt x="117" y="792"/>
                  <a:pt x="120" y="783"/>
                  <a:pt x="122" y="775"/>
                </a:cubicBezTo>
                <a:cubicBezTo>
                  <a:pt x="126" y="758"/>
                  <a:pt x="130" y="741"/>
                  <a:pt x="134" y="724"/>
                </a:cubicBezTo>
                <a:cubicBezTo>
                  <a:pt x="140" y="700"/>
                  <a:pt x="154" y="653"/>
                  <a:pt x="154" y="653"/>
                </a:cubicBezTo>
                <a:cubicBezTo>
                  <a:pt x="167" y="558"/>
                  <a:pt x="201" y="463"/>
                  <a:pt x="230" y="372"/>
                </a:cubicBezTo>
                <a:cubicBezTo>
                  <a:pt x="232" y="357"/>
                  <a:pt x="232" y="341"/>
                  <a:pt x="237" y="327"/>
                </a:cubicBezTo>
                <a:cubicBezTo>
                  <a:pt x="239" y="320"/>
                  <a:pt x="247" y="315"/>
                  <a:pt x="250" y="308"/>
                </a:cubicBezTo>
                <a:cubicBezTo>
                  <a:pt x="281" y="229"/>
                  <a:pt x="291" y="153"/>
                  <a:pt x="346" y="84"/>
                </a:cubicBezTo>
                <a:cubicBezTo>
                  <a:pt x="358" y="45"/>
                  <a:pt x="384" y="14"/>
                  <a:pt x="422" y="0"/>
                </a:cubicBezTo>
                <a:cubicBezTo>
                  <a:pt x="432" y="15"/>
                  <a:pt x="446" y="29"/>
                  <a:pt x="454" y="45"/>
                </a:cubicBezTo>
                <a:cubicBezTo>
                  <a:pt x="473" y="82"/>
                  <a:pt x="482" y="117"/>
                  <a:pt x="506" y="154"/>
                </a:cubicBezTo>
                <a:cubicBezTo>
                  <a:pt x="526" y="185"/>
                  <a:pt x="555" y="223"/>
                  <a:pt x="570" y="256"/>
                </a:cubicBezTo>
                <a:cubicBezTo>
                  <a:pt x="587" y="292"/>
                  <a:pt x="597" y="329"/>
                  <a:pt x="614" y="365"/>
                </a:cubicBezTo>
                <a:cubicBezTo>
                  <a:pt x="639" y="523"/>
                  <a:pt x="644" y="686"/>
                  <a:pt x="659" y="845"/>
                </a:cubicBezTo>
                <a:cubicBezTo>
                  <a:pt x="665" y="1212"/>
                  <a:pt x="657" y="1579"/>
                  <a:pt x="666" y="1946"/>
                </a:cubicBezTo>
                <a:cubicBezTo>
                  <a:pt x="670" y="2113"/>
                  <a:pt x="675" y="2268"/>
                  <a:pt x="685" y="2432"/>
                </a:cubicBezTo>
                <a:cubicBezTo>
                  <a:pt x="691" y="2533"/>
                  <a:pt x="683" y="2642"/>
                  <a:pt x="717" y="2740"/>
                </a:cubicBezTo>
                <a:cubicBezTo>
                  <a:pt x="723" y="2782"/>
                  <a:pt x="723" y="2841"/>
                  <a:pt x="742" y="2880"/>
                </a:cubicBezTo>
                <a:cubicBezTo>
                  <a:pt x="753" y="2902"/>
                  <a:pt x="764" y="2921"/>
                  <a:pt x="774" y="2944"/>
                </a:cubicBezTo>
                <a:cubicBezTo>
                  <a:pt x="791" y="2984"/>
                  <a:pt x="795" y="3012"/>
                  <a:pt x="838" y="3028"/>
                </a:cubicBezTo>
                <a:cubicBezTo>
                  <a:pt x="909" y="3012"/>
                  <a:pt x="919" y="3007"/>
                  <a:pt x="960" y="2944"/>
                </a:cubicBezTo>
                <a:cubicBezTo>
                  <a:pt x="968" y="2919"/>
                  <a:pt x="974" y="2897"/>
                  <a:pt x="986" y="2874"/>
                </a:cubicBezTo>
                <a:cubicBezTo>
                  <a:pt x="995" y="2795"/>
                  <a:pt x="1025" y="2700"/>
                  <a:pt x="1050" y="2624"/>
                </a:cubicBezTo>
                <a:cubicBezTo>
                  <a:pt x="1064" y="2583"/>
                  <a:pt x="1062" y="2542"/>
                  <a:pt x="1082" y="2503"/>
                </a:cubicBezTo>
                <a:cubicBezTo>
                  <a:pt x="1098" y="2417"/>
                  <a:pt x="1117" y="2333"/>
                  <a:pt x="1133" y="2247"/>
                </a:cubicBezTo>
                <a:cubicBezTo>
                  <a:pt x="1137" y="1971"/>
                  <a:pt x="1152" y="1712"/>
                  <a:pt x="1171" y="1440"/>
                </a:cubicBezTo>
                <a:cubicBezTo>
                  <a:pt x="1168" y="1289"/>
                  <a:pt x="1163" y="1177"/>
                  <a:pt x="1152" y="1037"/>
                </a:cubicBezTo>
                <a:cubicBezTo>
                  <a:pt x="1158" y="917"/>
                  <a:pt x="1166" y="782"/>
                  <a:pt x="1203" y="666"/>
                </a:cubicBezTo>
                <a:cubicBezTo>
                  <a:pt x="1231" y="668"/>
                  <a:pt x="1260" y="663"/>
                  <a:pt x="1286" y="672"/>
                </a:cubicBezTo>
                <a:cubicBezTo>
                  <a:pt x="1295" y="675"/>
                  <a:pt x="1293" y="691"/>
                  <a:pt x="1299" y="698"/>
                </a:cubicBezTo>
                <a:cubicBezTo>
                  <a:pt x="1375" y="786"/>
                  <a:pt x="1287" y="662"/>
                  <a:pt x="1338" y="736"/>
                </a:cubicBezTo>
                <a:cubicBezTo>
                  <a:pt x="1348" y="770"/>
                  <a:pt x="1410" y="861"/>
                  <a:pt x="1434" y="896"/>
                </a:cubicBezTo>
                <a:cubicBezTo>
                  <a:pt x="1446" y="937"/>
                  <a:pt x="1455" y="970"/>
                  <a:pt x="1472" y="1012"/>
                </a:cubicBezTo>
                <a:cubicBezTo>
                  <a:pt x="1476" y="1023"/>
                  <a:pt x="1485" y="1044"/>
                  <a:pt x="1485" y="1044"/>
                </a:cubicBezTo>
                <a:cubicBezTo>
                  <a:pt x="1500" y="1123"/>
                  <a:pt x="1513" y="1202"/>
                  <a:pt x="1530" y="1280"/>
                </a:cubicBezTo>
                <a:cubicBezTo>
                  <a:pt x="1532" y="1408"/>
                  <a:pt x="1532" y="1536"/>
                  <a:pt x="1536" y="1664"/>
                </a:cubicBezTo>
                <a:cubicBezTo>
                  <a:pt x="1537" y="1709"/>
                  <a:pt x="1585" y="1739"/>
                  <a:pt x="1613" y="1767"/>
                </a:cubicBezTo>
                <a:cubicBezTo>
                  <a:pt x="1629" y="1783"/>
                  <a:pt x="1664" y="1812"/>
                  <a:pt x="1664" y="1812"/>
                </a:cubicBezTo>
                <a:cubicBezTo>
                  <a:pt x="1741" y="1759"/>
                  <a:pt x="1794" y="1612"/>
                  <a:pt x="1824" y="1524"/>
                </a:cubicBezTo>
                <a:cubicBezTo>
                  <a:pt x="1834" y="1459"/>
                  <a:pt x="1861" y="1400"/>
                  <a:pt x="1882" y="1338"/>
                </a:cubicBezTo>
                <a:cubicBezTo>
                  <a:pt x="1900" y="1284"/>
                  <a:pt x="1903" y="1225"/>
                  <a:pt x="1926" y="1172"/>
                </a:cubicBezTo>
                <a:cubicBezTo>
                  <a:pt x="1944" y="1130"/>
                  <a:pt x="1952" y="1075"/>
                  <a:pt x="1971" y="1037"/>
                </a:cubicBezTo>
                <a:cubicBezTo>
                  <a:pt x="1978" y="1023"/>
                  <a:pt x="1997" y="999"/>
                  <a:pt x="1997" y="999"/>
                </a:cubicBezTo>
                <a:cubicBezTo>
                  <a:pt x="2013" y="931"/>
                  <a:pt x="2068" y="863"/>
                  <a:pt x="2118" y="813"/>
                </a:cubicBezTo>
                <a:cubicBezTo>
                  <a:pt x="2150" y="829"/>
                  <a:pt x="2187" y="849"/>
                  <a:pt x="2202" y="884"/>
                </a:cubicBezTo>
                <a:cubicBezTo>
                  <a:pt x="2212" y="907"/>
                  <a:pt x="2219" y="931"/>
                  <a:pt x="2227" y="954"/>
                </a:cubicBezTo>
                <a:cubicBezTo>
                  <a:pt x="2229" y="960"/>
                  <a:pt x="2234" y="973"/>
                  <a:pt x="2234" y="973"/>
                </a:cubicBezTo>
                <a:cubicBezTo>
                  <a:pt x="2238" y="1018"/>
                  <a:pt x="2242" y="1063"/>
                  <a:pt x="2246" y="1108"/>
                </a:cubicBezTo>
                <a:cubicBezTo>
                  <a:pt x="2253" y="1186"/>
                  <a:pt x="2250" y="1265"/>
                  <a:pt x="2253" y="1344"/>
                </a:cubicBezTo>
                <a:cubicBezTo>
                  <a:pt x="2254" y="1370"/>
                  <a:pt x="2257" y="1395"/>
                  <a:pt x="2259" y="1421"/>
                </a:cubicBezTo>
                <a:cubicBezTo>
                  <a:pt x="2268" y="1529"/>
                  <a:pt x="2279" y="1748"/>
                  <a:pt x="2381" y="1818"/>
                </a:cubicBezTo>
                <a:cubicBezTo>
                  <a:pt x="2402" y="1797"/>
                  <a:pt x="2425" y="1782"/>
                  <a:pt x="2445" y="1760"/>
                </a:cubicBezTo>
                <a:cubicBezTo>
                  <a:pt x="2489" y="1710"/>
                  <a:pt x="2506" y="1649"/>
                  <a:pt x="2541" y="1594"/>
                </a:cubicBezTo>
                <a:cubicBezTo>
                  <a:pt x="2581" y="1531"/>
                  <a:pt x="2604" y="1468"/>
                  <a:pt x="2637" y="1402"/>
                </a:cubicBezTo>
                <a:cubicBezTo>
                  <a:pt x="2645" y="1366"/>
                  <a:pt x="2662" y="1320"/>
                  <a:pt x="2694" y="1300"/>
                </a:cubicBezTo>
                <a:cubicBezTo>
                  <a:pt x="2730" y="1228"/>
                  <a:pt x="2682" y="1316"/>
                  <a:pt x="2726" y="1255"/>
                </a:cubicBezTo>
                <a:cubicBezTo>
                  <a:pt x="2758" y="1211"/>
                  <a:pt x="2775" y="1178"/>
                  <a:pt x="2822" y="1146"/>
                </a:cubicBezTo>
                <a:cubicBezTo>
                  <a:pt x="2831" y="1140"/>
                  <a:pt x="2834" y="1127"/>
                  <a:pt x="2842" y="1120"/>
                </a:cubicBezTo>
                <a:cubicBezTo>
                  <a:pt x="2849" y="1114"/>
                  <a:pt x="2859" y="1112"/>
                  <a:pt x="2867" y="1108"/>
                </a:cubicBezTo>
                <a:cubicBezTo>
                  <a:pt x="2905" y="1117"/>
                  <a:pt x="2901" y="1115"/>
                  <a:pt x="2918" y="1146"/>
                </a:cubicBezTo>
                <a:cubicBezTo>
                  <a:pt x="2928" y="1164"/>
                  <a:pt x="2939" y="1180"/>
                  <a:pt x="2950" y="1197"/>
                </a:cubicBezTo>
                <a:cubicBezTo>
                  <a:pt x="2954" y="1203"/>
                  <a:pt x="2963" y="1216"/>
                  <a:pt x="2963" y="1216"/>
                </a:cubicBezTo>
                <a:cubicBezTo>
                  <a:pt x="2981" y="1282"/>
                  <a:pt x="2993" y="1349"/>
                  <a:pt x="3008" y="1415"/>
                </a:cubicBezTo>
                <a:cubicBezTo>
                  <a:pt x="3014" y="1473"/>
                  <a:pt x="3023" y="1528"/>
                  <a:pt x="3046" y="1581"/>
                </a:cubicBezTo>
                <a:cubicBezTo>
                  <a:pt x="3064" y="1623"/>
                  <a:pt x="3036" y="1575"/>
                  <a:pt x="3078" y="1639"/>
                </a:cubicBezTo>
                <a:cubicBezTo>
                  <a:pt x="3082" y="1645"/>
                  <a:pt x="3091" y="1658"/>
                  <a:pt x="3091" y="1658"/>
                </a:cubicBezTo>
                <a:cubicBezTo>
                  <a:pt x="3139" y="1647"/>
                  <a:pt x="3168" y="1603"/>
                  <a:pt x="3200" y="1568"/>
                </a:cubicBezTo>
                <a:cubicBezTo>
                  <a:pt x="3230" y="1535"/>
                  <a:pt x="3264" y="1504"/>
                  <a:pt x="3296" y="1472"/>
                </a:cubicBezTo>
                <a:cubicBezTo>
                  <a:pt x="3313" y="1455"/>
                  <a:pt x="3337" y="1445"/>
                  <a:pt x="3354" y="1428"/>
                </a:cubicBezTo>
                <a:cubicBezTo>
                  <a:pt x="3405" y="1377"/>
                  <a:pt x="3444" y="1324"/>
                  <a:pt x="3501" y="1280"/>
                </a:cubicBezTo>
                <a:cubicBezTo>
                  <a:pt x="3592" y="1300"/>
                  <a:pt x="3568" y="1400"/>
                  <a:pt x="3667" y="1428"/>
                </a:cubicBezTo>
                <a:cubicBezTo>
                  <a:pt x="3693" y="1426"/>
                  <a:pt x="3718" y="1424"/>
                  <a:pt x="3744" y="1421"/>
                </a:cubicBezTo>
                <a:cubicBezTo>
                  <a:pt x="3788" y="1415"/>
                  <a:pt x="3831" y="1393"/>
                  <a:pt x="3872" y="1376"/>
                </a:cubicBezTo>
                <a:cubicBezTo>
                  <a:pt x="3904" y="1362"/>
                  <a:pt x="3947" y="1356"/>
                  <a:pt x="3981" y="1351"/>
                </a:cubicBezTo>
                <a:cubicBezTo>
                  <a:pt x="4108" y="1355"/>
                  <a:pt x="4161" y="1341"/>
                  <a:pt x="4256" y="1389"/>
                </a:cubicBezTo>
                <a:cubicBezTo>
                  <a:pt x="4294" y="1441"/>
                  <a:pt x="4253" y="1390"/>
                  <a:pt x="4307" y="1440"/>
                </a:cubicBezTo>
                <a:cubicBezTo>
                  <a:pt x="4325" y="1457"/>
                  <a:pt x="4341" y="1475"/>
                  <a:pt x="4358" y="1492"/>
                </a:cubicBezTo>
                <a:cubicBezTo>
                  <a:pt x="4361" y="1495"/>
                  <a:pt x="4415" y="1517"/>
                  <a:pt x="4416" y="1517"/>
                </a:cubicBezTo>
                <a:cubicBezTo>
                  <a:pt x="4479" y="1549"/>
                  <a:pt x="4529" y="1550"/>
                  <a:pt x="4602" y="1556"/>
                </a:cubicBezTo>
                <a:cubicBezTo>
                  <a:pt x="4696" y="1552"/>
                  <a:pt x="4763" y="1542"/>
                  <a:pt x="4851" y="1530"/>
                </a:cubicBezTo>
                <a:cubicBezTo>
                  <a:pt x="4873" y="1523"/>
                  <a:pt x="4893" y="1512"/>
                  <a:pt x="4915" y="1504"/>
                </a:cubicBezTo>
                <a:cubicBezTo>
                  <a:pt x="4953" y="1506"/>
                  <a:pt x="4992" y="1507"/>
                  <a:pt x="5030" y="1511"/>
                </a:cubicBezTo>
                <a:cubicBezTo>
                  <a:pt x="5054" y="1514"/>
                  <a:pt x="5101" y="1524"/>
                  <a:pt x="5101" y="1524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55" name=""/>
          <p:cNvSpPr/>
          <p:nvPr/>
        </p:nvSpPr>
        <p:spPr>
          <a:xfrm>
            <a:off x="2293920" y="3706920"/>
            <a:ext cx="1482840" cy="520560"/>
          </a:xfrm>
          <a:prstGeom prst="rect">
            <a:avLst/>
          </a:prstGeom>
          <a:gradFill rotWithShape="0">
            <a:gsLst>
              <a:gs pos="0">
                <a:srgbClr val="a1c1db"/>
              </a:gs>
              <a:gs pos="100000">
                <a:srgbClr val="264660"/>
              </a:gs>
            </a:gsLst>
            <a:lin ang="5400000"/>
          </a:gradFill>
          <a:ln w="9360">
            <a:solidFill>
              <a:srgbClr val="264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Transmission-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System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4192560" y="3987720"/>
            <a:ext cx="276120" cy="0"/>
          </a:xfrm>
          <a:prstGeom prst="line">
            <a:avLst/>
          </a:prstGeom>
          <a:ln w="31680">
            <a:solidFill>
              <a:srgbClr val="1b5ba2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>
            <a:off x="1879560" y="3987720"/>
            <a:ext cx="414360" cy="0"/>
          </a:xfrm>
          <a:prstGeom prst="line">
            <a:avLst/>
          </a:prstGeom>
          <a:ln w="31680">
            <a:solidFill>
              <a:srgbClr val="1b5ba2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2414160" y="1841400"/>
            <a:ext cx="55548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ack-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ground</a:t>
            </a:r>
            <a:endParaRPr b="0" lang="en-US" sz="14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3169440" y="1905120"/>
            <a:ext cx="78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Attitude</a:t>
            </a:r>
            <a:endParaRPr b="0" lang="en-US" sz="14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124880" y="1927080"/>
            <a:ext cx="62568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ood</a:t>
            </a:r>
            <a:endParaRPr b="0" lang="en-US" sz="14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5685840" y="1841400"/>
            <a:ext cx="56628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xperi-</a:t>
            </a:r>
            <a:endParaRPr b="0" lang="en-US" sz="1400" spc="-1" strike="noStrike">
              <a:solidFill>
                <a:srgbClr val="646464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nce</a:t>
            </a:r>
            <a:endParaRPr b="0" lang="en-US" sz="14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6556320" y="1795320"/>
            <a:ext cx="9144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otivation,</a:t>
            </a:r>
            <a:endParaRPr b="0" lang="en-US" sz="1400" spc="-1" strike="noStrike">
              <a:solidFill>
                <a:srgbClr val="646464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Goals</a:t>
            </a:r>
            <a:endParaRPr b="0" lang="en-US" sz="14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4370400" y="228744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5c5c5c"/>
                </a:solidFill>
                <a:latin typeface="Arial"/>
                <a:ea typeface="Times New Roman"/>
              </a:rPr>
              <a:t>User-factors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2685960" y="2351160"/>
            <a:ext cx="2040120" cy="973080"/>
          </a:xfrm>
          <a:prstGeom prst="line">
            <a:avLst/>
          </a:prstGeom>
          <a:ln w="25560">
            <a:solidFill>
              <a:srgbClr val="1b5ba2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3570120" y="2359080"/>
            <a:ext cx="1309680" cy="912600"/>
          </a:xfrm>
          <a:prstGeom prst="line">
            <a:avLst/>
          </a:prstGeom>
          <a:ln w="25560">
            <a:solidFill>
              <a:srgbClr val="1b5ba2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343240"/>
            <a:ext cx="932040" cy="917640"/>
          </a:xfrm>
          <a:prstGeom prst="line">
            <a:avLst/>
          </a:prstGeom>
          <a:ln w="25560">
            <a:solidFill>
              <a:srgbClr val="1b5ba2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065560" y="2351160"/>
            <a:ext cx="865440" cy="912600"/>
          </a:xfrm>
          <a:prstGeom prst="line">
            <a:avLst/>
          </a:prstGeom>
          <a:ln w="25560">
            <a:solidFill>
              <a:srgbClr val="1b5ba2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328720" y="2351160"/>
            <a:ext cx="1636920" cy="985680"/>
          </a:xfrm>
          <a:prstGeom prst="line">
            <a:avLst/>
          </a:prstGeom>
          <a:ln w="25560">
            <a:solidFill>
              <a:srgbClr val="1b5ba2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5110200" y="1841400"/>
            <a:ext cx="20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c5c5c"/>
                </a:solidFill>
                <a:latin typeface="Arial"/>
                <a:ea typeface="Times New Roman"/>
              </a:rPr>
              <a:t>…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258840" y="3584520"/>
            <a:ext cx="201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5c5c5c"/>
                </a:solidFill>
                <a:latin typeface="Arial"/>
                <a:ea typeface="Times New Roman"/>
              </a:rPr>
              <a:t>Source video signal</a:t>
            </a:r>
            <a:br>
              <a:rPr sz="1600"/>
            </a:br>
            <a:r>
              <a:rPr b="0" lang="de-DE" sz="1600" spc="-1" strike="noStrike">
                <a:solidFill>
                  <a:srgbClr val="5c5c5c"/>
                </a:solidFill>
                <a:latin typeface="Arial"/>
                <a:ea typeface="Times New Roman"/>
              </a:rPr>
              <a:t>(SRC)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42720" y="306360"/>
            <a:ext cx="85597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5ba2"/>
                </a:solidFill>
                <a:latin typeface="Verdana"/>
              </a:rPr>
              <a:t>Instrumental quality assessment</a:t>
            </a:r>
            <a:br>
              <a:rPr sz="2800"/>
            </a:br>
            <a:r>
              <a:rPr b="1" lang="en-US" sz="2800" spc="-1" strike="noStrike" u="sng">
                <a:solidFill>
                  <a:srgbClr val="1b5ba2"/>
                </a:solidFill>
                <a:uFillTx/>
                <a:latin typeface="Verdana"/>
              </a:rPr>
              <a:t>F</a:t>
            </a:r>
            <a:r>
              <a:rPr b="1" lang="en-US" sz="2800" spc="-1" strike="noStrike">
                <a:solidFill>
                  <a:srgbClr val="1b5ba2"/>
                </a:solidFill>
                <a:latin typeface="Verdana"/>
              </a:rPr>
              <a:t>ull </a:t>
            </a:r>
            <a:r>
              <a:rPr b="1" lang="en-US" sz="2800" spc="-1" strike="noStrike" u="sng">
                <a:solidFill>
                  <a:srgbClr val="1b5ba2"/>
                </a:solidFill>
                <a:uFillTx/>
                <a:latin typeface="Verdana"/>
              </a:rPr>
              <a:t>R</a:t>
            </a:r>
            <a:r>
              <a:rPr b="1" lang="en-US" sz="2800" spc="-1" strike="noStrike">
                <a:solidFill>
                  <a:srgbClr val="1b5ba2"/>
                </a:solidFill>
                <a:latin typeface="Verdana"/>
              </a:rPr>
              <a:t>eference models – FR</a:t>
            </a:r>
            <a:endParaRPr b="1" lang="en-US" sz="2800" spc="-1" strike="noStrike">
              <a:solidFill>
                <a:srgbClr val="1b5ba2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193920" y="3379680"/>
            <a:ext cx="1202040" cy="11797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0000" y="3289320"/>
            <a:ext cx="1123920" cy="12175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152800" y="2382840"/>
            <a:ext cx="519732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014200" y="3968640"/>
            <a:ext cx="4680" cy="1276560"/>
          </a:xfrm>
          <a:prstGeom prst="line">
            <a:avLst/>
          </a:prstGeom>
          <a:ln w="31680">
            <a:solidFill>
              <a:srgbClr val="1b5b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3975120" y="4108320"/>
            <a:ext cx="274680" cy="870120"/>
          </a:xfrm>
          <a:prstGeom prst="line">
            <a:avLst/>
          </a:prstGeom>
          <a:ln w="31680">
            <a:solidFill>
              <a:srgbClr val="1b5ba2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1822320" y="3392640"/>
            <a:ext cx="507960" cy="458640"/>
          </a:xfrm>
          <a:custGeom>
            <a:avLst/>
            <a:gdLst/>
            <a:ahLst/>
            <a:rect l="l" t="t" r="r" b="b"/>
            <a:pathLst>
              <a:path w="5101" h="3028">
                <a:moveTo>
                  <a:pt x="0" y="1466"/>
                </a:moveTo>
                <a:cubicBezTo>
                  <a:pt x="38" y="1346"/>
                  <a:pt x="13" y="1215"/>
                  <a:pt x="51" y="1095"/>
                </a:cubicBezTo>
                <a:cubicBezTo>
                  <a:pt x="64" y="997"/>
                  <a:pt x="91" y="896"/>
                  <a:pt x="115" y="800"/>
                </a:cubicBezTo>
                <a:cubicBezTo>
                  <a:pt x="117" y="792"/>
                  <a:pt x="120" y="783"/>
                  <a:pt x="122" y="775"/>
                </a:cubicBezTo>
                <a:cubicBezTo>
                  <a:pt x="126" y="758"/>
                  <a:pt x="130" y="741"/>
                  <a:pt x="134" y="724"/>
                </a:cubicBezTo>
                <a:cubicBezTo>
                  <a:pt x="140" y="700"/>
                  <a:pt x="154" y="653"/>
                  <a:pt x="154" y="653"/>
                </a:cubicBezTo>
                <a:cubicBezTo>
                  <a:pt x="167" y="558"/>
                  <a:pt x="201" y="463"/>
                  <a:pt x="230" y="372"/>
                </a:cubicBezTo>
                <a:cubicBezTo>
                  <a:pt x="232" y="357"/>
                  <a:pt x="232" y="341"/>
                  <a:pt x="237" y="327"/>
                </a:cubicBezTo>
                <a:cubicBezTo>
                  <a:pt x="239" y="320"/>
                  <a:pt x="247" y="315"/>
                  <a:pt x="250" y="308"/>
                </a:cubicBezTo>
                <a:cubicBezTo>
                  <a:pt x="281" y="229"/>
                  <a:pt x="291" y="153"/>
                  <a:pt x="346" y="84"/>
                </a:cubicBezTo>
                <a:cubicBezTo>
                  <a:pt x="358" y="45"/>
                  <a:pt x="384" y="14"/>
                  <a:pt x="422" y="0"/>
                </a:cubicBezTo>
                <a:cubicBezTo>
                  <a:pt x="432" y="15"/>
                  <a:pt x="446" y="29"/>
                  <a:pt x="454" y="45"/>
                </a:cubicBezTo>
                <a:cubicBezTo>
                  <a:pt x="473" y="82"/>
                  <a:pt x="482" y="117"/>
                  <a:pt x="506" y="154"/>
                </a:cubicBezTo>
                <a:cubicBezTo>
                  <a:pt x="526" y="185"/>
                  <a:pt x="555" y="223"/>
                  <a:pt x="570" y="256"/>
                </a:cubicBezTo>
                <a:cubicBezTo>
                  <a:pt x="587" y="292"/>
                  <a:pt x="597" y="329"/>
                  <a:pt x="614" y="365"/>
                </a:cubicBezTo>
                <a:cubicBezTo>
                  <a:pt x="639" y="523"/>
                  <a:pt x="644" y="686"/>
                  <a:pt x="659" y="845"/>
                </a:cubicBezTo>
                <a:cubicBezTo>
                  <a:pt x="665" y="1212"/>
                  <a:pt x="657" y="1579"/>
                  <a:pt x="666" y="1946"/>
                </a:cubicBezTo>
                <a:cubicBezTo>
                  <a:pt x="670" y="2113"/>
                  <a:pt x="675" y="2268"/>
                  <a:pt x="685" y="2432"/>
                </a:cubicBezTo>
                <a:cubicBezTo>
                  <a:pt x="691" y="2533"/>
                  <a:pt x="683" y="2642"/>
                  <a:pt x="717" y="2740"/>
                </a:cubicBezTo>
                <a:cubicBezTo>
                  <a:pt x="723" y="2782"/>
                  <a:pt x="723" y="2841"/>
                  <a:pt x="742" y="2880"/>
                </a:cubicBezTo>
                <a:cubicBezTo>
                  <a:pt x="753" y="2902"/>
                  <a:pt x="764" y="2921"/>
                  <a:pt x="774" y="2944"/>
                </a:cubicBezTo>
                <a:cubicBezTo>
                  <a:pt x="791" y="2984"/>
                  <a:pt x="795" y="3012"/>
                  <a:pt x="838" y="3028"/>
                </a:cubicBezTo>
                <a:cubicBezTo>
                  <a:pt x="909" y="3012"/>
                  <a:pt x="919" y="3007"/>
                  <a:pt x="960" y="2944"/>
                </a:cubicBezTo>
                <a:cubicBezTo>
                  <a:pt x="968" y="2919"/>
                  <a:pt x="974" y="2897"/>
                  <a:pt x="986" y="2874"/>
                </a:cubicBezTo>
                <a:cubicBezTo>
                  <a:pt x="995" y="2795"/>
                  <a:pt x="1025" y="2700"/>
                  <a:pt x="1050" y="2624"/>
                </a:cubicBezTo>
                <a:cubicBezTo>
                  <a:pt x="1064" y="2583"/>
                  <a:pt x="1062" y="2542"/>
                  <a:pt x="1082" y="2503"/>
                </a:cubicBezTo>
                <a:cubicBezTo>
                  <a:pt x="1098" y="2417"/>
                  <a:pt x="1117" y="2333"/>
                  <a:pt x="1133" y="2247"/>
                </a:cubicBezTo>
                <a:cubicBezTo>
                  <a:pt x="1137" y="1971"/>
                  <a:pt x="1152" y="1712"/>
                  <a:pt x="1171" y="1440"/>
                </a:cubicBezTo>
                <a:cubicBezTo>
                  <a:pt x="1168" y="1289"/>
                  <a:pt x="1163" y="1177"/>
                  <a:pt x="1152" y="1037"/>
                </a:cubicBezTo>
                <a:cubicBezTo>
                  <a:pt x="1158" y="917"/>
                  <a:pt x="1166" y="782"/>
                  <a:pt x="1203" y="666"/>
                </a:cubicBezTo>
                <a:cubicBezTo>
                  <a:pt x="1231" y="668"/>
                  <a:pt x="1260" y="663"/>
                  <a:pt x="1286" y="672"/>
                </a:cubicBezTo>
                <a:cubicBezTo>
                  <a:pt x="1295" y="675"/>
                  <a:pt x="1293" y="691"/>
                  <a:pt x="1299" y="698"/>
                </a:cubicBezTo>
                <a:cubicBezTo>
                  <a:pt x="1375" y="786"/>
                  <a:pt x="1287" y="662"/>
                  <a:pt x="1338" y="736"/>
                </a:cubicBezTo>
                <a:cubicBezTo>
                  <a:pt x="1348" y="770"/>
                  <a:pt x="1410" y="861"/>
                  <a:pt x="1434" y="896"/>
                </a:cubicBezTo>
                <a:cubicBezTo>
                  <a:pt x="1446" y="937"/>
                  <a:pt x="1455" y="970"/>
                  <a:pt x="1472" y="1012"/>
                </a:cubicBezTo>
                <a:cubicBezTo>
                  <a:pt x="1476" y="1023"/>
                  <a:pt x="1485" y="1044"/>
                  <a:pt x="1485" y="1044"/>
                </a:cubicBezTo>
                <a:cubicBezTo>
                  <a:pt x="1500" y="1123"/>
                  <a:pt x="1513" y="1202"/>
                  <a:pt x="1530" y="1280"/>
                </a:cubicBezTo>
                <a:cubicBezTo>
                  <a:pt x="1532" y="1408"/>
                  <a:pt x="1532" y="1536"/>
                  <a:pt x="1536" y="1664"/>
                </a:cubicBezTo>
                <a:cubicBezTo>
                  <a:pt x="1537" y="1709"/>
                  <a:pt x="1585" y="1739"/>
                  <a:pt x="1613" y="1767"/>
                </a:cubicBezTo>
                <a:cubicBezTo>
                  <a:pt x="1629" y="1783"/>
                  <a:pt x="1664" y="1812"/>
                  <a:pt x="1664" y="1812"/>
                </a:cubicBezTo>
                <a:cubicBezTo>
                  <a:pt x="1741" y="1759"/>
                  <a:pt x="1794" y="1612"/>
                  <a:pt x="1824" y="1524"/>
                </a:cubicBezTo>
                <a:cubicBezTo>
                  <a:pt x="1834" y="1459"/>
                  <a:pt x="1861" y="1400"/>
                  <a:pt x="1882" y="1338"/>
                </a:cubicBezTo>
                <a:cubicBezTo>
                  <a:pt x="1900" y="1284"/>
                  <a:pt x="1903" y="1225"/>
                  <a:pt x="1926" y="1172"/>
                </a:cubicBezTo>
                <a:cubicBezTo>
                  <a:pt x="1944" y="1130"/>
                  <a:pt x="1952" y="1075"/>
                  <a:pt x="1971" y="1037"/>
                </a:cubicBezTo>
                <a:cubicBezTo>
                  <a:pt x="1978" y="1023"/>
                  <a:pt x="1997" y="999"/>
                  <a:pt x="1997" y="999"/>
                </a:cubicBezTo>
                <a:cubicBezTo>
                  <a:pt x="2013" y="931"/>
                  <a:pt x="2068" y="863"/>
                  <a:pt x="2118" y="813"/>
                </a:cubicBezTo>
                <a:cubicBezTo>
                  <a:pt x="2150" y="829"/>
                  <a:pt x="2187" y="849"/>
                  <a:pt x="2202" y="884"/>
                </a:cubicBezTo>
                <a:cubicBezTo>
                  <a:pt x="2212" y="907"/>
                  <a:pt x="2219" y="931"/>
                  <a:pt x="2227" y="954"/>
                </a:cubicBezTo>
                <a:cubicBezTo>
                  <a:pt x="2229" y="960"/>
                  <a:pt x="2234" y="973"/>
                  <a:pt x="2234" y="973"/>
                </a:cubicBezTo>
                <a:cubicBezTo>
                  <a:pt x="2238" y="1018"/>
                  <a:pt x="2242" y="1063"/>
                  <a:pt x="2246" y="1108"/>
                </a:cubicBezTo>
                <a:cubicBezTo>
                  <a:pt x="2253" y="1186"/>
                  <a:pt x="2250" y="1265"/>
                  <a:pt x="2253" y="1344"/>
                </a:cubicBezTo>
                <a:cubicBezTo>
                  <a:pt x="2254" y="1370"/>
                  <a:pt x="2257" y="1395"/>
                  <a:pt x="2259" y="1421"/>
                </a:cubicBezTo>
                <a:cubicBezTo>
                  <a:pt x="2268" y="1529"/>
                  <a:pt x="2279" y="1748"/>
                  <a:pt x="2381" y="1818"/>
                </a:cubicBezTo>
                <a:cubicBezTo>
                  <a:pt x="2402" y="1797"/>
                  <a:pt x="2425" y="1782"/>
                  <a:pt x="2445" y="1760"/>
                </a:cubicBezTo>
                <a:cubicBezTo>
                  <a:pt x="2489" y="1710"/>
                  <a:pt x="2506" y="1649"/>
                  <a:pt x="2541" y="1594"/>
                </a:cubicBezTo>
                <a:cubicBezTo>
                  <a:pt x="2581" y="1531"/>
                  <a:pt x="2604" y="1468"/>
                  <a:pt x="2637" y="1402"/>
                </a:cubicBezTo>
                <a:cubicBezTo>
                  <a:pt x="2645" y="1366"/>
                  <a:pt x="2662" y="1320"/>
                  <a:pt x="2694" y="1300"/>
                </a:cubicBezTo>
                <a:cubicBezTo>
                  <a:pt x="2730" y="1228"/>
                  <a:pt x="2682" y="1316"/>
                  <a:pt x="2726" y="1255"/>
                </a:cubicBezTo>
                <a:cubicBezTo>
                  <a:pt x="2758" y="1211"/>
                  <a:pt x="2775" y="1178"/>
                  <a:pt x="2822" y="1146"/>
                </a:cubicBezTo>
                <a:cubicBezTo>
                  <a:pt x="2831" y="1140"/>
                  <a:pt x="2834" y="1127"/>
                  <a:pt x="2842" y="1120"/>
                </a:cubicBezTo>
                <a:cubicBezTo>
                  <a:pt x="2849" y="1114"/>
                  <a:pt x="2859" y="1112"/>
                  <a:pt x="2867" y="1108"/>
                </a:cubicBezTo>
                <a:cubicBezTo>
                  <a:pt x="2905" y="1117"/>
                  <a:pt x="2901" y="1115"/>
                  <a:pt x="2918" y="1146"/>
                </a:cubicBezTo>
                <a:cubicBezTo>
                  <a:pt x="2928" y="1164"/>
                  <a:pt x="2939" y="1180"/>
                  <a:pt x="2950" y="1197"/>
                </a:cubicBezTo>
                <a:cubicBezTo>
                  <a:pt x="2954" y="1203"/>
                  <a:pt x="2963" y="1216"/>
                  <a:pt x="2963" y="1216"/>
                </a:cubicBezTo>
                <a:cubicBezTo>
                  <a:pt x="2981" y="1282"/>
                  <a:pt x="2993" y="1349"/>
                  <a:pt x="3008" y="1415"/>
                </a:cubicBezTo>
                <a:cubicBezTo>
                  <a:pt x="3014" y="1473"/>
                  <a:pt x="3023" y="1528"/>
                  <a:pt x="3046" y="1581"/>
                </a:cubicBezTo>
                <a:cubicBezTo>
                  <a:pt x="3064" y="1623"/>
                  <a:pt x="3036" y="1575"/>
                  <a:pt x="3078" y="1639"/>
                </a:cubicBezTo>
                <a:cubicBezTo>
                  <a:pt x="3082" y="1645"/>
                  <a:pt x="3091" y="1658"/>
                  <a:pt x="3091" y="1658"/>
                </a:cubicBezTo>
                <a:cubicBezTo>
                  <a:pt x="3139" y="1647"/>
                  <a:pt x="3168" y="1603"/>
                  <a:pt x="3200" y="1568"/>
                </a:cubicBezTo>
                <a:cubicBezTo>
                  <a:pt x="3230" y="1535"/>
                  <a:pt x="3264" y="1504"/>
                  <a:pt x="3296" y="1472"/>
                </a:cubicBezTo>
                <a:cubicBezTo>
                  <a:pt x="3313" y="1455"/>
                  <a:pt x="3337" y="1445"/>
                  <a:pt x="3354" y="1428"/>
                </a:cubicBezTo>
                <a:cubicBezTo>
                  <a:pt x="3405" y="1377"/>
                  <a:pt x="3444" y="1324"/>
                  <a:pt x="3501" y="1280"/>
                </a:cubicBezTo>
                <a:cubicBezTo>
                  <a:pt x="3592" y="1300"/>
                  <a:pt x="3568" y="1400"/>
                  <a:pt x="3667" y="1428"/>
                </a:cubicBezTo>
                <a:cubicBezTo>
                  <a:pt x="3693" y="1426"/>
                  <a:pt x="3718" y="1424"/>
                  <a:pt x="3744" y="1421"/>
                </a:cubicBezTo>
                <a:cubicBezTo>
                  <a:pt x="3788" y="1415"/>
                  <a:pt x="3831" y="1393"/>
                  <a:pt x="3872" y="1376"/>
                </a:cubicBezTo>
                <a:cubicBezTo>
                  <a:pt x="3904" y="1362"/>
                  <a:pt x="3947" y="1356"/>
                  <a:pt x="3981" y="1351"/>
                </a:cubicBezTo>
                <a:cubicBezTo>
                  <a:pt x="4108" y="1355"/>
                  <a:pt x="4161" y="1341"/>
                  <a:pt x="4256" y="1389"/>
                </a:cubicBezTo>
                <a:cubicBezTo>
                  <a:pt x="4294" y="1441"/>
                  <a:pt x="4253" y="1390"/>
                  <a:pt x="4307" y="1440"/>
                </a:cubicBezTo>
                <a:cubicBezTo>
                  <a:pt x="4325" y="1457"/>
                  <a:pt x="4341" y="1475"/>
                  <a:pt x="4358" y="1492"/>
                </a:cubicBezTo>
                <a:cubicBezTo>
                  <a:pt x="4361" y="1495"/>
                  <a:pt x="4415" y="1517"/>
                  <a:pt x="4416" y="1517"/>
                </a:cubicBezTo>
                <a:cubicBezTo>
                  <a:pt x="4479" y="1549"/>
                  <a:pt x="4529" y="1550"/>
                  <a:pt x="4602" y="1556"/>
                </a:cubicBezTo>
                <a:cubicBezTo>
                  <a:pt x="4696" y="1552"/>
                  <a:pt x="4763" y="1542"/>
                  <a:pt x="4851" y="1530"/>
                </a:cubicBezTo>
                <a:cubicBezTo>
                  <a:pt x="4873" y="1523"/>
                  <a:pt x="4893" y="1512"/>
                  <a:pt x="4915" y="1504"/>
                </a:cubicBezTo>
                <a:cubicBezTo>
                  <a:pt x="4953" y="1506"/>
                  <a:pt x="4992" y="1507"/>
                  <a:pt x="5030" y="1511"/>
                </a:cubicBezTo>
                <a:cubicBezTo>
                  <a:pt x="5054" y="1514"/>
                  <a:pt x="5101" y="1524"/>
                  <a:pt x="5101" y="1524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2293920" y="3706920"/>
            <a:ext cx="1482840" cy="520560"/>
          </a:xfrm>
          <a:prstGeom prst="rect">
            <a:avLst/>
          </a:prstGeom>
          <a:gradFill rotWithShape="0">
            <a:gsLst>
              <a:gs pos="0">
                <a:srgbClr val="a1c1db"/>
              </a:gs>
              <a:gs pos="100000">
                <a:srgbClr val="264660"/>
              </a:gs>
            </a:gsLst>
            <a:lin ang="5400000"/>
          </a:gradFill>
          <a:ln w="9360">
            <a:solidFill>
              <a:srgbClr val="264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Transmission-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System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4192560" y="3987720"/>
            <a:ext cx="276120" cy="0"/>
          </a:xfrm>
          <a:prstGeom prst="line">
            <a:avLst/>
          </a:prstGeom>
          <a:ln w="31680">
            <a:solidFill>
              <a:srgbClr val="1b5ba2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1879560" y="3987720"/>
            <a:ext cx="414360" cy="0"/>
          </a:xfrm>
          <a:prstGeom prst="line">
            <a:avLst/>
          </a:prstGeom>
          <a:ln w="31680">
            <a:solidFill>
              <a:srgbClr val="1b5ba2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258840" y="3584520"/>
            <a:ext cx="201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5c5c5c"/>
                </a:solidFill>
                <a:latin typeface="Arial"/>
                <a:ea typeface="Times New Roman"/>
              </a:rPr>
              <a:t>Source video signal</a:t>
            </a:r>
            <a:br>
              <a:rPr sz="1600"/>
            </a:br>
            <a:r>
              <a:rPr b="0" lang="de-DE" sz="1600" spc="-1" strike="noStrike">
                <a:solidFill>
                  <a:srgbClr val="5c5c5c"/>
                </a:solidFill>
                <a:latin typeface="Arial"/>
                <a:ea typeface="Times New Roman"/>
              </a:rPr>
              <a:t>(SRC)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5981760" y="3646440"/>
            <a:ext cx="140328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5c5c5c"/>
                </a:solidFill>
                <a:latin typeface="Arial"/>
                <a:ea typeface="Times New Roman"/>
              </a:rPr>
              <a:t>Subjective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5c5c5c"/>
                </a:solidFill>
                <a:latin typeface="Arial"/>
                <a:ea typeface="Times New Roman"/>
              </a:rPr>
              <a:t>quality-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5c5c5c"/>
                </a:solidFill>
                <a:latin typeface="Arial"/>
                <a:ea typeface="Times New Roman"/>
              </a:rPr>
              <a:t>rating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5245200" y="3987720"/>
            <a:ext cx="414360" cy="0"/>
          </a:xfrm>
          <a:prstGeom prst="line">
            <a:avLst/>
          </a:prstGeom>
          <a:ln w="31680">
            <a:solidFill>
              <a:srgbClr val="1b5ba2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2405160" y="4486320"/>
            <a:ext cx="173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5c5c5c"/>
                </a:solidFill>
                <a:latin typeface="Arial"/>
                <a:ea typeface="Times New Roman"/>
              </a:rPr>
              <a:t>Degraded video signal (PVS)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4425840" y="4897440"/>
            <a:ext cx="978120" cy="658800"/>
          </a:xfrm>
          <a:prstGeom prst="rect">
            <a:avLst/>
          </a:prstGeom>
          <a:gradFill rotWithShape="0">
            <a:gsLst>
              <a:gs pos="0">
                <a:srgbClr val="abdca0"/>
              </a:gs>
              <a:gs pos="100000">
                <a:srgbClr val="366125"/>
              </a:gs>
            </a:gsLst>
            <a:lin ang="5400000"/>
          </a:gradFill>
          <a:ln w="9360">
            <a:solidFill>
              <a:srgbClr val="264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odel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019240" y="5238720"/>
            <a:ext cx="2382840" cy="6480"/>
          </a:xfrm>
          <a:prstGeom prst="line">
            <a:avLst/>
          </a:prstGeom>
          <a:ln w="31680">
            <a:solidFill>
              <a:srgbClr val="1b5ba2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5937120" y="4897440"/>
            <a:ext cx="1460520" cy="658800"/>
          </a:xfrm>
          <a:prstGeom prst="rect">
            <a:avLst/>
          </a:prstGeom>
          <a:gradFill rotWithShape="0">
            <a:gsLst>
              <a:gs pos="0">
                <a:srgbClr val="abdca0"/>
              </a:gs>
              <a:gs pos="100000">
                <a:srgbClr val="366125"/>
              </a:gs>
            </a:gsLst>
            <a:lin ang="5400000"/>
          </a:gradFill>
          <a:ln w="9360">
            <a:solidFill>
              <a:srgbClr val="264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Estimated quality index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5423040" y="5238720"/>
            <a:ext cx="502920" cy="1440"/>
          </a:xfrm>
          <a:prstGeom prst="line">
            <a:avLst/>
          </a:prstGeom>
          <a:ln w="31680">
            <a:solidFill>
              <a:srgbClr val="1b5ba2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2227320" y="5286240"/>
            <a:ext cx="201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5c5c5c"/>
                </a:solidFill>
                <a:latin typeface="Arial"/>
                <a:ea typeface="Times New Roman"/>
              </a:rPr>
              <a:t>Reference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5938920" y="1395360"/>
            <a:ext cx="2982960" cy="1878120"/>
          </a:xfrm>
          <a:prstGeom prst="rect">
            <a:avLst/>
          </a:prstGeom>
          <a:noFill/>
          <a:ln w="19080">
            <a:solidFill>
              <a:srgbClr val="3661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0" anchor="t">
            <a:noAutofit/>
          </a:bodyPr>
          <a:p>
            <a:pPr marL="287280" indent="-189000">
              <a:lnSpc>
                <a:spcPct val="90000"/>
              </a:lnSpc>
              <a:spcAft>
                <a:spcPts val="675"/>
              </a:spcAft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Arial"/>
                <a:ea typeface="Times New Roman"/>
              </a:rPr>
              <a:t>Models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  <a:p>
            <a:pPr marL="287280" indent="-189000">
              <a:lnSpc>
                <a:spcPct val="90000"/>
              </a:lnSpc>
              <a:spcAft>
                <a:spcPts val="675"/>
              </a:spcAft>
              <a:buClr>
                <a:srgbClr val="5c5c5c"/>
              </a:buClr>
              <a:buSzPct val="65000"/>
              <a:buFont typeface="Wingdings" charset="2"/>
              <a:buChar char="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Arial"/>
                <a:ea typeface="Times New Roman"/>
              </a:rPr>
              <a:t>ITU-T J.144 (SG9) </a:t>
            </a:r>
            <a:br>
              <a:rPr sz="1800"/>
            </a:br>
            <a:r>
              <a:rPr b="0" lang="en-US" sz="1800" spc="-1" strike="noStrike">
                <a:solidFill>
                  <a:srgbClr val="5c5c5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5c5c5c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5c5c5c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5c5c5c"/>
                </a:solidFill>
                <a:latin typeface="Arial"/>
                <a:ea typeface="Times New Roman"/>
              </a:rPr>
              <a:t>SD </a:t>
            </a:r>
            <a:br>
              <a:rPr sz="1800"/>
            </a:br>
            <a:r>
              <a:rPr b="0" lang="en-US" sz="1800" spc="-1" strike="noStrike">
                <a:solidFill>
                  <a:srgbClr val="5c5c5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5c5c5c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5c5c5c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5c5c5c"/>
                </a:solidFill>
                <a:latin typeface="Arial"/>
                <a:ea typeface="Times New Roman"/>
              </a:rPr>
              <a:t>no transmission errors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  <a:p>
            <a:pPr marL="287280" indent="-189000">
              <a:lnSpc>
                <a:spcPct val="90000"/>
              </a:lnSpc>
              <a:spcAft>
                <a:spcPts val="675"/>
              </a:spcAft>
              <a:buClr>
                <a:srgbClr val="5c5c5c"/>
              </a:buClr>
              <a:buSzPct val="65000"/>
              <a:buFont typeface="Wingdings" charset="2"/>
              <a:buChar char="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Arial"/>
                <a:ea typeface="Times New Roman"/>
              </a:rPr>
              <a:t>ITU-T J.247 (SG9)</a:t>
            </a:r>
            <a:br>
              <a:rPr sz="1800"/>
            </a:br>
            <a:r>
              <a:rPr b="0" lang="en-US" sz="1800" spc="-1" strike="noStrike">
                <a:solidFill>
                  <a:srgbClr val="5c5c5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5c5c5c"/>
                </a:solidFill>
                <a:latin typeface="Arial"/>
                <a:ea typeface="Times New Roman"/>
              </a:rPr>
              <a:t> VGA, CIF, QCIF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42720" y="306360"/>
            <a:ext cx="85597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5ba2"/>
                </a:solidFill>
                <a:latin typeface="Verdana"/>
              </a:rPr>
              <a:t>Instrumental quality assessment</a:t>
            </a:r>
            <a:br>
              <a:rPr sz="2800"/>
            </a:br>
            <a:r>
              <a:rPr b="1" lang="en-US" sz="2800" spc="-1" strike="noStrike" u="sng">
                <a:solidFill>
                  <a:srgbClr val="1b5ba2"/>
                </a:solidFill>
                <a:uFillTx/>
                <a:latin typeface="Verdana"/>
              </a:rPr>
              <a:t>R</a:t>
            </a:r>
            <a:r>
              <a:rPr b="1" lang="en-US" sz="2800" spc="-1" strike="noStrike">
                <a:solidFill>
                  <a:srgbClr val="1b5ba2"/>
                </a:solidFill>
                <a:latin typeface="Verdana"/>
              </a:rPr>
              <a:t>educed </a:t>
            </a:r>
            <a:r>
              <a:rPr b="1" lang="en-US" sz="2800" spc="-1" strike="noStrike" u="sng">
                <a:solidFill>
                  <a:srgbClr val="1b5ba2"/>
                </a:solidFill>
                <a:uFillTx/>
                <a:latin typeface="Verdana"/>
              </a:rPr>
              <a:t>R</a:t>
            </a:r>
            <a:r>
              <a:rPr b="1" lang="en-US" sz="2800" spc="-1" strike="noStrike">
                <a:solidFill>
                  <a:srgbClr val="1b5ba2"/>
                </a:solidFill>
                <a:latin typeface="Verdana"/>
              </a:rPr>
              <a:t>eference models – RR</a:t>
            </a:r>
            <a:endParaRPr b="1" lang="en-US" sz="2800" spc="-1" strike="noStrike">
              <a:solidFill>
                <a:srgbClr val="1b5ba2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193920" y="3379680"/>
            <a:ext cx="1202040" cy="11797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0000" y="3289320"/>
            <a:ext cx="1123920" cy="12175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152800" y="2382840"/>
            <a:ext cx="519732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425840" y="4897440"/>
            <a:ext cx="978120" cy="658800"/>
          </a:xfrm>
          <a:prstGeom prst="rect">
            <a:avLst/>
          </a:prstGeom>
          <a:gradFill rotWithShape="0">
            <a:gsLst>
              <a:gs pos="0">
                <a:srgbClr val="abdca0"/>
              </a:gs>
              <a:gs pos="100000">
                <a:srgbClr val="366125"/>
              </a:gs>
            </a:gsLst>
            <a:lin ang="5400000"/>
          </a:gradFill>
          <a:ln w="9360">
            <a:solidFill>
              <a:srgbClr val="264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odel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014200" y="3968640"/>
            <a:ext cx="4680" cy="1251000"/>
          </a:xfrm>
          <a:prstGeom prst="line">
            <a:avLst/>
          </a:prstGeom>
          <a:ln w="31680">
            <a:solidFill>
              <a:srgbClr val="1b5b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019240" y="5213520"/>
            <a:ext cx="287280" cy="0"/>
          </a:xfrm>
          <a:prstGeom prst="line">
            <a:avLst/>
          </a:prstGeom>
          <a:ln w="31680">
            <a:solidFill>
              <a:srgbClr val="1b5ba2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3975120" y="4108320"/>
            <a:ext cx="274680" cy="870120"/>
          </a:xfrm>
          <a:prstGeom prst="line">
            <a:avLst/>
          </a:prstGeom>
          <a:ln w="31680">
            <a:solidFill>
              <a:srgbClr val="1b5ba2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1822320" y="3392640"/>
            <a:ext cx="507960" cy="458640"/>
          </a:xfrm>
          <a:custGeom>
            <a:avLst/>
            <a:gdLst/>
            <a:ahLst/>
            <a:rect l="l" t="t" r="r" b="b"/>
            <a:pathLst>
              <a:path w="5101" h="3028">
                <a:moveTo>
                  <a:pt x="0" y="1466"/>
                </a:moveTo>
                <a:cubicBezTo>
                  <a:pt x="38" y="1346"/>
                  <a:pt x="13" y="1215"/>
                  <a:pt x="51" y="1095"/>
                </a:cubicBezTo>
                <a:cubicBezTo>
                  <a:pt x="64" y="997"/>
                  <a:pt x="91" y="896"/>
                  <a:pt x="115" y="800"/>
                </a:cubicBezTo>
                <a:cubicBezTo>
                  <a:pt x="117" y="792"/>
                  <a:pt x="120" y="783"/>
                  <a:pt x="122" y="775"/>
                </a:cubicBezTo>
                <a:cubicBezTo>
                  <a:pt x="126" y="758"/>
                  <a:pt x="130" y="741"/>
                  <a:pt x="134" y="724"/>
                </a:cubicBezTo>
                <a:cubicBezTo>
                  <a:pt x="140" y="700"/>
                  <a:pt x="154" y="653"/>
                  <a:pt x="154" y="653"/>
                </a:cubicBezTo>
                <a:cubicBezTo>
                  <a:pt x="167" y="558"/>
                  <a:pt x="201" y="463"/>
                  <a:pt x="230" y="372"/>
                </a:cubicBezTo>
                <a:cubicBezTo>
                  <a:pt x="232" y="357"/>
                  <a:pt x="232" y="341"/>
                  <a:pt x="237" y="327"/>
                </a:cubicBezTo>
                <a:cubicBezTo>
                  <a:pt x="239" y="320"/>
                  <a:pt x="247" y="315"/>
                  <a:pt x="250" y="308"/>
                </a:cubicBezTo>
                <a:cubicBezTo>
                  <a:pt x="281" y="229"/>
                  <a:pt x="291" y="153"/>
                  <a:pt x="346" y="84"/>
                </a:cubicBezTo>
                <a:cubicBezTo>
                  <a:pt x="358" y="45"/>
                  <a:pt x="384" y="14"/>
                  <a:pt x="422" y="0"/>
                </a:cubicBezTo>
                <a:cubicBezTo>
                  <a:pt x="432" y="15"/>
                  <a:pt x="446" y="29"/>
                  <a:pt x="454" y="45"/>
                </a:cubicBezTo>
                <a:cubicBezTo>
                  <a:pt x="473" y="82"/>
                  <a:pt x="482" y="117"/>
                  <a:pt x="506" y="154"/>
                </a:cubicBezTo>
                <a:cubicBezTo>
                  <a:pt x="526" y="185"/>
                  <a:pt x="555" y="223"/>
                  <a:pt x="570" y="256"/>
                </a:cubicBezTo>
                <a:cubicBezTo>
                  <a:pt x="587" y="292"/>
                  <a:pt x="597" y="329"/>
                  <a:pt x="614" y="365"/>
                </a:cubicBezTo>
                <a:cubicBezTo>
                  <a:pt x="639" y="523"/>
                  <a:pt x="644" y="686"/>
                  <a:pt x="659" y="845"/>
                </a:cubicBezTo>
                <a:cubicBezTo>
                  <a:pt x="665" y="1212"/>
                  <a:pt x="657" y="1579"/>
                  <a:pt x="666" y="1946"/>
                </a:cubicBezTo>
                <a:cubicBezTo>
                  <a:pt x="670" y="2113"/>
                  <a:pt x="675" y="2268"/>
                  <a:pt x="685" y="2432"/>
                </a:cubicBezTo>
                <a:cubicBezTo>
                  <a:pt x="691" y="2533"/>
                  <a:pt x="683" y="2642"/>
                  <a:pt x="717" y="2740"/>
                </a:cubicBezTo>
                <a:cubicBezTo>
                  <a:pt x="723" y="2782"/>
                  <a:pt x="723" y="2841"/>
                  <a:pt x="742" y="2880"/>
                </a:cubicBezTo>
                <a:cubicBezTo>
                  <a:pt x="753" y="2902"/>
                  <a:pt x="764" y="2921"/>
                  <a:pt x="774" y="2944"/>
                </a:cubicBezTo>
                <a:cubicBezTo>
                  <a:pt x="791" y="2984"/>
                  <a:pt x="795" y="3012"/>
                  <a:pt x="838" y="3028"/>
                </a:cubicBezTo>
                <a:cubicBezTo>
                  <a:pt x="909" y="3012"/>
                  <a:pt x="919" y="3007"/>
                  <a:pt x="960" y="2944"/>
                </a:cubicBezTo>
                <a:cubicBezTo>
                  <a:pt x="968" y="2919"/>
                  <a:pt x="974" y="2897"/>
                  <a:pt x="986" y="2874"/>
                </a:cubicBezTo>
                <a:cubicBezTo>
                  <a:pt x="995" y="2795"/>
                  <a:pt x="1025" y="2700"/>
                  <a:pt x="1050" y="2624"/>
                </a:cubicBezTo>
                <a:cubicBezTo>
                  <a:pt x="1064" y="2583"/>
                  <a:pt x="1062" y="2542"/>
                  <a:pt x="1082" y="2503"/>
                </a:cubicBezTo>
                <a:cubicBezTo>
                  <a:pt x="1098" y="2417"/>
                  <a:pt x="1117" y="2333"/>
                  <a:pt x="1133" y="2247"/>
                </a:cubicBezTo>
                <a:cubicBezTo>
                  <a:pt x="1137" y="1971"/>
                  <a:pt x="1152" y="1712"/>
                  <a:pt x="1171" y="1440"/>
                </a:cubicBezTo>
                <a:cubicBezTo>
                  <a:pt x="1168" y="1289"/>
                  <a:pt x="1163" y="1177"/>
                  <a:pt x="1152" y="1037"/>
                </a:cubicBezTo>
                <a:cubicBezTo>
                  <a:pt x="1158" y="917"/>
                  <a:pt x="1166" y="782"/>
                  <a:pt x="1203" y="666"/>
                </a:cubicBezTo>
                <a:cubicBezTo>
                  <a:pt x="1231" y="668"/>
                  <a:pt x="1260" y="663"/>
                  <a:pt x="1286" y="672"/>
                </a:cubicBezTo>
                <a:cubicBezTo>
                  <a:pt x="1295" y="675"/>
                  <a:pt x="1293" y="691"/>
                  <a:pt x="1299" y="698"/>
                </a:cubicBezTo>
                <a:cubicBezTo>
                  <a:pt x="1375" y="786"/>
                  <a:pt x="1287" y="662"/>
                  <a:pt x="1338" y="736"/>
                </a:cubicBezTo>
                <a:cubicBezTo>
                  <a:pt x="1348" y="770"/>
                  <a:pt x="1410" y="861"/>
                  <a:pt x="1434" y="896"/>
                </a:cubicBezTo>
                <a:cubicBezTo>
                  <a:pt x="1446" y="937"/>
                  <a:pt x="1455" y="970"/>
                  <a:pt x="1472" y="1012"/>
                </a:cubicBezTo>
                <a:cubicBezTo>
                  <a:pt x="1476" y="1023"/>
                  <a:pt x="1485" y="1044"/>
                  <a:pt x="1485" y="1044"/>
                </a:cubicBezTo>
                <a:cubicBezTo>
                  <a:pt x="1500" y="1123"/>
                  <a:pt x="1513" y="1202"/>
                  <a:pt x="1530" y="1280"/>
                </a:cubicBezTo>
                <a:cubicBezTo>
                  <a:pt x="1532" y="1408"/>
                  <a:pt x="1532" y="1536"/>
                  <a:pt x="1536" y="1664"/>
                </a:cubicBezTo>
                <a:cubicBezTo>
                  <a:pt x="1537" y="1709"/>
                  <a:pt x="1585" y="1739"/>
                  <a:pt x="1613" y="1767"/>
                </a:cubicBezTo>
                <a:cubicBezTo>
                  <a:pt x="1629" y="1783"/>
                  <a:pt x="1664" y="1812"/>
                  <a:pt x="1664" y="1812"/>
                </a:cubicBezTo>
                <a:cubicBezTo>
                  <a:pt x="1741" y="1759"/>
                  <a:pt x="1794" y="1612"/>
                  <a:pt x="1824" y="1524"/>
                </a:cubicBezTo>
                <a:cubicBezTo>
                  <a:pt x="1834" y="1459"/>
                  <a:pt x="1861" y="1400"/>
                  <a:pt x="1882" y="1338"/>
                </a:cubicBezTo>
                <a:cubicBezTo>
                  <a:pt x="1900" y="1284"/>
                  <a:pt x="1903" y="1225"/>
                  <a:pt x="1926" y="1172"/>
                </a:cubicBezTo>
                <a:cubicBezTo>
                  <a:pt x="1944" y="1130"/>
                  <a:pt x="1952" y="1075"/>
                  <a:pt x="1971" y="1037"/>
                </a:cubicBezTo>
                <a:cubicBezTo>
                  <a:pt x="1978" y="1023"/>
                  <a:pt x="1997" y="999"/>
                  <a:pt x="1997" y="999"/>
                </a:cubicBezTo>
                <a:cubicBezTo>
                  <a:pt x="2013" y="931"/>
                  <a:pt x="2068" y="863"/>
                  <a:pt x="2118" y="813"/>
                </a:cubicBezTo>
                <a:cubicBezTo>
                  <a:pt x="2150" y="829"/>
                  <a:pt x="2187" y="849"/>
                  <a:pt x="2202" y="884"/>
                </a:cubicBezTo>
                <a:cubicBezTo>
                  <a:pt x="2212" y="907"/>
                  <a:pt x="2219" y="931"/>
                  <a:pt x="2227" y="954"/>
                </a:cubicBezTo>
                <a:cubicBezTo>
                  <a:pt x="2229" y="960"/>
                  <a:pt x="2234" y="973"/>
                  <a:pt x="2234" y="973"/>
                </a:cubicBezTo>
                <a:cubicBezTo>
                  <a:pt x="2238" y="1018"/>
                  <a:pt x="2242" y="1063"/>
                  <a:pt x="2246" y="1108"/>
                </a:cubicBezTo>
                <a:cubicBezTo>
                  <a:pt x="2253" y="1186"/>
                  <a:pt x="2250" y="1265"/>
                  <a:pt x="2253" y="1344"/>
                </a:cubicBezTo>
                <a:cubicBezTo>
                  <a:pt x="2254" y="1370"/>
                  <a:pt x="2257" y="1395"/>
                  <a:pt x="2259" y="1421"/>
                </a:cubicBezTo>
                <a:cubicBezTo>
                  <a:pt x="2268" y="1529"/>
                  <a:pt x="2279" y="1748"/>
                  <a:pt x="2381" y="1818"/>
                </a:cubicBezTo>
                <a:cubicBezTo>
                  <a:pt x="2402" y="1797"/>
                  <a:pt x="2425" y="1782"/>
                  <a:pt x="2445" y="1760"/>
                </a:cubicBezTo>
                <a:cubicBezTo>
                  <a:pt x="2489" y="1710"/>
                  <a:pt x="2506" y="1649"/>
                  <a:pt x="2541" y="1594"/>
                </a:cubicBezTo>
                <a:cubicBezTo>
                  <a:pt x="2581" y="1531"/>
                  <a:pt x="2604" y="1468"/>
                  <a:pt x="2637" y="1402"/>
                </a:cubicBezTo>
                <a:cubicBezTo>
                  <a:pt x="2645" y="1366"/>
                  <a:pt x="2662" y="1320"/>
                  <a:pt x="2694" y="1300"/>
                </a:cubicBezTo>
                <a:cubicBezTo>
                  <a:pt x="2730" y="1228"/>
                  <a:pt x="2682" y="1316"/>
                  <a:pt x="2726" y="1255"/>
                </a:cubicBezTo>
                <a:cubicBezTo>
                  <a:pt x="2758" y="1211"/>
                  <a:pt x="2775" y="1178"/>
                  <a:pt x="2822" y="1146"/>
                </a:cubicBezTo>
                <a:cubicBezTo>
                  <a:pt x="2831" y="1140"/>
                  <a:pt x="2834" y="1127"/>
                  <a:pt x="2842" y="1120"/>
                </a:cubicBezTo>
                <a:cubicBezTo>
                  <a:pt x="2849" y="1114"/>
                  <a:pt x="2859" y="1112"/>
                  <a:pt x="2867" y="1108"/>
                </a:cubicBezTo>
                <a:cubicBezTo>
                  <a:pt x="2905" y="1117"/>
                  <a:pt x="2901" y="1115"/>
                  <a:pt x="2918" y="1146"/>
                </a:cubicBezTo>
                <a:cubicBezTo>
                  <a:pt x="2928" y="1164"/>
                  <a:pt x="2939" y="1180"/>
                  <a:pt x="2950" y="1197"/>
                </a:cubicBezTo>
                <a:cubicBezTo>
                  <a:pt x="2954" y="1203"/>
                  <a:pt x="2963" y="1216"/>
                  <a:pt x="2963" y="1216"/>
                </a:cubicBezTo>
                <a:cubicBezTo>
                  <a:pt x="2981" y="1282"/>
                  <a:pt x="2993" y="1349"/>
                  <a:pt x="3008" y="1415"/>
                </a:cubicBezTo>
                <a:cubicBezTo>
                  <a:pt x="3014" y="1473"/>
                  <a:pt x="3023" y="1528"/>
                  <a:pt x="3046" y="1581"/>
                </a:cubicBezTo>
                <a:cubicBezTo>
                  <a:pt x="3064" y="1623"/>
                  <a:pt x="3036" y="1575"/>
                  <a:pt x="3078" y="1639"/>
                </a:cubicBezTo>
                <a:cubicBezTo>
                  <a:pt x="3082" y="1645"/>
                  <a:pt x="3091" y="1658"/>
                  <a:pt x="3091" y="1658"/>
                </a:cubicBezTo>
                <a:cubicBezTo>
                  <a:pt x="3139" y="1647"/>
                  <a:pt x="3168" y="1603"/>
                  <a:pt x="3200" y="1568"/>
                </a:cubicBezTo>
                <a:cubicBezTo>
                  <a:pt x="3230" y="1535"/>
                  <a:pt x="3264" y="1504"/>
                  <a:pt x="3296" y="1472"/>
                </a:cubicBezTo>
                <a:cubicBezTo>
                  <a:pt x="3313" y="1455"/>
                  <a:pt x="3337" y="1445"/>
                  <a:pt x="3354" y="1428"/>
                </a:cubicBezTo>
                <a:cubicBezTo>
                  <a:pt x="3405" y="1377"/>
                  <a:pt x="3444" y="1324"/>
                  <a:pt x="3501" y="1280"/>
                </a:cubicBezTo>
                <a:cubicBezTo>
                  <a:pt x="3592" y="1300"/>
                  <a:pt x="3568" y="1400"/>
                  <a:pt x="3667" y="1428"/>
                </a:cubicBezTo>
                <a:cubicBezTo>
                  <a:pt x="3693" y="1426"/>
                  <a:pt x="3718" y="1424"/>
                  <a:pt x="3744" y="1421"/>
                </a:cubicBezTo>
                <a:cubicBezTo>
                  <a:pt x="3788" y="1415"/>
                  <a:pt x="3831" y="1393"/>
                  <a:pt x="3872" y="1376"/>
                </a:cubicBezTo>
                <a:cubicBezTo>
                  <a:pt x="3904" y="1362"/>
                  <a:pt x="3947" y="1356"/>
                  <a:pt x="3981" y="1351"/>
                </a:cubicBezTo>
                <a:cubicBezTo>
                  <a:pt x="4108" y="1355"/>
                  <a:pt x="4161" y="1341"/>
                  <a:pt x="4256" y="1389"/>
                </a:cubicBezTo>
                <a:cubicBezTo>
                  <a:pt x="4294" y="1441"/>
                  <a:pt x="4253" y="1390"/>
                  <a:pt x="4307" y="1440"/>
                </a:cubicBezTo>
                <a:cubicBezTo>
                  <a:pt x="4325" y="1457"/>
                  <a:pt x="4341" y="1475"/>
                  <a:pt x="4358" y="1492"/>
                </a:cubicBezTo>
                <a:cubicBezTo>
                  <a:pt x="4361" y="1495"/>
                  <a:pt x="4415" y="1517"/>
                  <a:pt x="4416" y="1517"/>
                </a:cubicBezTo>
                <a:cubicBezTo>
                  <a:pt x="4479" y="1549"/>
                  <a:pt x="4529" y="1550"/>
                  <a:pt x="4602" y="1556"/>
                </a:cubicBezTo>
                <a:cubicBezTo>
                  <a:pt x="4696" y="1552"/>
                  <a:pt x="4763" y="1542"/>
                  <a:pt x="4851" y="1530"/>
                </a:cubicBezTo>
                <a:cubicBezTo>
                  <a:pt x="4873" y="1523"/>
                  <a:pt x="4893" y="1512"/>
                  <a:pt x="4915" y="1504"/>
                </a:cubicBezTo>
                <a:cubicBezTo>
                  <a:pt x="4953" y="1506"/>
                  <a:pt x="4992" y="1507"/>
                  <a:pt x="5030" y="1511"/>
                </a:cubicBezTo>
                <a:cubicBezTo>
                  <a:pt x="5054" y="1514"/>
                  <a:pt x="5101" y="1524"/>
                  <a:pt x="5101" y="1524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02" name=""/>
          <p:cNvSpPr/>
          <p:nvPr/>
        </p:nvSpPr>
        <p:spPr>
          <a:xfrm>
            <a:off x="2293920" y="3706920"/>
            <a:ext cx="1482840" cy="520560"/>
          </a:xfrm>
          <a:prstGeom prst="rect">
            <a:avLst/>
          </a:prstGeom>
          <a:gradFill rotWithShape="0">
            <a:gsLst>
              <a:gs pos="0">
                <a:srgbClr val="a1c1db"/>
              </a:gs>
              <a:gs pos="100000">
                <a:srgbClr val="264660"/>
              </a:gs>
            </a:gsLst>
            <a:lin ang="5400000"/>
          </a:gradFill>
          <a:ln w="9360">
            <a:solidFill>
              <a:srgbClr val="264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Transmission-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System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4192560" y="3987720"/>
            <a:ext cx="276120" cy="0"/>
          </a:xfrm>
          <a:prstGeom prst="line">
            <a:avLst/>
          </a:prstGeom>
          <a:ln w="31680">
            <a:solidFill>
              <a:srgbClr val="1b5ba2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1879560" y="3987720"/>
            <a:ext cx="414360" cy="0"/>
          </a:xfrm>
          <a:prstGeom prst="line">
            <a:avLst/>
          </a:prstGeom>
          <a:ln w="31680">
            <a:solidFill>
              <a:srgbClr val="1b5ba2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>
            <a:off x="258840" y="3584520"/>
            <a:ext cx="201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5c5c5c"/>
                </a:solidFill>
                <a:latin typeface="Arial"/>
                <a:ea typeface="Times New Roman"/>
              </a:rPr>
              <a:t>Source video signal</a:t>
            </a:r>
            <a:br>
              <a:rPr sz="1600"/>
            </a:br>
            <a:r>
              <a:rPr b="0" lang="de-DE" sz="1600" spc="-1" strike="noStrike">
                <a:solidFill>
                  <a:srgbClr val="5c5c5c"/>
                </a:solidFill>
                <a:latin typeface="Arial"/>
                <a:ea typeface="Times New Roman"/>
              </a:rPr>
              <a:t>(SRC)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06" name=""/>
          <p:cNvSpPr/>
          <p:nvPr/>
        </p:nvSpPr>
        <p:spPr>
          <a:xfrm>
            <a:off x="5981760" y="3646440"/>
            <a:ext cx="140328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5c5c5c"/>
                </a:solidFill>
                <a:latin typeface="Arial"/>
                <a:ea typeface="Times New Roman"/>
              </a:rPr>
              <a:t>Subjective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5c5c5c"/>
                </a:solidFill>
                <a:latin typeface="Arial"/>
                <a:ea typeface="Times New Roman"/>
              </a:rPr>
              <a:t>quality-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5c5c5c"/>
                </a:solidFill>
                <a:latin typeface="Arial"/>
                <a:ea typeface="Times New Roman"/>
              </a:rPr>
              <a:t>rating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07" name=""/>
          <p:cNvSpPr/>
          <p:nvPr/>
        </p:nvSpPr>
        <p:spPr>
          <a:xfrm>
            <a:off x="5245200" y="3987720"/>
            <a:ext cx="414360" cy="0"/>
          </a:xfrm>
          <a:prstGeom prst="line">
            <a:avLst/>
          </a:prstGeom>
          <a:ln w="31680">
            <a:solidFill>
              <a:srgbClr val="1b5ba2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5937120" y="4897440"/>
            <a:ext cx="1460520" cy="658800"/>
          </a:xfrm>
          <a:prstGeom prst="rect">
            <a:avLst/>
          </a:prstGeom>
          <a:gradFill rotWithShape="0">
            <a:gsLst>
              <a:gs pos="0">
                <a:srgbClr val="abdca0"/>
              </a:gs>
              <a:gs pos="100000">
                <a:srgbClr val="366125"/>
              </a:gs>
            </a:gsLst>
            <a:lin ang="5400000"/>
          </a:gradFill>
          <a:ln w="9360">
            <a:solidFill>
              <a:srgbClr val="264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Estimated quality index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4056120" y="4460760"/>
            <a:ext cx="225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5c5c5c"/>
                </a:solidFill>
                <a:latin typeface="Arial"/>
                <a:ea typeface="Times New Roman"/>
              </a:rPr>
              <a:t>Degraded video signal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2305080" y="4897440"/>
            <a:ext cx="1079640" cy="658800"/>
          </a:xfrm>
          <a:prstGeom prst="rect">
            <a:avLst/>
          </a:prstGeom>
          <a:gradFill rotWithShape="0">
            <a:gsLst>
              <a:gs pos="0">
                <a:srgbClr val="abdca0"/>
              </a:gs>
              <a:gs pos="100000">
                <a:srgbClr val="366125"/>
              </a:gs>
            </a:gsLst>
            <a:lin ang="5400000"/>
          </a:gradFill>
          <a:ln w="9360">
            <a:solidFill>
              <a:srgbClr val="264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Feature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extraction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3556080" y="4260960"/>
            <a:ext cx="846000" cy="979200"/>
          </a:xfrm>
          <a:prstGeom prst="line">
            <a:avLst/>
          </a:prstGeom>
          <a:ln w="31680">
            <a:solidFill>
              <a:srgbClr val="1b5ba2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5423040" y="5238720"/>
            <a:ext cx="502920" cy="1440"/>
          </a:xfrm>
          <a:prstGeom prst="line">
            <a:avLst/>
          </a:prstGeom>
          <a:ln w="31680">
            <a:solidFill>
              <a:srgbClr val="1b5ba2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2709720" y="5006880"/>
            <a:ext cx="225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5c5c5c"/>
                </a:solidFill>
                <a:latin typeface="Arial"/>
                <a:ea typeface="Times New Roman"/>
              </a:rPr>
              <a:t>Reduced </a:t>
            </a:r>
            <a:br>
              <a:rPr sz="1600"/>
            </a:br>
            <a:r>
              <a:rPr b="0" lang="de-DE" sz="1600" spc="-1" strike="noStrike">
                <a:solidFill>
                  <a:srgbClr val="5c5c5c"/>
                </a:solidFill>
                <a:latin typeface="Arial"/>
                <a:ea typeface="Times New Roman"/>
              </a:rPr>
              <a:t>reference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6002280" y="1700280"/>
            <a:ext cx="2551320" cy="1027080"/>
          </a:xfrm>
          <a:prstGeom prst="rect">
            <a:avLst/>
          </a:prstGeom>
          <a:noFill/>
          <a:ln w="19080">
            <a:solidFill>
              <a:srgbClr val="3661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0" anchor="t">
            <a:noAutofit/>
          </a:bodyPr>
          <a:p>
            <a:pPr marL="287280" indent="-189000">
              <a:lnSpc>
                <a:spcPct val="9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Arial"/>
                <a:ea typeface="Times New Roman"/>
              </a:rPr>
              <a:t>Models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  <a:p>
            <a:pPr marL="287280" indent="-189000">
              <a:lnSpc>
                <a:spcPct val="90000"/>
              </a:lnSpc>
              <a:spcAft>
                <a:spcPts val="675"/>
              </a:spcAft>
              <a:buClr>
                <a:srgbClr val="5c5c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Arial"/>
                <a:ea typeface="Times New Roman"/>
              </a:rPr>
              <a:t>ITU-T J.246 (SG9) </a:t>
            </a:r>
            <a:br>
              <a:rPr sz="1800"/>
            </a:br>
            <a:r>
              <a:rPr b="0" lang="en-US" sz="1800" spc="-1" strike="noStrike">
                <a:solidFill>
                  <a:srgbClr val="5c5c5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5c5c5c"/>
                </a:solidFill>
                <a:latin typeface="Arial"/>
                <a:ea typeface="Times New Roman"/>
              </a:rPr>
              <a:t> VGA, CIF, QCIF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832120" y="4247640"/>
            <a:ext cx="71280" cy="622440"/>
          </a:xfrm>
          <a:prstGeom prst="line">
            <a:avLst/>
          </a:prstGeom>
          <a:ln w="31680">
            <a:solidFill>
              <a:srgbClr val="1b5ba2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42720" y="306360"/>
            <a:ext cx="85597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5ba2"/>
                </a:solidFill>
                <a:latin typeface="Verdana"/>
              </a:rPr>
              <a:t>Instrumental quality assessment</a:t>
            </a:r>
            <a:br>
              <a:rPr sz="2800"/>
            </a:br>
            <a:r>
              <a:rPr b="1" lang="en-US" sz="2800" spc="-1" strike="noStrike" u="sng">
                <a:solidFill>
                  <a:srgbClr val="1b5ba2"/>
                </a:solidFill>
                <a:uFillTx/>
                <a:latin typeface="Verdana"/>
              </a:rPr>
              <a:t>N</a:t>
            </a:r>
            <a:r>
              <a:rPr b="1" lang="en-US" sz="2800" spc="-1" strike="noStrike">
                <a:solidFill>
                  <a:srgbClr val="1b5ba2"/>
                </a:solidFill>
                <a:latin typeface="Verdana"/>
              </a:rPr>
              <a:t>o </a:t>
            </a:r>
            <a:r>
              <a:rPr b="1" lang="en-US" sz="2800" spc="-1" strike="noStrike" u="sng">
                <a:solidFill>
                  <a:srgbClr val="1b5ba2"/>
                </a:solidFill>
                <a:uFillTx/>
                <a:latin typeface="Verdana"/>
              </a:rPr>
              <a:t>R</a:t>
            </a:r>
            <a:r>
              <a:rPr b="1" lang="en-US" sz="2800" spc="-1" strike="noStrike">
                <a:solidFill>
                  <a:srgbClr val="1b5ba2"/>
                </a:solidFill>
                <a:latin typeface="Verdana"/>
              </a:rPr>
              <a:t>eference models – NR</a:t>
            </a:r>
            <a:endParaRPr b="1" lang="en-US" sz="2800" spc="-1" strike="noStrike">
              <a:solidFill>
                <a:srgbClr val="1b5ba2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193920" y="3379680"/>
            <a:ext cx="1202040" cy="11797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0000" y="3289320"/>
            <a:ext cx="1123920" cy="12175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2152800" y="2382840"/>
            <a:ext cx="519732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21" name=""/>
          <p:cNvSpPr/>
          <p:nvPr/>
        </p:nvSpPr>
        <p:spPr>
          <a:xfrm>
            <a:off x="4425840" y="4897440"/>
            <a:ext cx="978120" cy="658800"/>
          </a:xfrm>
          <a:prstGeom prst="rect">
            <a:avLst/>
          </a:prstGeom>
          <a:gradFill rotWithShape="0">
            <a:gsLst>
              <a:gs pos="0">
                <a:srgbClr val="abdca0"/>
              </a:gs>
              <a:gs pos="100000">
                <a:srgbClr val="366125"/>
              </a:gs>
            </a:gsLst>
            <a:lin ang="5400000"/>
          </a:gradFill>
          <a:ln w="9360">
            <a:solidFill>
              <a:srgbClr val="264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odel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22" name=""/>
          <p:cNvSpPr/>
          <p:nvPr/>
        </p:nvSpPr>
        <p:spPr>
          <a:xfrm>
            <a:off x="3975120" y="4108320"/>
            <a:ext cx="274680" cy="870120"/>
          </a:xfrm>
          <a:prstGeom prst="line">
            <a:avLst/>
          </a:prstGeom>
          <a:ln w="31680">
            <a:solidFill>
              <a:srgbClr val="1b5ba2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1822320" y="3392640"/>
            <a:ext cx="507960" cy="458640"/>
          </a:xfrm>
          <a:custGeom>
            <a:avLst/>
            <a:gdLst/>
            <a:ahLst/>
            <a:rect l="l" t="t" r="r" b="b"/>
            <a:pathLst>
              <a:path w="5101" h="3028">
                <a:moveTo>
                  <a:pt x="0" y="1466"/>
                </a:moveTo>
                <a:cubicBezTo>
                  <a:pt x="38" y="1346"/>
                  <a:pt x="13" y="1215"/>
                  <a:pt x="51" y="1095"/>
                </a:cubicBezTo>
                <a:cubicBezTo>
                  <a:pt x="64" y="997"/>
                  <a:pt x="91" y="896"/>
                  <a:pt x="115" y="800"/>
                </a:cubicBezTo>
                <a:cubicBezTo>
                  <a:pt x="117" y="792"/>
                  <a:pt x="120" y="783"/>
                  <a:pt x="122" y="775"/>
                </a:cubicBezTo>
                <a:cubicBezTo>
                  <a:pt x="126" y="758"/>
                  <a:pt x="130" y="741"/>
                  <a:pt x="134" y="724"/>
                </a:cubicBezTo>
                <a:cubicBezTo>
                  <a:pt x="140" y="700"/>
                  <a:pt x="154" y="653"/>
                  <a:pt x="154" y="653"/>
                </a:cubicBezTo>
                <a:cubicBezTo>
                  <a:pt x="167" y="558"/>
                  <a:pt x="201" y="463"/>
                  <a:pt x="230" y="372"/>
                </a:cubicBezTo>
                <a:cubicBezTo>
                  <a:pt x="232" y="357"/>
                  <a:pt x="232" y="341"/>
                  <a:pt x="237" y="327"/>
                </a:cubicBezTo>
                <a:cubicBezTo>
                  <a:pt x="239" y="320"/>
                  <a:pt x="247" y="315"/>
                  <a:pt x="250" y="308"/>
                </a:cubicBezTo>
                <a:cubicBezTo>
                  <a:pt x="281" y="229"/>
                  <a:pt x="291" y="153"/>
                  <a:pt x="346" y="84"/>
                </a:cubicBezTo>
                <a:cubicBezTo>
                  <a:pt x="358" y="45"/>
                  <a:pt x="384" y="14"/>
                  <a:pt x="422" y="0"/>
                </a:cubicBezTo>
                <a:cubicBezTo>
                  <a:pt x="432" y="15"/>
                  <a:pt x="446" y="29"/>
                  <a:pt x="454" y="45"/>
                </a:cubicBezTo>
                <a:cubicBezTo>
                  <a:pt x="473" y="82"/>
                  <a:pt x="482" y="117"/>
                  <a:pt x="506" y="154"/>
                </a:cubicBezTo>
                <a:cubicBezTo>
                  <a:pt x="526" y="185"/>
                  <a:pt x="555" y="223"/>
                  <a:pt x="570" y="256"/>
                </a:cubicBezTo>
                <a:cubicBezTo>
                  <a:pt x="587" y="292"/>
                  <a:pt x="597" y="329"/>
                  <a:pt x="614" y="365"/>
                </a:cubicBezTo>
                <a:cubicBezTo>
                  <a:pt x="639" y="523"/>
                  <a:pt x="644" y="686"/>
                  <a:pt x="659" y="845"/>
                </a:cubicBezTo>
                <a:cubicBezTo>
                  <a:pt x="665" y="1212"/>
                  <a:pt x="657" y="1579"/>
                  <a:pt x="666" y="1946"/>
                </a:cubicBezTo>
                <a:cubicBezTo>
                  <a:pt x="670" y="2113"/>
                  <a:pt x="675" y="2268"/>
                  <a:pt x="685" y="2432"/>
                </a:cubicBezTo>
                <a:cubicBezTo>
                  <a:pt x="691" y="2533"/>
                  <a:pt x="683" y="2642"/>
                  <a:pt x="717" y="2740"/>
                </a:cubicBezTo>
                <a:cubicBezTo>
                  <a:pt x="723" y="2782"/>
                  <a:pt x="723" y="2841"/>
                  <a:pt x="742" y="2880"/>
                </a:cubicBezTo>
                <a:cubicBezTo>
                  <a:pt x="753" y="2902"/>
                  <a:pt x="764" y="2921"/>
                  <a:pt x="774" y="2944"/>
                </a:cubicBezTo>
                <a:cubicBezTo>
                  <a:pt x="791" y="2984"/>
                  <a:pt x="795" y="3012"/>
                  <a:pt x="838" y="3028"/>
                </a:cubicBezTo>
                <a:cubicBezTo>
                  <a:pt x="909" y="3012"/>
                  <a:pt x="919" y="3007"/>
                  <a:pt x="960" y="2944"/>
                </a:cubicBezTo>
                <a:cubicBezTo>
                  <a:pt x="968" y="2919"/>
                  <a:pt x="974" y="2897"/>
                  <a:pt x="986" y="2874"/>
                </a:cubicBezTo>
                <a:cubicBezTo>
                  <a:pt x="995" y="2795"/>
                  <a:pt x="1025" y="2700"/>
                  <a:pt x="1050" y="2624"/>
                </a:cubicBezTo>
                <a:cubicBezTo>
                  <a:pt x="1064" y="2583"/>
                  <a:pt x="1062" y="2542"/>
                  <a:pt x="1082" y="2503"/>
                </a:cubicBezTo>
                <a:cubicBezTo>
                  <a:pt x="1098" y="2417"/>
                  <a:pt x="1117" y="2333"/>
                  <a:pt x="1133" y="2247"/>
                </a:cubicBezTo>
                <a:cubicBezTo>
                  <a:pt x="1137" y="1971"/>
                  <a:pt x="1152" y="1712"/>
                  <a:pt x="1171" y="1440"/>
                </a:cubicBezTo>
                <a:cubicBezTo>
                  <a:pt x="1168" y="1289"/>
                  <a:pt x="1163" y="1177"/>
                  <a:pt x="1152" y="1037"/>
                </a:cubicBezTo>
                <a:cubicBezTo>
                  <a:pt x="1158" y="917"/>
                  <a:pt x="1166" y="782"/>
                  <a:pt x="1203" y="666"/>
                </a:cubicBezTo>
                <a:cubicBezTo>
                  <a:pt x="1231" y="668"/>
                  <a:pt x="1260" y="663"/>
                  <a:pt x="1286" y="672"/>
                </a:cubicBezTo>
                <a:cubicBezTo>
                  <a:pt x="1295" y="675"/>
                  <a:pt x="1293" y="691"/>
                  <a:pt x="1299" y="698"/>
                </a:cubicBezTo>
                <a:cubicBezTo>
                  <a:pt x="1375" y="786"/>
                  <a:pt x="1287" y="662"/>
                  <a:pt x="1338" y="736"/>
                </a:cubicBezTo>
                <a:cubicBezTo>
                  <a:pt x="1348" y="770"/>
                  <a:pt x="1410" y="861"/>
                  <a:pt x="1434" y="896"/>
                </a:cubicBezTo>
                <a:cubicBezTo>
                  <a:pt x="1446" y="937"/>
                  <a:pt x="1455" y="970"/>
                  <a:pt x="1472" y="1012"/>
                </a:cubicBezTo>
                <a:cubicBezTo>
                  <a:pt x="1476" y="1023"/>
                  <a:pt x="1485" y="1044"/>
                  <a:pt x="1485" y="1044"/>
                </a:cubicBezTo>
                <a:cubicBezTo>
                  <a:pt x="1500" y="1123"/>
                  <a:pt x="1513" y="1202"/>
                  <a:pt x="1530" y="1280"/>
                </a:cubicBezTo>
                <a:cubicBezTo>
                  <a:pt x="1532" y="1408"/>
                  <a:pt x="1532" y="1536"/>
                  <a:pt x="1536" y="1664"/>
                </a:cubicBezTo>
                <a:cubicBezTo>
                  <a:pt x="1537" y="1709"/>
                  <a:pt x="1585" y="1739"/>
                  <a:pt x="1613" y="1767"/>
                </a:cubicBezTo>
                <a:cubicBezTo>
                  <a:pt x="1629" y="1783"/>
                  <a:pt x="1664" y="1812"/>
                  <a:pt x="1664" y="1812"/>
                </a:cubicBezTo>
                <a:cubicBezTo>
                  <a:pt x="1741" y="1759"/>
                  <a:pt x="1794" y="1612"/>
                  <a:pt x="1824" y="1524"/>
                </a:cubicBezTo>
                <a:cubicBezTo>
                  <a:pt x="1834" y="1459"/>
                  <a:pt x="1861" y="1400"/>
                  <a:pt x="1882" y="1338"/>
                </a:cubicBezTo>
                <a:cubicBezTo>
                  <a:pt x="1900" y="1284"/>
                  <a:pt x="1903" y="1225"/>
                  <a:pt x="1926" y="1172"/>
                </a:cubicBezTo>
                <a:cubicBezTo>
                  <a:pt x="1944" y="1130"/>
                  <a:pt x="1952" y="1075"/>
                  <a:pt x="1971" y="1037"/>
                </a:cubicBezTo>
                <a:cubicBezTo>
                  <a:pt x="1978" y="1023"/>
                  <a:pt x="1997" y="999"/>
                  <a:pt x="1997" y="999"/>
                </a:cubicBezTo>
                <a:cubicBezTo>
                  <a:pt x="2013" y="931"/>
                  <a:pt x="2068" y="863"/>
                  <a:pt x="2118" y="813"/>
                </a:cubicBezTo>
                <a:cubicBezTo>
                  <a:pt x="2150" y="829"/>
                  <a:pt x="2187" y="849"/>
                  <a:pt x="2202" y="884"/>
                </a:cubicBezTo>
                <a:cubicBezTo>
                  <a:pt x="2212" y="907"/>
                  <a:pt x="2219" y="931"/>
                  <a:pt x="2227" y="954"/>
                </a:cubicBezTo>
                <a:cubicBezTo>
                  <a:pt x="2229" y="960"/>
                  <a:pt x="2234" y="973"/>
                  <a:pt x="2234" y="973"/>
                </a:cubicBezTo>
                <a:cubicBezTo>
                  <a:pt x="2238" y="1018"/>
                  <a:pt x="2242" y="1063"/>
                  <a:pt x="2246" y="1108"/>
                </a:cubicBezTo>
                <a:cubicBezTo>
                  <a:pt x="2253" y="1186"/>
                  <a:pt x="2250" y="1265"/>
                  <a:pt x="2253" y="1344"/>
                </a:cubicBezTo>
                <a:cubicBezTo>
                  <a:pt x="2254" y="1370"/>
                  <a:pt x="2257" y="1395"/>
                  <a:pt x="2259" y="1421"/>
                </a:cubicBezTo>
                <a:cubicBezTo>
                  <a:pt x="2268" y="1529"/>
                  <a:pt x="2279" y="1748"/>
                  <a:pt x="2381" y="1818"/>
                </a:cubicBezTo>
                <a:cubicBezTo>
                  <a:pt x="2402" y="1797"/>
                  <a:pt x="2425" y="1782"/>
                  <a:pt x="2445" y="1760"/>
                </a:cubicBezTo>
                <a:cubicBezTo>
                  <a:pt x="2489" y="1710"/>
                  <a:pt x="2506" y="1649"/>
                  <a:pt x="2541" y="1594"/>
                </a:cubicBezTo>
                <a:cubicBezTo>
                  <a:pt x="2581" y="1531"/>
                  <a:pt x="2604" y="1468"/>
                  <a:pt x="2637" y="1402"/>
                </a:cubicBezTo>
                <a:cubicBezTo>
                  <a:pt x="2645" y="1366"/>
                  <a:pt x="2662" y="1320"/>
                  <a:pt x="2694" y="1300"/>
                </a:cubicBezTo>
                <a:cubicBezTo>
                  <a:pt x="2730" y="1228"/>
                  <a:pt x="2682" y="1316"/>
                  <a:pt x="2726" y="1255"/>
                </a:cubicBezTo>
                <a:cubicBezTo>
                  <a:pt x="2758" y="1211"/>
                  <a:pt x="2775" y="1178"/>
                  <a:pt x="2822" y="1146"/>
                </a:cubicBezTo>
                <a:cubicBezTo>
                  <a:pt x="2831" y="1140"/>
                  <a:pt x="2834" y="1127"/>
                  <a:pt x="2842" y="1120"/>
                </a:cubicBezTo>
                <a:cubicBezTo>
                  <a:pt x="2849" y="1114"/>
                  <a:pt x="2859" y="1112"/>
                  <a:pt x="2867" y="1108"/>
                </a:cubicBezTo>
                <a:cubicBezTo>
                  <a:pt x="2905" y="1117"/>
                  <a:pt x="2901" y="1115"/>
                  <a:pt x="2918" y="1146"/>
                </a:cubicBezTo>
                <a:cubicBezTo>
                  <a:pt x="2928" y="1164"/>
                  <a:pt x="2939" y="1180"/>
                  <a:pt x="2950" y="1197"/>
                </a:cubicBezTo>
                <a:cubicBezTo>
                  <a:pt x="2954" y="1203"/>
                  <a:pt x="2963" y="1216"/>
                  <a:pt x="2963" y="1216"/>
                </a:cubicBezTo>
                <a:cubicBezTo>
                  <a:pt x="2981" y="1282"/>
                  <a:pt x="2993" y="1349"/>
                  <a:pt x="3008" y="1415"/>
                </a:cubicBezTo>
                <a:cubicBezTo>
                  <a:pt x="3014" y="1473"/>
                  <a:pt x="3023" y="1528"/>
                  <a:pt x="3046" y="1581"/>
                </a:cubicBezTo>
                <a:cubicBezTo>
                  <a:pt x="3064" y="1623"/>
                  <a:pt x="3036" y="1575"/>
                  <a:pt x="3078" y="1639"/>
                </a:cubicBezTo>
                <a:cubicBezTo>
                  <a:pt x="3082" y="1645"/>
                  <a:pt x="3091" y="1658"/>
                  <a:pt x="3091" y="1658"/>
                </a:cubicBezTo>
                <a:cubicBezTo>
                  <a:pt x="3139" y="1647"/>
                  <a:pt x="3168" y="1603"/>
                  <a:pt x="3200" y="1568"/>
                </a:cubicBezTo>
                <a:cubicBezTo>
                  <a:pt x="3230" y="1535"/>
                  <a:pt x="3264" y="1504"/>
                  <a:pt x="3296" y="1472"/>
                </a:cubicBezTo>
                <a:cubicBezTo>
                  <a:pt x="3313" y="1455"/>
                  <a:pt x="3337" y="1445"/>
                  <a:pt x="3354" y="1428"/>
                </a:cubicBezTo>
                <a:cubicBezTo>
                  <a:pt x="3405" y="1377"/>
                  <a:pt x="3444" y="1324"/>
                  <a:pt x="3501" y="1280"/>
                </a:cubicBezTo>
                <a:cubicBezTo>
                  <a:pt x="3592" y="1300"/>
                  <a:pt x="3568" y="1400"/>
                  <a:pt x="3667" y="1428"/>
                </a:cubicBezTo>
                <a:cubicBezTo>
                  <a:pt x="3693" y="1426"/>
                  <a:pt x="3718" y="1424"/>
                  <a:pt x="3744" y="1421"/>
                </a:cubicBezTo>
                <a:cubicBezTo>
                  <a:pt x="3788" y="1415"/>
                  <a:pt x="3831" y="1393"/>
                  <a:pt x="3872" y="1376"/>
                </a:cubicBezTo>
                <a:cubicBezTo>
                  <a:pt x="3904" y="1362"/>
                  <a:pt x="3947" y="1356"/>
                  <a:pt x="3981" y="1351"/>
                </a:cubicBezTo>
                <a:cubicBezTo>
                  <a:pt x="4108" y="1355"/>
                  <a:pt x="4161" y="1341"/>
                  <a:pt x="4256" y="1389"/>
                </a:cubicBezTo>
                <a:cubicBezTo>
                  <a:pt x="4294" y="1441"/>
                  <a:pt x="4253" y="1390"/>
                  <a:pt x="4307" y="1440"/>
                </a:cubicBezTo>
                <a:cubicBezTo>
                  <a:pt x="4325" y="1457"/>
                  <a:pt x="4341" y="1475"/>
                  <a:pt x="4358" y="1492"/>
                </a:cubicBezTo>
                <a:cubicBezTo>
                  <a:pt x="4361" y="1495"/>
                  <a:pt x="4415" y="1517"/>
                  <a:pt x="4416" y="1517"/>
                </a:cubicBezTo>
                <a:cubicBezTo>
                  <a:pt x="4479" y="1549"/>
                  <a:pt x="4529" y="1550"/>
                  <a:pt x="4602" y="1556"/>
                </a:cubicBezTo>
                <a:cubicBezTo>
                  <a:pt x="4696" y="1552"/>
                  <a:pt x="4763" y="1542"/>
                  <a:pt x="4851" y="1530"/>
                </a:cubicBezTo>
                <a:cubicBezTo>
                  <a:pt x="4873" y="1523"/>
                  <a:pt x="4893" y="1512"/>
                  <a:pt x="4915" y="1504"/>
                </a:cubicBezTo>
                <a:cubicBezTo>
                  <a:pt x="4953" y="1506"/>
                  <a:pt x="4992" y="1507"/>
                  <a:pt x="5030" y="1511"/>
                </a:cubicBezTo>
                <a:cubicBezTo>
                  <a:pt x="5054" y="1514"/>
                  <a:pt x="5101" y="1524"/>
                  <a:pt x="5101" y="1524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24" name=""/>
          <p:cNvSpPr/>
          <p:nvPr/>
        </p:nvSpPr>
        <p:spPr>
          <a:xfrm>
            <a:off x="2293920" y="3706920"/>
            <a:ext cx="1482840" cy="520560"/>
          </a:xfrm>
          <a:prstGeom prst="rect">
            <a:avLst/>
          </a:prstGeom>
          <a:gradFill rotWithShape="0">
            <a:gsLst>
              <a:gs pos="0">
                <a:srgbClr val="a1c1db"/>
              </a:gs>
              <a:gs pos="100000">
                <a:srgbClr val="264660"/>
              </a:gs>
            </a:gsLst>
            <a:lin ang="5400000"/>
          </a:gradFill>
          <a:ln w="9360">
            <a:solidFill>
              <a:srgbClr val="264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Transmission-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System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4192560" y="3987720"/>
            <a:ext cx="276120" cy="0"/>
          </a:xfrm>
          <a:prstGeom prst="line">
            <a:avLst/>
          </a:prstGeom>
          <a:ln w="31680">
            <a:solidFill>
              <a:srgbClr val="1b5ba2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1879560" y="3987720"/>
            <a:ext cx="414360" cy="0"/>
          </a:xfrm>
          <a:prstGeom prst="line">
            <a:avLst/>
          </a:prstGeom>
          <a:ln w="31680">
            <a:solidFill>
              <a:srgbClr val="1b5ba2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27" name=""/>
          <p:cNvSpPr/>
          <p:nvPr/>
        </p:nvSpPr>
        <p:spPr>
          <a:xfrm>
            <a:off x="258840" y="3584520"/>
            <a:ext cx="201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5c5c5c"/>
                </a:solidFill>
                <a:latin typeface="Arial"/>
                <a:ea typeface="Times New Roman"/>
              </a:rPr>
              <a:t>Source video signal</a:t>
            </a:r>
            <a:br>
              <a:rPr sz="1600"/>
            </a:br>
            <a:r>
              <a:rPr b="0" lang="de-DE" sz="1600" spc="-1" strike="noStrike">
                <a:solidFill>
                  <a:srgbClr val="5c5c5c"/>
                </a:solidFill>
                <a:latin typeface="Arial"/>
                <a:ea typeface="Times New Roman"/>
              </a:rPr>
              <a:t>(SRC)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28" name=""/>
          <p:cNvSpPr/>
          <p:nvPr/>
        </p:nvSpPr>
        <p:spPr>
          <a:xfrm>
            <a:off x="5981760" y="3646440"/>
            <a:ext cx="140328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5c5c5c"/>
                </a:solidFill>
                <a:latin typeface="Arial"/>
                <a:ea typeface="Times New Roman"/>
              </a:rPr>
              <a:t>Subjective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5c5c5c"/>
                </a:solidFill>
                <a:latin typeface="Arial"/>
                <a:ea typeface="Times New Roman"/>
              </a:rPr>
              <a:t>quality-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5c5c5c"/>
                </a:solidFill>
                <a:latin typeface="Arial"/>
                <a:ea typeface="Times New Roman"/>
              </a:rPr>
              <a:t>rating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5245200" y="3987720"/>
            <a:ext cx="414360" cy="0"/>
          </a:xfrm>
          <a:prstGeom prst="line">
            <a:avLst/>
          </a:prstGeom>
          <a:ln w="31680">
            <a:solidFill>
              <a:srgbClr val="1b5ba2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30" name=""/>
          <p:cNvSpPr/>
          <p:nvPr/>
        </p:nvSpPr>
        <p:spPr>
          <a:xfrm>
            <a:off x="5937120" y="4897440"/>
            <a:ext cx="1460520" cy="658800"/>
          </a:xfrm>
          <a:prstGeom prst="rect">
            <a:avLst/>
          </a:prstGeom>
          <a:gradFill rotWithShape="0">
            <a:gsLst>
              <a:gs pos="0">
                <a:srgbClr val="abdca0"/>
              </a:gs>
              <a:gs pos="100000">
                <a:srgbClr val="366125"/>
              </a:gs>
            </a:gsLst>
            <a:lin ang="5400000"/>
          </a:gradFill>
          <a:ln w="9360">
            <a:solidFill>
              <a:srgbClr val="264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Estimated quality index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1986120" y="4486320"/>
            <a:ext cx="225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5c5c5c"/>
                </a:solidFill>
                <a:latin typeface="Arial"/>
                <a:ea typeface="Times New Roman"/>
              </a:rPr>
              <a:t>Degraded video signal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5423040" y="5238720"/>
            <a:ext cx="502920" cy="1440"/>
          </a:xfrm>
          <a:prstGeom prst="line">
            <a:avLst/>
          </a:prstGeom>
          <a:ln w="31680">
            <a:solidFill>
              <a:srgbClr val="1b5ba2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6002280" y="1700280"/>
            <a:ext cx="2551320" cy="836640"/>
          </a:xfrm>
          <a:prstGeom prst="rect">
            <a:avLst/>
          </a:prstGeom>
          <a:noFill/>
          <a:ln w="19080">
            <a:solidFill>
              <a:srgbClr val="3661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0" anchor="t">
            <a:noAutofit/>
          </a:bodyPr>
          <a:p>
            <a:pPr marL="287280" indent="-189000">
              <a:lnSpc>
                <a:spcPct val="9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Arial"/>
                <a:ea typeface="Times New Roman"/>
              </a:rPr>
              <a:t>Models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  <a:p>
            <a:pPr marL="287280" indent="-189000">
              <a:lnSpc>
                <a:spcPct val="90000"/>
              </a:lnSpc>
              <a:spcAft>
                <a:spcPts val="675"/>
              </a:spcAft>
              <a:buClr>
                <a:srgbClr val="5c5c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Arial"/>
                <a:ea typeface="Times New Roman"/>
              </a:rPr>
              <a:t>None standardized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42720" y="306360"/>
            <a:ext cx="85597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5ba2"/>
                </a:solidFill>
                <a:latin typeface="Verdana"/>
              </a:rPr>
              <a:t>Instrumental quality assessment</a:t>
            </a:r>
            <a:br>
              <a:rPr sz="2800"/>
            </a:br>
            <a:r>
              <a:rPr b="1" lang="en-US" sz="2800" spc="-1" strike="noStrike">
                <a:solidFill>
                  <a:srgbClr val="1b5ba2"/>
                </a:solidFill>
                <a:latin typeface="Verdana"/>
              </a:rPr>
              <a:t>Bitstream/parametric models</a:t>
            </a:r>
            <a:endParaRPr b="1" lang="en-US" sz="2800" spc="-1" strike="noStrike">
              <a:solidFill>
                <a:srgbClr val="1b5ba2"/>
              </a:solidFill>
              <a:latin typeface="Verdan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193920" y="3379680"/>
            <a:ext cx="1202040" cy="11797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0000" y="3289320"/>
            <a:ext cx="1123920" cy="12175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2152800" y="2382840"/>
            <a:ext cx="519732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4425840" y="4897440"/>
            <a:ext cx="978120" cy="658800"/>
          </a:xfrm>
          <a:prstGeom prst="rect">
            <a:avLst/>
          </a:prstGeom>
          <a:gradFill rotWithShape="0">
            <a:gsLst>
              <a:gs pos="0">
                <a:srgbClr val="abdca0"/>
              </a:gs>
              <a:gs pos="100000">
                <a:srgbClr val="366125"/>
              </a:gs>
            </a:gsLst>
            <a:lin ang="5400000"/>
          </a:gradFill>
          <a:ln w="9360">
            <a:solidFill>
              <a:srgbClr val="264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odel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3416400" y="4197240"/>
            <a:ext cx="833400" cy="781200"/>
          </a:xfrm>
          <a:prstGeom prst="line">
            <a:avLst/>
          </a:prstGeom>
          <a:ln w="31680">
            <a:solidFill>
              <a:srgbClr val="1b5ba2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41" name=""/>
          <p:cNvSpPr/>
          <p:nvPr/>
        </p:nvSpPr>
        <p:spPr>
          <a:xfrm>
            <a:off x="1822320" y="3392640"/>
            <a:ext cx="507960" cy="458640"/>
          </a:xfrm>
          <a:custGeom>
            <a:avLst/>
            <a:gdLst/>
            <a:ahLst/>
            <a:rect l="l" t="t" r="r" b="b"/>
            <a:pathLst>
              <a:path w="5101" h="3028">
                <a:moveTo>
                  <a:pt x="0" y="1466"/>
                </a:moveTo>
                <a:cubicBezTo>
                  <a:pt x="38" y="1346"/>
                  <a:pt x="13" y="1215"/>
                  <a:pt x="51" y="1095"/>
                </a:cubicBezTo>
                <a:cubicBezTo>
                  <a:pt x="64" y="997"/>
                  <a:pt x="91" y="896"/>
                  <a:pt x="115" y="800"/>
                </a:cubicBezTo>
                <a:cubicBezTo>
                  <a:pt x="117" y="792"/>
                  <a:pt x="120" y="783"/>
                  <a:pt x="122" y="775"/>
                </a:cubicBezTo>
                <a:cubicBezTo>
                  <a:pt x="126" y="758"/>
                  <a:pt x="130" y="741"/>
                  <a:pt x="134" y="724"/>
                </a:cubicBezTo>
                <a:cubicBezTo>
                  <a:pt x="140" y="700"/>
                  <a:pt x="154" y="653"/>
                  <a:pt x="154" y="653"/>
                </a:cubicBezTo>
                <a:cubicBezTo>
                  <a:pt x="167" y="558"/>
                  <a:pt x="201" y="463"/>
                  <a:pt x="230" y="372"/>
                </a:cubicBezTo>
                <a:cubicBezTo>
                  <a:pt x="232" y="357"/>
                  <a:pt x="232" y="341"/>
                  <a:pt x="237" y="327"/>
                </a:cubicBezTo>
                <a:cubicBezTo>
                  <a:pt x="239" y="320"/>
                  <a:pt x="247" y="315"/>
                  <a:pt x="250" y="308"/>
                </a:cubicBezTo>
                <a:cubicBezTo>
                  <a:pt x="281" y="229"/>
                  <a:pt x="291" y="153"/>
                  <a:pt x="346" y="84"/>
                </a:cubicBezTo>
                <a:cubicBezTo>
                  <a:pt x="358" y="45"/>
                  <a:pt x="384" y="14"/>
                  <a:pt x="422" y="0"/>
                </a:cubicBezTo>
                <a:cubicBezTo>
                  <a:pt x="432" y="15"/>
                  <a:pt x="446" y="29"/>
                  <a:pt x="454" y="45"/>
                </a:cubicBezTo>
                <a:cubicBezTo>
                  <a:pt x="473" y="82"/>
                  <a:pt x="482" y="117"/>
                  <a:pt x="506" y="154"/>
                </a:cubicBezTo>
                <a:cubicBezTo>
                  <a:pt x="526" y="185"/>
                  <a:pt x="555" y="223"/>
                  <a:pt x="570" y="256"/>
                </a:cubicBezTo>
                <a:cubicBezTo>
                  <a:pt x="587" y="292"/>
                  <a:pt x="597" y="329"/>
                  <a:pt x="614" y="365"/>
                </a:cubicBezTo>
                <a:cubicBezTo>
                  <a:pt x="639" y="523"/>
                  <a:pt x="644" y="686"/>
                  <a:pt x="659" y="845"/>
                </a:cubicBezTo>
                <a:cubicBezTo>
                  <a:pt x="665" y="1212"/>
                  <a:pt x="657" y="1579"/>
                  <a:pt x="666" y="1946"/>
                </a:cubicBezTo>
                <a:cubicBezTo>
                  <a:pt x="670" y="2113"/>
                  <a:pt x="675" y="2268"/>
                  <a:pt x="685" y="2432"/>
                </a:cubicBezTo>
                <a:cubicBezTo>
                  <a:pt x="691" y="2533"/>
                  <a:pt x="683" y="2642"/>
                  <a:pt x="717" y="2740"/>
                </a:cubicBezTo>
                <a:cubicBezTo>
                  <a:pt x="723" y="2782"/>
                  <a:pt x="723" y="2841"/>
                  <a:pt x="742" y="2880"/>
                </a:cubicBezTo>
                <a:cubicBezTo>
                  <a:pt x="753" y="2902"/>
                  <a:pt x="764" y="2921"/>
                  <a:pt x="774" y="2944"/>
                </a:cubicBezTo>
                <a:cubicBezTo>
                  <a:pt x="791" y="2984"/>
                  <a:pt x="795" y="3012"/>
                  <a:pt x="838" y="3028"/>
                </a:cubicBezTo>
                <a:cubicBezTo>
                  <a:pt x="909" y="3012"/>
                  <a:pt x="919" y="3007"/>
                  <a:pt x="960" y="2944"/>
                </a:cubicBezTo>
                <a:cubicBezTo>
                  <a:pt x="968" y="2919"/>
                  <a:pt x="974" y="2897"/>
                  <a:pt x="986" y="2874"/>
                </a:cubicBezTo>
                <a:cubicBezTo>
                  <a:pt x="995" y="2795"/>
                  <a:pt x="1025" y="2700"/>
                  <a:pt x="1050" y="2624"/>
                </a:cubicBezTo>
                <a:cubicBezTo>
                  <a:pt x="1064" y="2583"/>
                  <a:pt x="1062" y="2542"/>
                  <a:pt x="1082" y="2503"/>
                </a:cubicBezTo>
                <a:cubicBezTo>
                  <a:pt x="1098" y="2417"/>
                  <a:pt x="1117" y="2333"/>
                  <a:pt x="1133" y="2247"/>
                </a:cubicBezTo>
                <a:cubicBezTo>
                  <a:pt x="1137" y="1971"/>
                  <a:pt x="1152" y="1712"/>
                  <a:pt x="1171" y="1440"/>
                </a:cubicBezTo>
                <a:cubicBezTo>
                  <a:pt x="1168" y="1289"/>
                  <a:pt x="1163" y="1177"/>
                  <a:pt x="1152" y="1037"/>
                </a:cubicBezTo>
                <a:cubicBezTo>
                  <a:pt x="1158" y="917"/>
                  <a:pt x="1166" y="782"/>
                  <a:pt x="1203" y="666"/>
                </a:cubicBezTo>
                <a:cubicBezTo>
                  <a:pt x="1231" y="668"/>
                  <a:pt x="1260" y="663"/>
                  <a:pt x="1286" y="672"/>
                </a:cubicBezTo>
                <a:cubicBezTo>
                  <a:pt x="1295" y="675"/>
                  <a:pt x="1293" y="691"/>
                  <a:pt x="1299" y="698"/>
                </a:cubicBezTo>
                <a:cubicBezTo>
                  <a:pt x="1375" y="786"/>
                  <a:pt x="1287" y="662"/>
                  <a:pt x="1338" y="736"/>
                </a:cubicBezTo>
                <a:cubicBezTo>
                  <a:pt x="1348" y="770"/>
                  <a:pt x="1410" y="861"/>
                  <a:pt x="1434" y="896"/>
                </a:cubicBezTo>
                <a:cubicBezTo>
                  <a:pt x="1446" y="937"/>
                  <a:pt x="1455" y="970"/>
                  <a:pt x="1472" y="1012"/>
                </a:cubicBezTo>
                <a:cubicBezTo>
                  <a:pt x="1476" y="1023"/>
                  <a:pt x="1485" y="1044"/>
                  <a:pt x="1485" y="1044"/>
                </a:cubicBezTo>
                <a:cubicBezTo>
                  <a:pt x="1500" y="1123"/>
                  <a:pt x="1513" y="1202"/>
                  <a:pt x="1530" y="1280"/>
                </a:cubicBezTo>
                <a:cubicBezTo>
                  <a:pt x="1532" y="1408"/>
                  <a:pt x="1532" y="1536"/>
                  <a:pt x="1536" y="1664"/>
                </a:cubicBezTo>
                <a:cubicBezTo>
                  <a:pt x="1537" y="1709"/>
                  <a:pt x="1585" y="1739"/>
                  <a:pt x="1613" y="1767"/>
                </a:cubicBezTo>
                <a:cubicBezTo>
                  <a:pt x="1629" y="1783"/>
                  <a:pt x="1664" y="1812"/>
                  <a:pt x="1664" y="1812"/>
                </a:cubicBezTo>
                <a:cubicBezTo>
                  <a:pt x="1741" y="1759"/>
                  <a:pt x="1794" y="1612"/>
                  <a:pt x="1824" y="1524"/>
                </a:cubicBezTo>
                <a:cubicBezTo>
                  <a:pt x="1834" y="1459"/>
                  <a:pt x="1861" y="1400"/>
                  <a:pt x="1882" y="1338"/>
                </a:cubicBezTo>
                <a:cubicBezTo>
                  <a:pt x="1900" y="1284"/>
                  <a:pt x="1903" y="1225"/>
                  <a:pt x="1926" y="1172"/>
                </a:cubicBezTo>
                <a:cubicBezTo>
                  <a:pt x="1944" y="1130"/>
                  <a:pt x="1952" y="1075"/>
                  <a:pt x="1971" y="1037"/>
                </a:cubicBezTo>
                <a:cubicBezTo>
                  <a:pt x="1978" y="1023"/>
                  <a:pt x="1997" y="999"/>
                  <a:pt x="1997" y="999"/>
                </a:cubicBezTo>
                <a:cubicBezTo>
                  <a:pt x="2013" y="931"/>
                  <a:pt x="2068" y="863"/>
                  <a:pt x="2118" y="813"/>
                </a:cubicBezTo>
                <a:cubicBezTo>
                  <a:pt x="2150" y="829"/>
                  <a:pt x="2187" y="849"/>
                  <a:pt x="2202" y="884"/>
                </a:cubicBezTo>
                <a:cubicBezTo>
                  <a:pt x="2212" y="907"/>
                  <a:pt x="2219" y="931"/>
                  <a:pt x="2227" y="954"/>
                </a:cubicBezTo>
                <a:cubicBezTo>
                  <a:pt x="2229" y="960"/>
                  <a:pt x="2234" y="973"/>
                  <a:pt x="2234" y="973"/>
                </a:cubicBezTo>
                <a:cubicBezTo>
                  <a:pt x="2238" y="1018"/>
                  <a:pt x="2242" y="1063"/>
                  <a:pt x="2246" y="1108"/>
                </a:cubicBezTo>
                <a:cubicBezTo>
                  <a:pt x="2253" y="1186"/>
                  <a:pt x="2250" y="1265"/>
                  <a:pt x="2253" y="1344"/>
                </a:cubicBezTo>
                <a:cubicBezTo>
                  <a:pt x="2254" y="1370"/>
                  <a:pt x="2257" y="1395"/>
                  <a:pt x="2259" y="1421"/>
                </a:cubicBezTo>
                <a:cubicBezTo>
                  <a:pt x="2268" y="1529"/>
                  <a:pt x="2279" y="1748"/>
                  <a:pt x="2381" y="1818"/>
                </a:cubicBezTo>
                <a:cubicBezTo>
                  <a:pt x="2402" y="1797"/>
                  <a:pt x="2425" y="1782"/>
                  <a:pt x="2445" y="1760"/>
                </a:cubicBezTo>
                <a:cubicBezTo>
                  <a:pt x="2489" y="1710"/>
                  <a:pt x="2506" y="1649"/>
                  <a:pt x="2541" y="1594"/>
                </a:cubicBezTo>
                <a:cubicBezTo>
                  <a:pt x="2581" y="1531"/>
                  <a:pt x="2604" y="1468"/>
                  <a:pt x="2637" y="1402"/>
                </a:cubicBezTo>
                <a:cubicBezTo>
                  <a:pt x="2645" y="1366"/>
                  <a:pt x="2662" y="1320"/>
                  <a:pt x="2694" y="1300"/>
                </a:cubicBezTo>
                <a:cubicBezTo>
                  <a:pt x="2730" y="1228"/>
                  <a:pt x="2682" y="1316"/>
                  <a:pt x="2726" y="1255"/>
                </a:cubicBezTo>
                <a:cubicBezTo>
                  <a:pt x="2758" y="1211"/>
                  <a:pt x="2775" y="1178"/>
                  <a:pt x="2822" y="1146"/>
                </a:cubicBezTo>
                <a:cubicBezTo>
                  <a:pt x="2831" y="1140"/>
                  <a:pt x="2834" y="1127"/>
                  <a:pt x="2842" y="1120"/>
                </a:cubicBezTo>
                <a:cubicBezTo>
                  <a:pt x="2849" y="1114"/>
                  <a:pt x="2859" y="1112"/>
                  <a:pt x="2867" y="1108"/>
                </a:cubicBezTo>
                <a:cubicBezTo>
                  <a:pt x="2905" y="1117"/>
                  <a:pt x="2901" y="1115"/>
                  <a:pt x="2918" y="1146"/>
                </a:cubicBezTo>
                <a:cubicBezTo>
                  <a:pt x="2928" y="1164"/>
                  <a:pt x="2939" y="1180"/>
                  <a:pt x="2950" y="1197"/>
                </a:cubicBezTo>
                <a:cubicBezTo>
                  <a:pt x="2954" y="1203"/>
                  <a:pt x="2963" y="1216"/>
                  <a:pt x="2963" y="1216"/>
                </a:cubicBezTo>
                <a:cubicBezTo>
                  <a:pt x="2981" y="1282"/>
                  <a:pt x="2993" y="1349"/>
                  <a:pt x="3008" y="1415"/>
                </a:cubicBezTo>
                <a:cubicBezTo>
                  <a:pt x="3014" y="1473"/>
                  <a:pt x="3023" y="1528"/>
                  <a:pt x="3046" y="1581"/>
                </a:cubicBezTo>
                <a:cubicBezTo>
                  <a:pt x="3064" y="1623"/>
                  <a:pt x="3036" y="1575"/>
                  <a:pt x="3078" y="1639"/>
                </a:cubicBezTo>
                <a:cubicBezTo>
                  <a:pt x="3082" y="1645"/>
                  <a:pt x="3091" y="1658"/>
                  <a:pt x="3091" y="1658"/>
                </a:cubicBezTo>
                <a:cubicBezTo>
                  <a:pt x="3139" y="1647"/>
                  <a:pt x="3168" y="1603"/>
                  <a:pt x="3200" y="1568"/>
                </a:cubicBezTo>
                <a:cubicBezTo>
                  <a:pt x="3230" y="1535"/>
                  <a:pt x="3264" y="1504"/>
                  <a:pt x="3296" y="1472"/>
                </a:cubicBezTo>
                <a:cubicBezTo>
                  <a:pt x="3313" y="1455"/>
                  <a:pt x="3337" y="1445"/>
                  <a:pt x="3354" y="1428"/>
                </a:cubicBezTo>
                <a:cubicBezTo>
                  <a:pt x="3405" y="1377"/>
                  <a:pt x="3444" y="1324"/>
                  <a:pt x="3501" y="1280"/>
                </a:cubicBezTo>
                <a:cubicBezTo>
                  <a:pt x="3592" y="1300"/>
                  <a:pt x="3568" y="1400"/>
                  <a:pt x="3667" y="1428"/>
                </a:cubicBezTo>
                <a:cubicBezTo>
                  <a:pt x="3693" y="1426"/>
                  <a:pt x="3718" y="1424"/>
                  <a:pt x="3744" y="1421"/>
                </a:cubicBezTo>
                <a:cubicBezTo>
                  <a:pt x="3788" y="1415"/>
                  <a:pt x="3831" y="1393"/>
                  <a:pt x="3872" y="1376"/>
                </a:cubicBezTo>
                <a:cubicBezTo>
                  <a:pt x="3904" y="1362"/>
                  <a:pt x="3947" y="1356"/>
                  <a:pt x="3981" y="1351"/>
                </a:cubicBezTo>
                <a:cubicBezTo>
                  <a:pt x="4108" y="1355"/>
                  <a:pt x="4161" y="1341"/>
                  <a:pt x="4256" y="1389"/>
                </a:cubicBezTo>
                <a:cubicBezTo>
                  <a:pt x="4294" y="1441"/>
                  <a:pt x="4253" y="1390"/>
                  <a:pt x="4307" y="1440"/>
                </a:cubicBezTo>
                <a:cubicBezTo>
                  <a:pt x="4325" y="1457"/>
                  <a:pt x="4341" y="1475"/>
                  <a:pt x="4358" y="1492"/>
                </a:cubicBezTo>
                <a:cubicBezTo>
                  <a:pt x="4361" y="1495"/>
                  <a:pt x="4415" y="1517"/>
                  <a:pt x="4416" y="1517"/>
                </a:cubicBezTo>
                <a:cubicBezTo>
                  <a:pt x="4479" y="1549"/>
                  <a:pt x="4529" y="1550"/>
                  <a:pt x="4602" y="1556"/>
                </a:cubicBezTo>
                <a:cubicBezTo>
                  <a:pt x="4696" y="1552"/>
                  <a:pt x="4763" y="1542"/>
                  <a:pt x="4851" y="1530"/>
                </a:cubicBezTo>
                <a:cubicBezTo>
                  <a:pt x="4873" y="1523"/>
                  <a:pt x="4893" y="1512"/>
                  <a:pt x="4915" y="1504"/>
                </a:cubicBezTo>
                <a:cubicBezTo>
                  <a:pt x="4953" y="1506"/>
                  <a:pt x="4992" y="1507"/>
                  <a:pt x="5030" y="1511"/>
                </a:cubicBezTo>
                <a:cubicBezTo>
                  <a:pt x="5054" y="1514"/>
                  <a:pt x="5101" y="1524"/>
                  <a:pt x="5101" y="1524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42" name=""/>
          <p:cNvSpPr/>
          <p:nvPr/>
        </p:nvSpPr>
        <p:spPr>
          <a:xfrm>
            <a:off x="2293920" y="3706920"/>
            <a:ext cx="1482840" cy="520560"/>
          </a:xfrm>
          <a:prstGeom prst="rect">
            <a:avLst/>
          </a:prstGeom>
          <a:gradFill rotWithShape="0">
            <a:gsLst>
              <a:gs pos="0">
                <a:srgbClr val="a1c1db"/>
              </a:gs>
              <a:gs pos="100000">
                <a:srgbClr val="264660"/>
              </a:gs>
            </a:gsLst>
            <a:lin ang="5400000"/>
          </a:gradFill>
          <a:ln w="9360">
            <a:solidFill>
              <a:srgbClr val="264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Transmission-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System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43" name=""/>
          <p:cNvSpPr/>
          <p:nvPr/>
        </p:nvSpPr>
        <p:spPr>
          <a:xfrm>
            <a:off x="4192560" y="3987720"/>
            <a:ext cx="276120" cy="0"/>
          </a:xfrm>
          <a:prstGeom prst="line">
            <a:avLst/>
          </a:prstGeom>
          <a:ln w="31680">
            <a:solidFill>
              <a:srgbClr val="1b5ba2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44" name=""/>
          <p:cNvSpPr/>
          <p:nvPr/>
        </p:nvSpPr>
        <p:spPr>
          <a:xfrm>
            <a:off x="1879560" y="3987720"/>
            <a:ext cx="414360" cy="0"/>
          </a:xfrm>
          <a:prstGeom prst="line">
            <a:avLst/>
          </a:prstGeom>
          <a:ln w="31680">
            <a:solidFill>
              <a:srgbClr val="1b5ba2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45" name=""/>
          <p:cNvSpPr/>
          <p:nvPr/>
        </p:nvSpPr>
        <p:spPr>
          <a:xfrm>
            <a:off x="258840" y="3584520"/>
            <a:ext cx="201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5c5c5c"/>
                </a:solidFill>
                <a:latin typeface="Arial"/>
                <a:ea typeface="Times New Roman"/>
              </a:rPr>
              <a:t>Source video signal</a:t>
            </a:r>
            <a:br>
              <a:rPr sz="1600"/>
            </a:br>
            <a:r>
              <a:rPr b="0" lang="de-DE" sz="1600" spc="-1" strike="noStrike">
                <a:solidFill>
                  <a:srgbClr val="5c5c5c"/>
                </a:solidFill>
                <a:latin typeface="Arial"/>
                <a:ea typeface="Times New Roman"/>
              </a:rPr>
              <a:t>(SRC)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46" name=""/>
          <p:cNvSpPr/>
          <p:nvPr/>
        </p:nvSpPr>
        <p:spPr>
          <a:xfrm>
            <a:off x="5981760" y="3646440"/>
            <a:ext cx="140328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5c5c5c"/>
                </a:solidFill>
                <a:latin typeface="Arial"/>
                <a:ea typeface="Times New Roman"/>
              </a:rPr>
              <a:t>Subjective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5c5c5c"/>
                </a:solidFill>
                <a:latin typeface="Arial"/>
                <a:ea typeface="Times New Roman"/>
              </a:rPr>
              <a:t>quality-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5c5c5c"/>
                </a:solidFill>
                <a:latin typeface="Arial"/>
                <a:ea typeface="Times New Roman"/>
              </a:rPr>
              <a:t>rating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5245200" y="3987720"/>
            <a:ext cx="414360" cy="0"/>
          </a:xfrm>
          <a:prstGeom prst="line">
            <a:avLst/>
          </a:prstGeom>
          <a:ln w="31680">
            <a:solidFill>
              <a:srgbClr val="1b5ba2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937120" y="4897440"/>
            <a:ext cx="1460520" cy="658800"/>
          </a:xfrm>
          <a:prstGeom prst="rect">
            <a:avLst/>
          </a:prstGeom>
          <a:gradFill rotWithShape="0">
            <a:gsLst>
              <a:gs pos="0">
                <a:srgbClr val="abdca0"/>
              </a:gs>
              <a:gs pos="100000">
                <a:srgbClr val="366125"/>
              </a:gs>
            </a:gsLst>
            <a:lin ang="5400000"/>
          </a:gradFill>
          <a:ln w="9360">
            <a:solidFill>
              <a:srgbClr val="264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Estimated quality index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49" name=""/>
          <p:cNvSpPr/>
          <p:nvPr/>
        </p:nvSpPr>
        <p:spPr>
          <a:xfrm>
            <a:off x="1592280" y="4575240"/>
            <a:ext cx="24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5c5c5c"/>
                </a:solidFill>
                <a:latin typeface="Arial"/>
                <a:ea typeface="Times New Roman"/>
              </a:rPr>
              <a:t>Bitstream / Parameters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50" name=""/>
          <p:cNvSpPr/>
          <p:nvPr/>
        </p:nvSpPr>
        <p:spPr>
          <a:xfrm>
            <a:off x="5423040" y="5238720"/>
            <a:ext cx="502920" cy="1440"/>
          </a:xfrm>
          <a:prstGeom prst="line">
            <a:avLst/>
          </a:prstGeom>
          <a:ln w="31680">
            <a:solidFill>
              <a:srgbClr val="1b5ba2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6002280" y="1204920"/>
            <a:ext cx="2551320" cy="2335320"/>
          </a:xfrm>
          <a:prstGeom prst="rect">
            <a:avLst/>
          </a:prstGeom>
          <a:noFill/>
          <a:ln w="19080">
            <a:solidFill>
              <a:srgbClr val="3661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0" anchor="t">
            <a:noAutofit/>
          </a:bodyPr>
          <a:p>
            <a:pPr marL="287280" indent="-189000">
              <a:lnSpc>
                <a:spcPct val="9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Arial"/>
                <a:ea typeface="Times New Roman"/>
              </a:rPr>
              <a:t>Monitoring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  <a:p>
            <a:pPr marL="287280" indent="-189000">
              <a:lnSpc>
                <a:spcPct val="90000"/>
              </a:lnSpc>
              <a:spcAft>
                <a:spcPts val="675"/>
              </a:spcAft>
              <a:buClr>
                <a:srgbClr val="5c5c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Arial"/>
                <a:ea typeface="Times New Roman"/>
              </a:rPr>
              <a:t>P.NAMS (Q.14/12)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  <a:p>
            <a:pPr marL="287280" indent="-189000">
              <a:lnSpc>
                <a:spcPct val="90000"/>
              </a:lnSpc>
              <a:spcAft>
                <a:spcPts val="675"/>
              </a:spcAft>
              <a:buClr>
                <a:srgbClr val="5c5c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Arial"/>
                <a:ea typeface="Times New Roman"/>
              </a:rPr>
              <a:t>P.NBAMS (Q.14/12)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  <a:p>
            <a:pPr marL="287280" indent="-189000">
              <a:lnSpc>
                <a:spcPct val="9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Arial"/>
                <a:ea typeface="Times New Roman"/>
              </a:rPr>
              <a:t>Planning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  <a:p>
            <a:pPr marL="287280" indent="-189000">
              <a:lnSpc>
                <a:spcPct val="90000"/>
              </a:lnSpc>
              <a:spcAft>
                <a:spcPts val="675"/>
              </a:spcAft>
              <a:buClr>
                <a:srgbClr val="5c5c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Arial"/>
                <a:ea typeface="Times New Roman"/>
              </a:rPr>
              <a:t>G.OMVAS (Q.13/12)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  <a:p>
            <a:pPr marL="287280" indent="-189000">
              <a:lnSpc>
                <a:spcPct val="90000"/>
              </a:lnSpc>
              <a:spcAft>
                <a:spcPts val="675"/>
              </a:spcAft>
              <a:buClr>
                <a:srgbClr val="5c5c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Arial"/>
                <a:ea typeface="Times New Roman"/>
              </a:rPr>
              <a:t>G.1070 </a:t>
            </a:r>
            <a:br>
              <a:rPr sz="1800"/>
            </a:br>
            <a:r>
              <a:rPr b="0" lang="en-US" sz="1800" spc="-1" strike="noStrike">
                <a:solidFill>
                  <a:srgbClr val="5c5c5c"/>
                </a:solidFill>
                <a:latin typeface="Arial"/>
                <a:ea typeface="Times New Roman"/>
              </a:rPr>
              <a:t>(videotel. Q.13/12)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42720" y="306360"/>
            <a:ext cx="85597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5ba2"/>
                </a:solidFill>
                <a:latin typeface="Verdana"/>
              </a:rPr>
              <a:t>Instrumental quality assessment</a:t>
            </a:r>
            <a:br>
              <a:rPr sz="2800"/>
            </a:br>
            <a:r>
              <a:rPr b="1" lang="en-US" sz="2800" spc="-1" strike="noStrike">
                <a:solidFill>
                  <a:srgbClr val="1b5ba2"/>
                </a:solidFill>
                <a:latin typeface="Verdana"/>
              </a:rPr>
              <a:t>Hybrid models</a:t>
            </a:r>
            <a:endParaRPr b="1" lang="en-US" sz="2800" spc="-1" strike="noStrike">
              <a:solidFill>
                <a:srgbClr val="1b5ba2"/>
              </a:solidFill>
              <a:latin typeface="Verdan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193920" y="3379680"/>
            <a:ext cx="1202040" cy="11797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0000" y="3289320"/>
            <a:ext cx="1123920" cy="12175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2152800" y="2382840"/>
            <a:ext cx="5197320" cy="31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4425840" y="4897440"/>
            <a:ext cx="978120" cy="658800"/>
          </a:xfrm>
          <a:prstGeom prst="rect">
            <a:avLst/>
          </a:prstGeom>
          <a:gradFill rotWithShape="0">
            <a:gsLst>
              <a:gs pos="0">
                <a:srgbClr val="abdca0"/>
              </a:gs>
              <a:gs pos="100000">
                <a:srgbClr val="366125"/>
              </a:gs>
            </a:gsLst>
            <a:lin ang="5400000"/>
          </a:gradFill>
          <a:ln w="9360">
            <a:solidFill>
              <a:srgbClr val="264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odel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3416400" y="4197240"/>
            <a:ext cx="833400" cy="781200"/>
          </a:xfrm>
          <a:prstGeom prst="line">
            <a:avLst/>
          </a:prstGeom>
          <a:ln w="31680">
            <a:solidFill>
              <a:srgbClr val="1b5ba2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59" name=""/>
          <p:cNvSpPr/>
          <p:nvPr/>
        </p:nvSpPr>
        <p:spPr>
          <a:xfrm>
            <a:off x="1822320" y="3392640"/>
            <a:ext cx="507960" cy="458640"/>
          </a:xfrm>
          <a:custGeom>
            <a:avLst/>
            <a:gdLst/>
            <a:ahLst/>
            <a:rect l="l" t="t" r="r" b="b"/>
            <a:pathLst>
              <a:path w="5101" h="3028">
                <a:moveTo>
                  <a:pt x="0" y="1466"/>
                </a:moveTo>
                <a:cubicBezTo>
                  <a:pt x="38" y="1346"/>
                  <a:pt x="13" y="1215"/>
                  <a:pt x="51" y="1095"/>
                </a:cubicBezTo>
                <a:cubicBezTo>
                  <a:pt x="64" y="997"/>
                  <a:pt x="91" y="896"/>
                  <a:pt x="115" y="800"/>
                </a:cubicBezTo>
                <a:cubicBezTo>
                  <a:pt x="117" y="792"/>
                  <a:pt x="120" y="783"/>
                  <a:pt x="122" y="775"/>
                </a:cubicBezTo>
                <a:cubicBezTo>
                  <a:pt x="126" y="758"/>
                  <a:pt x="130" y="741"/>
                  <a:pt x="134" y="724"/>
                </a:cubicBezTo>
                <a:cubicBezTo>
                  <a:pt x="140" y="700"/>
                  <a:pt x="154" y="653"/>
                  <a:pt x="154" y="653"/>
                </a:cubicBezTo>
                <a:cubicBezTo>
                  <a:pt x="167" y="558"/>
                  <a:pt x="201" y="463"/>
                  <a:pt x="230" y="372"/>
                </a:cubicBezTo>
                <a:cubicBezTo>
                  <a:pt x="232" y="357"/>
                  <a:pt x="232" y="341"/>
                  <a:pt x="237" y="327"/>
                </a:cubicBezTo>
                <a:cubicBezTo>
                  <a:pt x="239" y="320"/>
                  <a:pt x="247" y="315"/>
                  <a:pt x="250" y="308"/>
                </a:cubicBezTo>
                <a:cubicBezTo>
                  <a:pt x="281" y="229"/>
                  <a:pt x="291" y="153"/>
                  <a:pt x="346" y="84"/>
                </a:cubicBezTo>
                <a:cubicBezTo>
                  <a:pt x="358" y="45"/>
                  <a:pt x="384" y="14"/>
                  <a:pt x="422" y="0"/>
                </a:cubicBezTo>
                <a:cubicBezTo>
                  <a:pt x="432" y="15"/>
                  <a:pt x="446" y="29"/>
                  <a:pt x="454" y="45"/>
                </a:cubicBezTo>
                <a:cubicBezTo>
                  <a:pt x="473" y="82"/>
                  <a:pt x="482" y="117"/>
                  <a:pt x="506" y="154"/>
                </a:cubicBezTo>
                <a:cubicBezTo>
                  <a:pt x="526" y="185"/>
                  <a:pt x="555" y="223"/>
                  <a:pt x="570" y="256"/>
                </a:cubicBezTo>
                <a:cubicBezTo>
                  <a:pt x="587" y="292"/>
                  <a:pt x="597" y="329"/>
                  <a:pt x="614" y="365"/>
                </a:cubicBezTo>
                <a:cubicBezTo>
                  <a:pt x="639" y="523"/>
                  <a:pt x="644" y="686"/>
                  <a:pt x="659" y="845"/>
                </a:cubicBezTo>
                <a:cubicBezTo>
                  <a:pt x="665" y="1212"/>
                  <a:pt x="657" y="1579"/>
                  <a:pt x="666" y="1946"/>
                </a:cubicBezTo>
                <a:cubicBezTo>
                  <a:pt x="670" y="2113"/>
                  <a:pt x="675" y="2268"/>
                  <a:pt x="685" y="2432"/>
                </a:cubicBezTo>
                <a:cubicBezTo>
                  <a:pt x="691" y="2533"/>
                  <a:pt x="683" y="2642"/>
                  <a:pt x="717" y="2740"/>
                </a:cubicBezTo>
                <a:cubicBezTo>
                  <a:pt x="723" y="2782"/>
                  <a:pt x="723" y="2841"/>
                  <a:pt x="742" y="2880"/>
                </a:cubicBezTo>
                <a:cubicBezTo>
                  <a:pt x="753" y="2902"/>
                  <a:pt x="764" y="2921"/>
                  <a:pt x="774" y="2944"/>
                </a:cubicBezTo>
                <a:cubicBezTo>
                  <a:pt x="791" y="2984"/>
                  <a:pt x="795" y="3012"/>
                  <a:pt x="838" y="3028"/>
                </a:cubicBezTo>
                <a:cubicBezTo>
                  <a:pt x="909" y="3012"/>
                  <a:pt x="919" y="3007"/>
                  <a:pt x="960" y="2944"/>
                </a:cubicBezTo>
                <a:cubicBezTo>
                  <a:pt x="968" y="2919"/>
                  <a:pt x="974" y="2897"/>
                  <a:pt x="986" y="2874"/>
                </a:cubicBezTo>
                <a:cubicBezTo>
                  <a:pt x="995" y="2795"/>
                  <a:pt x="1025" y="2700"/>
                  <a:pt x="1050" y="2624"/>
                </a:cubicBezTo>
                <a:cubicBezTo>
                  <a:pt x="1064" y="2583"/>
                  <a:pt x="1062" y="2542"/>
                  <a:pt x="1082" y="2503"/>
                </a:cubicBezTo>
                <a:cubicBezTo>
                  <a:pt x="1098" y="2417"/>
                  <a:pt x="1117" y="2333"/>
                  <a:pt x="1133" y="2247"/>
                </a:cubicBezTo>
                <a:cubicBezTo>
                  <a:pt x="1137" y="1971"/>
                  <a:pt x="1152" y="1712"/>
                  <a:pt x="1171" y="1440"/>
                </a:cubicBezTo>
                <a:cubicBezTo>
                  <a:pt x="1168" y="1289"/>
                  <a:pt x="1163" y="1177"/>
                  <a:pt x="1152" y="1037"/>
                </a:cubicBezTo>
                <a:cubicBezTo>
                  <a:pt x="1158" y="917"/>
                  <a:pt x="1166" y="782"/>
                  <a:pt x="1203" y="666"/>
                </a:cubicBezTo>
                <a:cubicBezTo>
                  <a:pt x="1231" y="668"/>
                  <a:pt x="1260" y="663"/>
                  <a:pt x="1286" y="672"/>
                </a:cubicBezTo>
                <a:cubicBezTo>
                  <a:pt x="1295" y="675"/>
                  <a:pt x="1293" y="691"/>
                  <a:pt x="1299" y="698"/>
                </a:cubicBezTo>
                <a:cubicBezTo>
                  <a:pt x="1375" y="786"/>
                  <a:pt x="1287" y="662"/>
                  <a:pt x="1338" y="736"/>
                </a:cubicBezTo>
                <a:cubicBezTo>
                  <a:pt x="1348" y="770"/>
                  <a:pt x="1410" y="861"/>
                  <a:pt x="1434" y="896"/>
                </a:cubicBezTo>
                <a:cubicBezTo>
                  <a:pt x="1446" y="937"/>
                  <a:pt x="1455" y="970"/>
                  <a:pt x="1472" y="1012"/>
                </a:cubicBezTo>
                <a:cubicBezTo>
                  <a:pt x="1476" y="1023"/>
                  <a:pt x="1485" y="1044"/>
                  <a:pt x="1485" y="1044"/>
                </a:cubicBezTo>
                <a:cubicBezTo>
                  <a:pt x="1500" y="1123"/>
                  <a:pt x="1513" y="1202"/>
                  <a:pt x="1530" y="1280"/>
                </a:cubicBezTo>
                <a:cubicBezTo>
                  <a:pt x="1532" y="1408"/>
                  <a:pt x="1532" y="1536"/>
                  <a:pt x="1536" y="1664"/>
                </a:cubicBezTo>
                <a:cubicBezTo>
                  <a:pt x="1537" y="1709"/>
                  <a:pt x="1585" y="1739"/>
                  <a:pt x="1613" y="1767"/>
                </a:cubicBezTo>
                <a:cubicBezTo>
                  <a:pt x="1629" y="1783"/>
                  <a:pt x="1664" y="1812"/>
                  <a:pt x="1664" y="1812"/>
                </a:cubicBezTo>
                <a:cubicBezTo>
                  <a:pt x="1741" y="1759"/>
                  <a:pt x="1794" y="1612"/>
                  <a:pt x="1824" y="1524"/>
                </a:cubicBezTo>
                <a:cubicBezTo>
                  <a:pt x="1834" y="1459"/>
                  <a:pt x="1861" y="1400"/>
                  <a:pt x="1882" y="1338"/>
                </a:cubicBezTo>
                <a:cubicBezTo>
                  <a:pt x="1900" y="1284"/>
                  <a:pt x="1903" y="1225"/>
                  <a:pt x="1926" y="1172"/>
                </a:cubicBezTo>
                <a:cubicBezTo>
                  <a:pt x="1944" y="1130"/>
                  <a:pt x="1952" y="1075"/>
                  <a:pt x="1971" y="1037"/>
                </a:cubicBezTo>
                <a:cubicBezTo>
                  <a:pt x="1978" y="1023"/>
                  <a:pt x="1997" y="999"/>
                  <a:pt x="1997" y="999"/>
                </a:cubicBezTo>
                <a:cubicBezTo>
                  <a:pt x="2013" y="931"/>
                  <a:pt x="2068" y="863"/>
                  <a:pt x="2118" y="813"/>
                </a:cubicBezTo>
                <a:cubicBezTo>
                  <a:pt x="2150" y="829"/>
                  <a:pt x="2187" y="849"/>
                  <a:pt x="2202" y="884"/>
                </a:cubicBezTo>
                <a:cubicBezTo>
                  <a:pt x="2212" y="907"/>
                  <a:pt x="2219" y="931"/>
                  <a:pt x="2227" y="954"/>
                </a:cubicBezTo>
                <a:cubicBezTo>
                  <a:pt x="2229" y="960"/>
                  <a:pt x="2234" y="973"/>
                  <a:pt x="2234" y="973"/>
                </a:cubicBezTo>
                <a:cubicBezTo>
                  <a:pt x="2238" y="1018"/>
                  <a:pt x="2242" y="1063"/>
                  <a:pt x="2246" y="1108"/>
                </a:cubicBezTo>
                <a:cubicBezTo>
                  <a:pt x="2253" y="1186"/>
                  <a:pt x="2250" y="1265"/>
                  <a:pt x="2253" y="1344"/>
                </a:cubicBezTo>
                <a:cubicBezTo>
                  <a:pt x="2254" y="1370"/>
                  <a:pt x="2257" y="1395"/>
                  <a:pt x="2259" y="1421"/>
                </a:cubicBezTo>
                <a:cubicBezTo>
                  <a:pt x="2268" y="1529"/>
                  <a:pt x="2279" y="1748"/>
                  <a:pt x="2381" y="1818"/>
                </a:cubicBezTo>
                <a:cubicBezTo>
                  <a:pt x="2402" y="1797"/>
                  <a:pt x="2425" y="1782"/>
                  <a:pt x="2445" y="1760"/>
                </a:cubicBezTo>
                <a:cubicBezTo>
                  <a:pt x="2489" y="1710"/>
                  <a:pt x="2506" y="1649"/>
                  <a:pt x="2541" y="1594"/>
                </a:cubicBezTo>
                <a:cubicBezTo>
                  <a:pt x="2581" y="1531"/>
                  <a:pt x="2604" y="1468"/>
                  <a:pt x="2637" y="1402"/>
                </a:cubicBezTo>
                <a:cubicBezTo>
                  <a:pt x="2645" y="1366"/>
                  <a:pt x="2662" y="1320"/>
                  <a:pt x="2694" y="1300"/>
                </a:cubicBezTo>
                <a:cubicBezTo>
                  <a:pt x="2730" y="1228"/>
                  <a:pt x="2682" y="1316"/>
                  <a:pt x="2726" y="1255"/>
                </a:cubicBezTo>
                <a:cubicBezTo>
                  <a:pt x="2758" y="1211"/>
                  <a:pt x="2775" y="1178"/>
                  <a:pt x="2822" y="1146"/>
                </a:cubicBezTo>
                <a:cubicBezTo>
                  <a:pt x="2831" y="1140"/>
                  <a:pt x="2834" y="1127"/>
                  <a:pt x="2842" y="1120"/>
                </a:cubicBezTo>
                <a:cubicBezTo>
                  <a:pt x="2849" y="1114"/>
                  <a:pt x="2859" y="1112"/>
                  <a:pt x="2867" y="1108"/>
                </a:cubicBezTo>
                <a:cubicBezTo>
                  <a:pt x="2905" y="1117"/>
                  <a:pt x="2901" y="1115"/>
                  <a:pt x="2918" y="1146"/>
                </a:cubicBezTo>
                <a:cubicBezTo>
                  <a:pt x="2928" y="1164"/>
                  <a:pt x="2939" y="1180"/>
                  <a:pt x="2950" y="1197"/>
                </a:cubicBezTo>
                <a:cubicBezTo>
                  <a:pt x="2954" y="1203"/>
                  <a:pt x="2963" y="1216"/>
                  <a:pt x="2963" y="1216"/>
                </a:cubicBezTo>
                <a:cubicBezTo>
                  <a:pt x="2981" y="1282"/>
                  <a:pt x="2993" y="1349"/>
                  <a:pt x="3008" y="1415"/>
                </a:cubicBezTo>
                <a:cubicBezTo>
                  <a:pt x="3014" y="1473"/>
                  <a:pt x="3023" y="1528"/>
                  <a:pt x="3046" y="1581"/>
                </a:cubicBezTo>
                <a:cubicBezTo>
                  <a:pt x="3064" y="1623"/>
                  <a:pt x="3036" y="1575"/>
                  <a:pt x="3078" y="1639"/>
                </a:cubicBezTo>
                <a:cubicBezTo>
                  <a:pt x="3082" y="1645"/>
                  <a:pt x="3091" y="1658"/>
                  <a:pt x="3091" y="1658"/>
                </a:cubicBezTo>
                <a:cubicBezTo>
                  <a:pt x="3139" y="1647"/>
                  <a:pt x="3168" y="1603"/>
                  <a:pt x="3200" y="1568"/>
                </a:cubicBezTo>
                <a:cubicBezTo>
                  <a:pt x="3230" y="1535"/>
                  <a:pt x="3264" y="1504"/>
                  <a:pt x="3296" y="1472"/>
                </a:cubicBezTo>
                <a:cubicBezTo>
                  <a:pt x="3313" y="1455"/>
                  <a:pt x="3337" y="1445"/>
                  <a:pt x="3354" y="1428"/>
                </a:cubicBezTo>
                <a:cubicBezTo>
                  <a:pt x="3405" y="1377"/>
                  <a:pt x="3444" y="1324"/>
                  <a:pt x="3501" y="1280"/>
                </a:cubicBezTo>
                <a:cubicBezTo>
                  <a:pt x="3592" y="1300"/>
                  <a:pt x="3568" y="1400"/>
                  <a:pt x="3667" y="1428"/>
                </a:cubicBezTo>
                <a:cubicBezTo>
                  <a:pt x="3693" y="1426"/>
                  <a:pt x="3718" y="1424"/>
                  <a:pt x="3744" y="1421"/>
                </a:cubicBezTo>
                <a:cubicBezTo>
                  <a:pt x="3788" y="1415"/>
                  <a:pt x="3831" y="1393"/>
                  <a:pt x="3872" y="1376"/>
                </a:cubicBezTo>
                <a:cubicBezTo>
                  <a:pt x="3904" y="1362"/>
                  <a:pt x="3947" y="1356"/>
                  <a:pt x="3981" y="1351"/>
                </a:cubicBezTo>
                <a:cubicBezTo>
                  <a:pt x="4108" y="1355"/>
                  <a:pt x="4161" y="1341"/>
                  <a:pt x="4256" y="1389"/>
                </a:cubicBezTo>
                <a:cubicBezTo>
                  <a:pt x="4294" y="1441"/>
                  <a:pt x="4253" y="1390"/>
                  <a:pt x="4307" y="1440"/>
                </a:cubicBezTo>
                <a:cubicBezTo>
                  <a:pt x="4325" y="1457"/>
                  <a:pt x="4341" y="1475"/>
                  <a:pt x="4358" y="1492"/>
                </a:cubicBezTo>
                <a:cubicBezTo>
                  <a:pt x="4361" y="1495"/>
                  <a:pt x="4415" y="1517"/>
                  <a:pt x="4416" y="1517"/>
                </a:cubicBezTo>
                <a:cubicBezTo>
                  <a:pt x="4479" y="1549"/>
                  <a:pt x="4529" y="1550"/>
                  <a:pt x="4602" y="1556"/>
                </a:cubicBezTo>
                <a:cubicBezTo>
                  <a:pt x="4696" y="1552"/>
                  <a:pt x="4763" y="1542"/>
                  <a:pt x="4851" y="1530"/>
                </a:cubicBezTo>
                <a:cubicBezTo>
                  <a:pt x="4873" y="1523"/>
                  <a:pt x="4893" y="1512"/>
                  <a:pt x="4915" y="1504"/>
                </a:cubicBezTo>
                <a:cubicBezTo>
                  <a:pt x="4953" y="1506"/>
                  <a:pt x="4992" y="1507"/>
                  <a:pt x="5030" y="1511"/>
                </a:cubicBezTo>
                <a:cubicBezTo>
                  <a:pt x="5054" y="1514"/>
                  <a:pt x="5101" y="1524"/>
                  <a:pt x="5101" y="1524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60" name=""/>
          <p:cNvSpPr/>
          <p:nvPr/>
        </p:nvSpPr>
        <p:spPr>
          <a:xfrm>
            <a:off x="2293920" y="3706920"/>
            <a:ext cx="1482840" cy="520560"/>
          </a:xfrm>
          <a:prstGeom prst="rect">
            <a:avLst/>
          </a:prstGeom>
          <a:gradFill rotWithShape="0">
            <a:gsLst>
              <a:gs pos="0">
                <a:srgbClr val="a1c1db"/>
              </a:gs>
              <a:gs pos="100000">
                <a:srgbClr val="264660"/>
              </a:gs>
            </a:gsLst>
            <a:lin ang="5400000"/>
          </a:gradFill>
          <a:ln w="9360">
            <a:solidFill>
              <a:srgbClr val="264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Transmission-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System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192560" y="3987720"/>
            <a:ext cx="276120" cy="0"/>
          </a:xfrm>
          <a:prstGeom prst="line">
            <a:avLst/>
          </a:prstGeom>
          <a:ln w="31680">
            <a:solidFill>
              <a:srgbClr val="1b5ba2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1879560" y="3987720"/>
            <a:ext cx="414360" cy="0"/>
          </a:xfrm>
          <a:prstGeom prst="line">
            <a:avLst/>
          </a:prstGeom>
          <a:ln w="31680">
            <a:solidFill>
              <a:srgbClr val="1b5ba2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63" name=""/>
          <p:cNvSpPr/>
          <p:nvPr/>
        </p:nvSpPr>
        <p:spPr>
          <a:xfrm>
            <a:off x="258840" y="3584520"/>
            <a:ext cx="201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5c5c5c"/>
                </a:solidFill>
                <a:latin typeface="Arial"/>
                <a:ea typeface="Times New Roman"/>
              </a:rPr>
              <a:t>Source video signal</a:t>
            </a:r>
            <a:br>
              <a:rPr sz="1600"/>
            </a:br>
            <a:r>
              <a:rPr b="0" lang="de-DE" sz="1600" spc="-1" strike="noStrike">
                <a:solidFill>
                  <a:srgbClr val="5c5c5c"/>
                </a:solidFill>
                <a:latin typeface="Arial"/>
                <a:ea typeface="Times New Roman"/>
              </a:rPr>
              <a:t>(SRC)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64" name=""/>
          <p:cNvSpPr/>
          <p:nvPr/>
        </p:nvSpPr>
        <p:spPr>
          <a:xfrm>
            <a:off x="5981760" y="3646440"/>
            <a:ext cx="140328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5c5c5c"/>
                </a:solidFill>
                <a:latin typeface="Arial"/>
                <a:ea typeface="Times New Roman"/>
              </a:rPr>
              <a:t>Subjective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5c5c5c"/>
                </a:solidFill>
                <a:latin typeface="Arial"/>
                <a:ea typeface="Times New Roman"/>
              </a:rPr>
              <a:t>quality-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5c5c5c"/>
                </a:solidFill>
                <a:latin typeface="Arial"/>
                <a:ea typeface="Times New Roman"/>
              </a:rPr>
              <a:t>rating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65" name=""/>
          <p:cNvSpPr/>
          <p:nvPr/>
        </p:nvSpPr>
        <p:spPr>
          <a:xfrm>
            <a:off x="5245200" y="3987720"/>
            <a:ext cx="414360" cy="0"/>
          </a:xfrm>
          <a:prstGeom prst="line">
            <a:avLst/>
          </a:prstGeom>
          <a:ln w="31680">
            <a:solidFill>
              <a:srgbClr val="1b5ba2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66" name=""/>
          <p:cNvSpPr/>
          <p:nvPr/>
        </p:nvSpPr>
        <p:spPr>
          <a:xfrm>
            <a:off x="5937120" y="4897440"/>
            <a:ext cx="1460520" cy="658800"/>
          </a:xfrm>
          <a:prstGeom prst="rect">
            <a:avLst/>
          </a:prstGeom>
          <a:gradFill rotWithShape="0">
            <a:gsLst>
              <a:gs pos="0">
                <a:srgbClr val="abdca0"/>
              </a:gs>
              <a:gs pos="100000">
                <a:srgbClr val="366125"/>
              </a:gs>
            </a:gsLst>
            <a:lin ang="5400000"/>
          </a:gradFill>
          <a:ln w="9360">
            <a:solidFill>
              <a:srgbClr val="264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Estimated quality index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1592280" y="4575240"/>
            <a:ext cx="24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5c5c5c"/>
                </a:solidFill>
                <a:latin typeface="Arial"/>
                <a:ea typeface="Times New Roman"/>
              </a:rPr>
              <a:t>Bitstream / Parameters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5423040" y="5238720"/>
            <a:ext cx="502920" cy="1440"/>
          </a:xfrm>
          <a:prstGeom prst="line">
            <a:avLst/>
          </a:prstGeom>
          <a:ln w="31680">
            <a:solidFill>
              <a:srgbClr val="1b5ba2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69" name=""/>
          <p:cNvSpPr/>
          <p:nvPr/>
        </p:nvSpPr>
        <p:spPr>
          <a:xfrm>
            <a:off x="6002280" y="1700280"/>
            <a:ext cx="2551320" cy="1382760"/>
          </a:xfrm>
          <a:prstGeom prst="rect">
            <a:avLst/>
          </a:prstGeom>
          <a:noFill/>
          <a:ln w="19080">
            <a:solidFill>
              <a:srgbClr val="3661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0" anchor="t">
            <a:noAutofit/>
          </a:bodyPr>
          <a:p>
            <a:pPr marL="287280" indent="-189000">
              <a:lnSpc>
                <a:spcPct val="9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Arial"/>
                <a:ea typeface="Times New Roman"/>
              </a:rPr>
              <a:t>Models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  <a:p>
            <a:pPr marL="287280" indent="-189000">
              <a:lnSpc>
                <a:spcPct val="90000"/>
              </a:lnSpc>
              <a:spcAft>
                <a:spcPts val="675"/>
              </a:spcAft>
              <a:buClr>
                <a:srgbClr val="5c5c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Arial"/>
                <a:ea typeface="Times New Roman"/>
              </a:rPr>
              <a:t>VQEG Hybrid project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  <a:p>
            <a:pPr marL="287280" indent="-189000">
              <a:lnSpc>
                <a:spcPct val="90000"/>
              </a:lnSpc>
              <a:spcAft>
                <a:spcPts val="675"/>
              </a:spcAft>
              <a:buClr>
                <a:srgbClr val="5c5c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5c5c"/>
                </a:solidFill>
                <a:latin typeface="Arial"/>
                <a:ea typeface="Times New Roman"/>
              </a:rPr>
              <a:t>VQEG Joint Effort Group (JEG)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3975120" y="4108320"/>
            <a:ext cx="274680" cy="870120"/>
          </a:xfrm>
          <a:prstGeom prst="line">
            <a:avLst/>
          </a:prstGeom>
          <a:ln w="31680">
            <a:solidFill>
              <a:srgbClr val="1b5ba2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4145040" y="4575240"/>
            <a:ext cx="225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600" spc="-1" strike="noStrike">
                <a:solidFill>
                  <a:srgbClr val="5c5c5c"/>
                </a:solidFill>
                <a:latin typeface="Arial"/>
                <a:ea typeface="Times New Roman"/>
              </a:rPr>
              <a:t>Degraded video signal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1"/>
          <p:cNvSpPr/>
          <p:nvPr/>
        </p:nvSpPr>
        <p:spPr>
          <a:xfrm>
            <a:off x="8547480" y="6404040"/>
            <a:ext cx="799560" cy="26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8903-96A3-4305-8C35-1FA184585F11}" type="slidenum">
              <a:rPr b="0" lang="en-US" sz="1000" spc="-1" strike="noStrike">
                <a:solidFill>
                  <a:srgbClr val="0e438a"/>
                </a:solidFill>
                <a:latin typeface="Zurich BT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428760" y="1643040"/>
            <a:ext cx="850104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Overview Video-related standardization </a:t>
            </a:r>
            <a:br>
              <a:rPr sz="2400"/>
            </a:b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in ITU-T &amp; ITU-R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Overview active bodies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ITU-T SG9 &amp; 12 – Video-related questions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asks Q.13/12 &amp; Q.14/12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Subjective quality assessment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b5ba2"/>
                </a:solidFill>
                <a:latin typeface="Arial"/>
              </a:rPr>
              <a:t>Instrumental quality assessment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Overview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b5ba2"/>
                </a:solidFill>
                <a:latin typeface="Arial"/>
              </a:rPr>
              <a:t>P.NAMS/P.NBAMS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74" name=""/>
          <p:cNvSpPr/>
          <p:nvPr/>
        </p:nvSpPr>
        <p:spPr>
          <a:xfrm>
            <a:off x="343080" y="306360"/>
            <a:ext cx="8559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5ba2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646464"/>
              </a:solidFill>
              <a:latin typeface="Verdana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5877000"/>
            <a:ext cx="914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42720" y="306360"/>
            <a:ext cx="85597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5ba2"/>
                </a:solidFill>
                <a:latin typeface="Verdana"/>
              </a:rPr>
              <a:t>P.NAMS/P.NBAMS</a:t>
            </a:r>
            <a:br>
              <a:rPr sz="2800"/>
            </a:br>
            <a:r>
              <a:rPr b="1" lang="en-US" sz="2800" spc="-1" strike="noStrike">
                <a:solidFill>
                  <a:srgbClr val="1b5ba2"/>
                </a:solidFill>
                <a:latin typeface="Verdana"/>
              </a:rPr>
              <a:t>Application areas</a:t>
            </a:r>
            <a:endParaRPr b="1" lang="en-US" sz="2800" spc="-1" strike="noStrike">
              <a:solidFill>
                <a:srgbClr val="1b5ba2"/>
              </a:solidFill>
              <a:latin typeface="Verdana"/>
            </a:endParaRPr>
          </a:p>
        </p:txBody>
      </p:sp>
      <p:sp>
        <p:nvSpPr>
          <p:cNvPr id="277" name="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23640" y="1486080"/>
            <a:ext cx="85136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c5c5c"/>
                </a:solidFill>
                <a:latin typeface="Arial"/>
                <a:ea typeface="ＭＳ Ｐゴシック"/>
              </a:rPr>
              <a:t>Two application areas</a:t>
            </a:r>
            <a:endParaRPr b="0" lang="en-US" sz="1800" spc="-1" strike="noStrike">
              <a:solidFill>
                <a:srgbClr val="5c5c5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c5c5c"/>
                </a:solidFill>
                <a:latin typeface="Arial"/>
                <a:ea typeface="ＭＳ Ｐゴシック"/>
              </a:rPr>
              <a:t>QCIF-QVGA ("low bitrate mode", LBR)</a:t>
            </a:r>
            <a:endParaRPr b="0" lang="en-US" sz="1800" spc="-1" strike="noStrike">
              <a:solidFill>
                <a:srgbClr val="5c5c5c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c5c5c"/>
                </a:solidFill>
                <a:latin typeface="Arial"/>
                <a:ea typeface="ＭＳ Ｐゴシック"/>
              </a:rPr>
              <a:t>Linear Mobile TV over RTP </a:t>
            </a:r>
            <a:br>
              <a:rPr sz="1800"/>
            </a:br>
            <a:r>
              <a:rPr b="0" lang="en-GB" sz="1800" spc="-1" strike="noStrike">
                <a:solidFill>
                  <a:srgbClr val="5c5c5c"/>
                </a:solidFill>
                <a:latin typeface="Arial"/>
                <a:ea typeface="ＭＳ Ｐゴシック"/>
              </a:rPr>
              <a:t>(Mobile TV over a 3G mobile network with MBMS &amp; with unicast, RTP/UDP/IP)</a:t>
            </a:r>
            <a:endParaRPr b="0" lang="en-US" sz="1800" spc="-1" strike="noStrike">
              <a:solidFill>
                <a:srgbClr val="5c5c5c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c5c5c"/>
                </a:solidFill>
                <a:latin typeface="Arial"/>
                <a:ea typeface="ＭＳ Ｐゴシック"/>
              </a:rPr>
              <a:t>Multimedia streaming </a:t>
            </a:r>
            <a:br>
              <a:rPr sz="1800"/>
            </a:br>
            <a:r>
              <a:rPr b="0" lang="en-GB" sz="1800" spc="-1" strike="noStrike">
                <a:solidFill>
                  <a:srgbClr val="5c5c5c"/>
                </a:solidFill>
                <a:latin typeface="Arial"/>
                <a:ea typeface="ＭＳ Ｐゴシック"/>
              </a:rPr>
              <a:t>(3GPP PSS, RTP/UDP/IP)</a:t>
            </a:r>
            <a:endParaRPr b="0" lang="en-US" sz="1800" spc="-1" strike="noStrike">
              <a:solidFill>
                <a:srgbClr val="5c5c5c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c5c5c"/>
                </a:solidFill>
                <a:latin typeface="Arial"/>
                <a:ea typeface="ＭＳ Ｐゴシック"/>
              </a:rPr>
              <a:t>Progressive download </a:t>
            </a:r>
            <a:br>
              <a:rPr sz="1800"/>
            </a:br>
            <a:r>
              <a:rPr b="0" lang="en-GB" sz="1800" spc="-1" strike="noStrike">
                <a:solidFill>
                  <a:srgbClr val="5c5c5c"/>
                </a:solidFill>
                <a:latin typeface="Arial"/>
                <a:ea typeface="ＭＳ Ｐゴシック"/>
              </a:rPr>
              <a:t>(e.g. HTTP/TCP/IP, [RTP/]TCP/IP)</a:t>
            </a:r>
            <a:endParaRPr b="0" lang="en-US" sz="1800" spc="-1" strike="noStrike">
              <a:solidFill>
                <a:srgbClr val="5c5c5c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c5c5c"/>
                </a:solidFill>
                <a:latin typeface="Arial"/>
                <a:ea typeface="ＭＳ Ｐゴシック"/>
              </a:rPr>
              <a:t>SD and HD television ("high bitrate mode", HBR)</a:t>
            </a:r>
            <a:endParaRPr b="0" lang="en-US" sz="1800" spc="-1" strike="noStrike">
              <a:solidFill>
                <a:srgbClr val="5c5c5c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c5c5c"/>
                </a:solidFill>
                <a:latin typeface="Arial"/>
                <a:ea typeface="ＭＳ Ｐゴシック"/>
              </a:rPr>
              <a:t>Linear broadcast TV </a:t>
            </a:r>
            <a:br>
              <a:rPr sz="1800"/>
            </a:br>
            <a:r>
              <a:rPr b="0" lang="en-GB" sz="1800" spc="-1" strike="noStrike">
                <a:solidFill>
                  <a:srgbClr val="5c5c5c"/>
                </a:solidFill>
                <a:latin typeface="Arial"/>
                <a:ea typeface="ＭＳ Ｐゴシック"/>
              </a:rPr>
              <a:t>(MPEG2-TS/RTP/UDP/IP, MPEG2-TS/UDP/IP &amp; RTP/UDP/IP)</a:t>
            </a:r>
            <a:endParaRPr b="0" lang="en-US" sz="1800" spc="-1" strike="noStrike">
              <a:solidFill>
                <a:srgbClr val="5c5c5c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c5c5c"/>
                </a:solidFill>
                <a:latin typeface="Arial"/>
                <a:ea typeface="ＭＳ Ｐゴシック"/>
              </a:rPr>
              <a:t>Video on-demand </a:t>
            </a:r>
            <a:br>
              <a:rPr sz="1800"/>
            </a:br>
            <a:r>
              <a:rPr b="0" lang="en-GB" sz="1800" spc="-1" strike="noStrike">
                <a:solidFill>
                  <a:srgbClr val="5c5c5c"/>
                </a:solidFill>
                <a:latin typeface="Arial"/>
                <a:ea typeface="ＭＳ Ｐゴシック"/>
              </a:rPr>
              <a:t>(MPEG2-TS/RTP/UDP/IP, MPEG2-TS/UDP/IP &amp; RTP/UDP/IP)</a:t>
            </a:r>
            <a:endParaRPr b="0" lang="en-US" sz="1800" spc="-1" strike="noStrike">
              <a:solidFill>
                <a:srgbClr val="5c5c5c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c5c5c"/>
                </a:solidFill>
                <a:latin typeface="Arial"/>
                <a:ea typeface="ＭＳ Ｐゴシック"/>
              </a:rPr>
              <a:t>Progressive download </a:t>
            </a:r>
            <a:br>
              <a:rPr sz="1800"/>
            </a:br>
            <a:r>
              <a:rPr b="0" lang="en-GB" sz="1800" spc="-1" strike="noStrike">
                <a:solidFill>
                  <a:srgbClr val="5c5c5c"/>
                </a:solidFill>
                <a:latin typeface="Arial"/>
                <a:ea typeface="ＭＳ Ｐゴシック"/>
              </a:rPr>
              <a:t>(HTTP/TCP/IP, MPEG2-TS/TCP/IP or [RTP/]TCP/IP)</a:t>
            </a:r>
            <a:endParaRPr b="0" lang="en-US" sz="1800" spc="-1" strike="noStrike">
              <a:solidFill>
                <a:srgbClr val="5c5c5c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1"/>
          <p:cNvSpPr/>
          <p:nvPr/>
        </p:nvSpPr>
        <p:spPr>
          <a:xfrm>
            <a:off x="8582400" y="6404040"/>
            <a:ext cx="799560" cy="26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1722-D4E7-43E0-BA57-C953AFBDBBE5}" type="slidenum">
              <a:rPr b="0" lang="en-US" sz="1000" spc="-1" strike="noStrike">
                <a:solidFill>
                  <a:srgbClr val="0e438a"/>
                </a:solidFill>
                <a:latin typeface="Zurich BT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428760" y="1643040"/>
            <a:ext cx="850104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Overview Video-related standardization </a:t>
            </a:r>
            <a:br>
              <a:rPr sz="2400"/>
            </a:b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in ITU-T &amp; ITU-R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Overview active bodies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ITU-T SG9 &amp; 12 – Video-related questions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asks Q.13/12 &amp; Q.14/12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Subjective quality assessment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Instrumental quality assessment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343080" y="306360"/>
            <a:ext cx="8559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5ba2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646464"/>
              </a:solidFill>
              <a:latin typeface="Verdan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5877000"/>
            <a:ext cx="914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79360" y="2808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5ba2"/>
                </a:solidFill>
                <a:latin typeface="Verdana"/>
              </a:rPr>
              <a:t>P.NAMS/P.NBAMS ToR </a:t>
            </a:r>
            <a:br>
              <a:rPr sz="2800"/>
            </a:br>
            <a:r>
              <a:rPr b="1" lang="en-US" sz="2800" spc="-1" strike="noStrike">
                <a:solidFill>
                  <a:srgbClr val="1b5ba2"/>
                </a:solidFill>
                <a:latin typeface="Verdana"/>
              </a:rPr>
              <a:t>Modes of operation</a:t>
            </a:r>
            <a:endParaRPr b="1" lang="en-US" sz="2800" spc="-1" strike="noStrike">
              <a:solidFill>
                <a:srgbClr val="1b5ba2"/>
              </a:solidFill>
              <a:latin typeface="Verdana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460440" y="1309680"/>
            <a:ext cx="3390840" cy="11905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427640" y="1309680"/>
            <a:ext cx="3438360" cy="15908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68360" y="3454560"/>
            <a:ext cx="3705120" cy="15904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4284720" y="3454560"/>
            <a:ext cx="4429080" cy="17427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0" y="-15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13360" y="2968920"/>
            <a:ext cx="8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504720"/>
                <a:tab algn="l" pos="755640"/>
                <a:tab algn="l" pos="100800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c5c5c"/>
                </a:solidFill>
                <a:latin typeface="Arial"/>
                <a:ea typeface="ＭＳ Ｐゴシック"/>
              </a:rPr>
              <a:t>NN mode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4545720" y="2968920"/>
            <a:ext cx="8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504720"/>
                <a:tab algn="l" pos="755640"/>
                <a:tab algn="l" pos="100800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c5c5c"/>
                </a:solidFill>
                <a:latin typeface="Arial"/>
                <a:ea typeface="ＭＳ Ｐゴシック"/>
              </a:rPr>
              <a:t>BN mode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513360" y="5345640"/>
            <a:ext cx="8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504720"/>
                <a:tab algn="l" pos="755640"/>
                <a:tab algn="l" pos="100800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c5c5c"/>
                </a:solidFill>
                <a:latin typeface="Arial"/>
                <a:ea typeface="ＭＳ Ｐゴシック"/>
              </a:rPr>
              <a:t>CN mode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4545720" y="5345640"/>
            <a:ext cx="8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504720"/>
                <a:tab algn="l" pos="755640"/>
                <a:tab algn="l" pos="100800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c5c5c"/>
                </a:solidFill>
                <a:latin typeface="Arial"/>
                <a:ea typeface="ＭＳ Ｐゴシック"/>
              </a:rPr>
              <a:t>CC mode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530280" y="5835960"/>
            <a:ext cx="719280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444600"/>
                <a:tab algn="l" pos="755640"/>
                <a:tab algn="l" pos="901800"/>
                <a:tab algn="l" pos="1008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b5ba2"/>
                </a:solidFill>
                <a:latin typeface="Arial"/>
                <a:ea typeface="ＭＳ Ｐゴシック"/>
              </a:rPr>
              <a:t>XY</a:t>
            </a:r>
            <a:r>
              <a:rPr b="0" lang="en-GB" sz="1800" spc="-1" strike="noStrike">
                <a:solidFill>
                  <a:srgbClr val="5c5c5c"/>
                </a:solidFill>
                <a:latin typeface="Arial"/>
                <a:ea typeface="ＭＳ Ｐゴシック"/>
              </a:rPr>
              <a:t>:</a:t>
            </a:r>
            <a:r>
              <a:rPr b="0" lang="en-GB" sz="1800" spc="-1" strike="noStrike">
                <a:solidFill>
                  <a:srgbClr val="5c5c5c"/>
                </a:solidFill>
                <a:latin typeface="Arial"/>
                <a:ea typeface="ＭＳ Ｐゴシック"/>
              </a:rPr>
              <a:t>	</a:t>
            </a:r>
            <a:r>
              <a:rPr b="0" lang="en-GB" sz="1800" spc="-1" strike="noStrike">
                <a:solidFill>
                  <a:srgbClr val="5c5c5c"/>
                </a:solidFill>
                <a:latin typeface="Arial"/>
                <a:ea typeface="ＭＳ Ｐゴシック"/>
              </a:rPr>
              <a:t>X =</a:t>
            </a:r>
            <a:r>
              <a:rPr b="0" lang="en-GB" sz="1800" spc="-1" strike="noStrike">
                <a:solidFill>
                  <a:srgbClr val="5c5c5c"/>
                </a:solidFill>
                <a:latin typeface="Arial"/>
                <a:ea typeface="ＭＳ Ｐゴシック"/>
              </a:rPr>
              <a:t>	</a:t>
            </a:r>
            <a:r>
              <a:rPr b="0" lang="en-GB" sz="1800" spc="-1" strike="noStrike">
                <a:solidFill>
                  <a:srgbClr val="5c5c5c"/>
                </a:solidFill>
                <a:latin typeface="Arial"/>
                <a:ea typeface="ＭＳ Ｐゴシック"/>
              </a:rPr>
              <a:t>location of measurement </a:t>
            </a:r>
            <a:br>
              <a:rPr sz="1800"/>
            </a:br>
            <a:r>
              <a:rPr b="0" lang="en-GB" sz="1800" spc="-1" strike="noStrike">
                <a:solidFill>
                  <a:srgbClr val="5c5c5c"/>
                </a:solidFill>
                <a:latin typeface="Arial"/>
                <a:ea typeface="ＭＳ Ｐゴシック"/>
              </a:rPr>
              <a:t>	</a:t>
            </a:r>
            <a:r>
              <a:rPr b="0" lang="en-GB" sz="1800" spc="-1" strike="noStrike">
                <a:solidFill>
                  <a:srgbClr val="5c5c5c"/>
                </a:solidFill>
                <a:latin typeface="Arial"/>
                <a:ea typeface="ＭＳ Ｐゴシック"/>
              </a:rPr>
              <a:t>	</a:t>
            </a:r>
            <a:r>
              <a:rPr b="0" lang="en-GB" sz="1800" spc="-1" strike="noStrike">
                <a:solidFill>
                  <a:srgbClr val="5c5c5c"/>
                </a:solidFill>
                <a:latin typeface="Arial"/>
                <a:ea typeface="ＭＳ Ｐゴシック"/>
              </a:rPr>
              <a:t>	</a:t>
            </a:r>
            <a:r>
              <a:rPr b="0" lang="en-GB" sz="1800" spc="-1" strike="noStrike">
                <a:solidFill>
                  <a:srgbClr val="5c5c5c"/>
                </a:solidFill>
                <a:latin typeface="Arial"/>
                <a:ea typeface="ＭＳ Ｐゴシック"/>
              </a:rPr>
              <a:t>(N: Network, C: Client, B: Both network and client)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444600"/>
                <a:tab algn="l" pos="755640"/>
                <a:tab algn="l" pos="901800"/>
                <a:tab algn="l" pos="1008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c5c5c"/>
                </a:solidFill>
                <a:latin typeface="Arial"/>
                <a:ea typeface="ＭＳ Ｐゴシック"/>
              </a:rPr>
              <a:t>	</a:t>
            </a:r>
            <a:r>
              <a:rPr b="0" lang="en-GB" sz="1800" spc="-1" strike="noStrike">
                <a:solidFill>
                  <a:srgbClr val="5c5c5c"/>
                </a:solidFill>
                <a:latin typeface="Arial"/>
                <a:ea typeface="ＭＳ Ｐゴシック"/>
              </a:rPr>
              <a:t>Y = </a:t>
            </a:r>
            <a:r>
              <a:rPr b="0" lang="en-GB" sz="1800" spc="-1" strike="noStrike">
                <a:solidFill>
                  <a:srgbClr val="5c5c5c"/>
                </a:solidFill>
                <a:latin typeface="Arial"/>
                <a:ea typeface="ＭＳ Ｐゴシック"/>
              </a:rPr>
              <a:t>	</a:t>
            </a:r>
            <a:r>
              <a:rPr b="0" lang="en-GB" sz="1800" spc="-1" strike="noStrike">
                <a:solidFill>
                  <a:srgbClr val="5c5c5c"/>
                </a:solidFill>
                <a:latin typeface="Arial"/>
                <a:ea typeface="ＭＳ Ｐゴシック"/>
              </a:rPr>
              <a:t>location of model (N: Network, C: Client)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91" name="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>
            <a:off x="4095720" y="3233880"/>
            <a:ext cx="4608720" cy="2463480"/>
          </a:xfrm>
          <a:prstGeom prst="rect">
            <a:avLst/>
          </a:prstGeom>
          <a:noFill/>
          <a:ln w="19080">
            <a:solidFill>
              <a:srgbClr val="1b5b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5877000"/>
            <a:ext cx="914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94" name="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-15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7440480" cy="37576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391680" y="5970600"/>
            <a:ext cx="4249080" cy="5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20680" indent="-22068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5c5c"/>
                </a:solidFill>
                <a:latin typeface="Tele-GroteskNor"/>
              </a:rPr>
              <a:t>FEC: Forward Error Correction</a:t>
            </a:r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  <a:p>
            <a:pPr marL="220680" indent="-22068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5c5c"/>
                </a:solidFill>
                <a:latin typeface="Tele-GroteskNor"/>
              </a:rPr>
              <a:t>ARQ: Automatic Repeat reQuest</a:t>
            </a:r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79360" y="280800"/>
            <a:ext cx="864864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5ba2"/>
                </a:solidFill>
                <a:latin typeface="Verdana"/>
              </a:rPr>
              <a:t>P.NAMS/P.NBAMS &amp; error resilience Collaboration Q.14/12 &amp; Q.17/12</a:t>
            </a:r>
            <a:endParaRPr b="1" lang="en-US" sz="2800" spc="-1" strike="noStrike">
              <a:solidFill>
                <a:srgbClr val="1b5ba2"/>
              </a:solidFill>
              <a:latin typeface="Verdan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5877000"/>
            <a:ext cx="914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00" name="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-15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79360" y="280800"/>
            <a:ext cx="864864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5ba2"/>
                </a:solidFill>
                <a:latin typeface="Verdana"/>
              </a:rPr>
              <a:t>Q.14/12 important dates</a:t>
            </a:r>
            <a:endParaRPr b="1" lang="en-US" sz="2800" spc="-1" strike="noStrike">
              <a:solidFill>
                <a:srgbClr val="1b5ba2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-33840" bIns="-33840" anchor="ctr">
            <a:sp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272880" y="1147680"/>
            <a:ext cx="844740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46464"/>
                </a:solidFill>
                <a:latin typeface="Arial"/>
              </a:rPr>
              <a:t>P.NAMS</a:t>
            </a:r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  <a:p>
            <a:pPr marL="177840" indent="-177840">
              <a:lnSpc>
                <a:spcPct val="100000"/>
              </a:lnSpc>
              <a:buClr>
                <a:srgbClr val="646464"/>
              </a:buClr>
              <a:buFont typeface="Wingdings" charset="2"/>
              <a:buChar char=""/>
              <a:tabLst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Arial"/>
                <a:ea typeface="Times New Roman"/>
              </a:rPr>
              <a:t>Final announcement for proponents </a:t>
            </a:r>
            <a:r>
              <a:rPr b="0" lang="en-US" sz="2000" spc="-1" strike="noStrike">
                <a:solidFill>
                  <a:srgbClr val="646464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646464"/>
                </a:solidFill>
                <a:latin typeface="Arial"/>
                <a:ea typeface="Times New Roman"/>
              </a:rPr>
              <a:t>28 June 2010</a:t>
            </a:r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  <a:p>
            <a:pPr marL="177840" indent="-177840">
              <a:lnSpc>
                <a:spcPct val="100000"/>
              </a:lnSpc>
              <a:buClr>
                <a:srgbClr val="646464"/>
              </a:buClr>
              <a:buFont typeface="Wingdings" charset="2"/>
              <a:buChar char=""/>
              <a:tabLst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Arial"/>
                <a:ea typeface="Times New Roman"/>
              </a:rPr>
              <a:t>P.NAMS recommendation ready for consent</a:t>
            </a:r>
            <a:r>
              <a:rPr b="0" lang="en-US" sz="2000" spc="-1" strike="noStrike">
                <a:solidFill>
                  <a:srgbClr val="646464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646464"/>
                </a:solidFill>
                <a:latin typeface="Arial"/>
                <a:ea typeface="Times New Roman"/>
              </a:rPr>
              <a:t>14 October 2011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  <a:p>
            <a:pPr marL="177840" indent="-17784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c5c5c"/>
                </a:solidFill>
                <a:latin typeface="Arial"/>
                <a:ea typeface="Times New Roman"/>
              </a:rPr>
              <a:t>P.NBAMS</a:t>
            </a:r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  <a:p>
            <a:pPr marL="177840" indent="-177840">
              <a:lnSpc>
                <a:spcPct val="100000"/>
              </a:lnSpc>
              <a:buClr>
                <a:srgbClr val="646464"/>
              </a:buClr>
              <a:buFont typeface="Wingdings" charset="2"/>
              <a:buChar char=""/>
              <a:tabLst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Arial"/>
                <a:ea typeface="Times New Roman"/>
              </a:rPr>
              <a:t>Call for participation sent</a:t>
            </a:r>
            <a:r>
              <a:rPr b="0" lang="en-US" sz="2000" spc="-1" strike="noStrike">
                <a:solidFill>
                  <a:srgbClr val="646464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646464"/>
                </a:solidFill>
                <a:latin typeface="Arial"/>
                <a:ea typeface="Times New Roman"/>
              </a:rPr>
              <a:t>17 Sept. 2010</a:t>
            </a:r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  <a:p>
            <a:pPr marL="177840" indent="-177840">
              <a:lnSpc>
                <a:spcPct val="100000"/>
              </a:lnSpc>
              <a:buClr>
                <a:srgbClr val="646464"/>
              </a:buClr>
              <a:buFont typeface="Wingdings" charset="2"/>
              <a:buChar char=""/>
              <a:tabLst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Arial"/>
                <a:ea typeface="Times New Roman"/>
              </a:rPr>
              <a:t>Final announcement for proponents </a:t>
            </a:r>
            <a:r>
              <a:rPr b="0" lang="en-US" sz="2000" spc="-1" strike="noStrike">
                <a:solidFill>
                  <a:srgbClr val="646464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646464"/>
                </a:solidFill>
                <a:latin typeface="Arial"/>
                <a:ea typeface="Times New Roman"/>
              </a:rPr>
              <a:t>tbd</a:t>
            </a:r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  <a:p>
            <a:pPr marL="177840" indent="-177840">
              <a:lnSpc>
                <a:spcPct val="100000"/>
              </a:lnSpc>
              <a:buClr>
                <a:srgbClr val="646464"/>
              </a:buClr>
              <a:buFont typeface="Wingdings" charset="2"/>
              <a:buChar char=""/>
              <a:tabLst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Arial"/>
                <a:ea typeface="Times New Roman"/>
              </a:rPr>
              <a:t>P.NBAMS recommendation ready for consent</a:t>
            </a:r>
            <a:r>
              <a:rPr b="0" lang="en-US" sz="2000" spc="-1" strike="noStrike">
                <a:solidFill>
                  <a:srgbClr val="646464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646464"/>
                </a:solidFill>
                <a:latin typeface="Arial"/>
                <a:ea typeface="Times New Roman"/>
              </a:rPr>
              <a:t>tbd 2012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c5c5c"/>
                </a:solidFill>
                <a:latin typeface="Arial"/>
                <a:ea typeface="Times New Roman"/>
              </a:rPr>
              <a:t>Meetings</a:t>
            </a:r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  <a:p>
            <a:pPr marL="177840" indent="-177840">
              <a:lnSpc>
                <a:spcPct val="100000"/>
              </a:lnSpc>
              <a:buClr>
                <a:srgbClr val="5c5c5c"/>
              </a:buClr>
              <a:buFont typeface="Wingdings" charset="2"/>
              <a:buChar char=""/>
              <a:tabLst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5c5c"/>
                </a:solidFill>
                <a:latin typeface="Arial"/>
                <a:ea typeface="Times New Roman"/>
              </a:rPr>
              <a:t>Q.14/12 Interim Meeting Berlin</a:t>
            </a:r>
            <a:r>
              <a:rPr b="0" lang="en-US" sz="2000" spc="-1" strike="noStrike">
                <a:solidFill>
                  <a:srgbClr val="5c5c5c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5c5c5c"/>
                </a:solidFill>
                <a:latin typeface="Arial"/>
                <a:ea typeface="Times New Roman"/>
              </a:rPr>
              <a:t>15-17 Sept. 2010</a:t>
            </a:r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  <a:p>
            <a:pPr marL="177840" indent="-177840">
              <a:lnSpc>
                <a:spcPct val="100000"/>
              </a:lnSpc>
              <a:buClr>
                <a:srgbClr val="5c5c5c"/>
              </a:buClr>
              <a:buFont typeface="Wingdings" charset="2"/>
              <a:buChar char=""/>
              <a:tabLst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5c5c"/>
                </a:solidFill>
                <a:latin typeface="Arial"/>
                <a:ea typeface="Times New Roman"/>
              </a:rPr>
              <a:t>SG12</a:t>
            </a:r>
            <a:r>
              <a:rPr b="0" lang="en-US" sz="2000" spc="-1" strike="noStrike">
                <a:solidFill>
                  <a:srgbClr val="5c5c5c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5c5c5c"/>
                </a:solidFill>
                <a:latin typeface="Arial"/>
                <a:ea typeface="Times New Roman"/>
              </a:rPr>
              <a:t>18-27 Jan. 2011</a:t>
            </a:r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6095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590544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343080" y="1225440"/>
            <a:ext cx="4038480" cy="5473800"/>
          </a:xfrm>
          <a:prstGeom prst="rect">
            <a:avLst/>
          </a:prstGeom>
          <a:solidFill>
            <a:srgbClr val="1b5b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4470480" y="1225440"/>
            <a:ext cx="4432320" cy="5473800"/>
          </a:xfrm>
          <a:prstGeom prst="rect">
            <a:avLst/>
          </a:prstGeom>
          <a:solidFill>
            <a:srgbClr val="1b5b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4503600" y="1217520"/>
            <a:ext cx="438012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0" anchor="t">
            <a:noAutofit/>
          </a:bodyPr>
          <a:p>
            <a:pPr marL="287280" indent="-189000">
              <a:lnSpc>
                <a:spcPct val="90000"/>
              </a:lnSpc>
              <a:spcAft>
                <a:spcPts val="675"/>
              </a:spcAft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odel input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  <a:p>
            <a:pPr lvl="1" marL="812880" indent="-279360">
              <a:lnSpc>
                <a:spcPct val="90000"/>
              </a:lnSpc>
              <a:spcAft>
                <a:spcPts val="675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arametric description of the video processing path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  <a:p>
            <a:pPr lvl="1" marL="812880" indent="-279360">
              <a:lnSpc>
                <a:spcPct val="90000"/>
              </a:lnSpc>
              <a:spcAft>
                <a:spcPts val="675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ignals (processed video signal – PVS, source signal – SRC, …).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  <a:p>
            <a:pPr lvl="1" marL="812880" indent="-279360">
              <a:lnSpc>
                <a:spcPct val="90000"/>
              </a:lnSpc>
              <a:spcAft>
                <a:spcPts val="675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it-stream (e.g., model may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arry out decoding) 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  <a:p>
            <a:pPr lvl="1" marL="812880" indent="-279360">
              <a:lnSpc>
                <a:spcPct val="90000"/>
              </a:lnSpc>
              <a:spcAft>
                <a:spcPts val="675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ybrid: Signals &amp; bitstream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  <a:p>
            <a:pPr marL="287280" indent="-189000">
              <a:lnSpc>
                <a:spcPct val="90000"/>
              </a:lnSpc>
              <a:spcAft>
                <a:spcPts val="675"/>
              </a:spcAft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odel output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  <a:p>
            <a:pPr lvl="1" marL="812880" indent="-279360">
              <a:lnSpc>
                <a:spcPct val="90000"/>
              </a:lnSpc>
              <a:spcAft>
                <a:spcPts val="675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stimated MOS, other…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  <a:p>
            <a:pPr lvl="1" marL="812880" indent="-279360">
              <a:lnSpc>
                <a:spcPct val="90000"/>
              </a:lnSpc>
              <a:spcAft>
                <a:spcPts val="675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udio, video, audiovisual quality 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  <a:p>
            <a:pPr marL="287280" indent="-189000">
              <a:lnSpc>
                <a:spcPct val="90000"/>
              </a:lnSpc>
              <a:spcAft>
                <a:spcPts val="675"/>
              </a:spcAft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asurement of input information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  <a:p>
            <a:pPr lvl="1" marL="812880" indent="-279360">
              <a:lnSpc>
                <a:spcPct val="90000"/>
              </a:lnSpc>
              <a:spcAft>
                <a:spcPts val="675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nline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  <a:p>
            <a:pPr lvl="1" marL="812880" indent="-279360">
              <a:lnSpc>
                <a:spcPct val="90000"/>
              </a:lnSpc>
              <a:spcAft>
                <a:spcPts val="675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ffline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  <a:p>
            <a:pPr lvl="1" marL="812880" indent="-279360">
              <a:lnSpc>
                <a:spcPct val="90000"/>
              </a:lnSpc>
              <a:spcAft>
                <a:spcPts val="675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stimation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  <a:p>
            <a:pPr marL="287280" indent="-189000">
              <a:lnSpc>
                <a:spcPct val="90000"/>
              </a:lnSpc>
              <a:spcAft>
                <a:spcPts val="675"/>
              </a:spcAft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ode of operation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  <a:p>
            <a:pPr lvl="1" marL="812880" indent="-279360">
              <a:lnSpc>
                <a:spcPct val="90000"/>
              </a:lnSpc>
              <a:spcAft>
                <a:spcPts val="675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N, BN, CN, CC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12920" y="1217520"/>
            <a:ext cx="3924000" cy="45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0" anchor="t">
            <a:noAutofit/>
          </a:bodyPr>
          <a:p>
            <a:pPr marL="287280" indent="-189000">
              <a:lnSpc>
                <a:spcPct val="90000"/>
              </a:lnSpc>
              <a:spcAft>
                <a:spcPts val="675"/>
              </a:spcAft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arget services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  <a:p>
            <a:pPr lvl="1" marL="812880" indent="-279360">
              <a:lnSpc>
                <a:spcPct val="90000"/>
              </a:lnSpc>
              <a:spcAft>
                <a:spcPts val="675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PTV, VoD, mobile TV, video-telephony, …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  <a:p>
            <a:pPr lvl="1" marL="812880" indent="-279360">
              <a:lnSpc>
                <a:spcPct val="90000"/>
              </a:lnSpc>
              <a:spcAft>
                <a:spcPts val="675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STV, system integration solution, Open Source, …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  <a:p>
            <a:pPr lvl="1" marL="812880" indent="-279360">
              <a:lnSpc>
                <a:spcPct val="90000"/>
              </a:lnSpc>
              <a:spcAft>
                <a:spcPts val="675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F, VGA, SDTV, HDTV, …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  <a:p>
            <a:pPr marL="287280" indent="-189000">
              <a:lnSpc>
                <a:spcPct val="90000"/>
              </a:lnSpc>
              <a:spcAft>
                <a:spcPts val="675"/>
              </a:spcAft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odel type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  <a:p>
            <a:pPr lvl="1" marL="812880" indent="-279360">
              <a:lnSpc>
                <a:spcPct val="90000"/>
              </a:lnSpc>
              <a:spcAft>
                <a:spcPts val="675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R, RR, NR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  <a:p>
            <a:pPr lvl="1" marL="812880" indent="-279360">
              <a:lnSpc>
                <a:spcPct val="90000"/>
              </a:lnSpc>
              <a:spcAft>
                <a:spcPts val="675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udio, video, audiovisual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  <a:p>
            <a:pPr marL="287280" indent="-189000">
              <a:lnSpc>
                <a:spcPct val="90000"/>
              </a:lnSpc>
              <a:spcAft>
                <a:spcPts val="675"/>
              </a:spcAft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pplications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  <a:p>
            <a:pPr lvl="1" marL="812880" indent="-279360">
              <a:lnSpc>
                <a:spcPct val="90000"/>
              </a:lnSpc>
              <a:spcAft>
                <a:spcPts val="675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ideo component testing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(codecs, PLC, etc.)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  <a:p>
            <a:pPr lvl="1" marL="812880" indent="-279360">
              <a:lnSpc>
                <a:spcPct val="90000"/>
              </a:lnSpc>
              <a:spcAft>
                <a:spcPts val="675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lanning networks and services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  <a:p>
            <a:pPr lvl="1" marL="812880" indent="-279360">
              <a:lnSpc>
                <a:spcPct val="90000"/>
              </a:lnSpc>
              <a:spcAft>
                <a:spcPts val="675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efining &amp; verifying QoS classes and SLAs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  <a:p>
            <a:pPr lvl="1" marL="812880" indent="-279360">
              <a:lnSpc>
                <a:spcPct val="90000"/>
              </a:lnSpc>
              <a:spcAft>
                <a:spcPts val="675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onitoring service quality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42720" y="306360"/>
            <a:ext cx="85597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5ba2"/>
                </a:solidFill>
                <a:latin typeface="Verdana"/>
              </a:rPr>
              <a:t>Instrumental quality assessment</a:t>
            </a:r>
            <a:br>
              <a:rPr sz="2800"/>
            </a:br>
            <a:r>
              <a:rPr b="1" lang="en-US" sz="2800" spc="-1" strike="noStrike">
                <a:solidFill>
                  <a:srgbClr val="1b5ba2"/>
                </a:solidFill>
                <a:latin typeface="Verdana"/>
              </a:rPr>
              <a:t>Taxonomy</a:t>
            </a:r>
            <a:endParaRPr b="1" lang="en-US" sz="2800" spc="-1" strike="noStrike">
              <a:solidFill>
                <a:srgbClr val="1b5ba2"/>
              </a:solidFill>
              <a:latin typeface="Verdan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5877000"/>
            <a:ext cx="914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59310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711360" y="1547640"/>
          <a:ext cx="8064360" cy="4739040"/>
        </p:xfrm>
        <a:graphic>
          <a:graphicData uri="http://schemas.openxmlformats.org/drawingml/2006/table">
            <a:tbl>
              <a:tblPr/>
              <a:tblGrid>
                <a:gridCol w="901440"/>
                <a:gridCol w="1371600"/>
                <a:gridCol w="3251160"/>
                <a:gridCol w="2540160"/>
              </a:tblGrid>
              <a:tr h="5968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Arial"/>
                        </a:rPr>
                        <a:t>Audio (A) / Video (V)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72000" marR="72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Arial"/>
                        </a:rPr>
                        <a:t>Audiovisual Quality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000">
                <a:tc rowSpan="2"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Arial"/>
                        </a:rPr>
                        <a:t>Signals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Arial"/>
                        </a:rPr>
                        <a:t>RR/NR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c5c5c"/>
                          </a:solidFill>
                          <a:latin typeface="Arial"/>
                        </a:rPr>
                        <a:t>J.246 (SG9)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72000" marR="72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c5c5c"/>
                          </a:solidFill>
                          <a:latin typeface="Arial"/>
                        </a:rPr>
                        <a:t>VQEG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5c5c5c"/>
                          </a:solidFill>
                          <a:latin typeface="Arial"/>
                        </a:rPr>
                        <a:t>MM-project Ph.2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Arial"/>
                        </a:rPr>
                        <a:t>FR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c5c5c"/>
                          </a:solidFill>
                          <a:latin typeface="Arial"/>
                        </a:rPr>
                        <a:t>PEAQ (A, ITU-R);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c5c5c"/>
                          </a:solidFill>
                          <a:latin typeface="Arial"/>
                        </a:rPr>
                        <a:t>J.144, J.247 (V, VQEG/SG9);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5c5c5c"/>
                          </a:solidFill>
                          <a:latin typeface="Arial"/>
                        </a:rPr>
                        <a:t>“HDTV” (V, VQEG/SG9)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72000" marR="72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c5c5c"/>
                          </a:solidFill>
                          <a:latin typeface="Arial"/>
                        </a:rPr>
                        <a:t>VQEG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5c5c5c"/>
                          </a:solidFill>
                          <a:latin typeface="Arial"/>
                        </a:rPr>
                        <a:t>MM-project Ph.2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7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Arial"/>
                        </a:rPr>
                        <a:t>Para-meters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Arial"/>
                        </a:rPr>
                        <a:t>Planning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c5c5c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72000" marR="72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.1070 (videotel.)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.OMVAS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Q.13/12)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b5ba2"/>
                    </a:solidFill>
                  </a:tcPr>
                </a:tc>
              </a:tr>
              <a:tr h="764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Arial"/>
                        </a:rPr>
                        <a:t>monitoring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.NAMS (A, V, Q.14/12)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72000" marR="72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1b5ba2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.NAMS (Q.14/12);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.NBAMS (Q.14/12)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1b5ba2"/>
                    </a:solidFill>
                  </a:tcPr>
                </a:tc>
              </a:tr>
              <a:tr h="693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Arial"/>
                        </a:rPr>
                        <a:t>Hybrid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Arial"/>
                        </a:rPr>
                        <a:t>NR/RR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c5c5c"/>
                          </a:solidFill>
                          <a:latin typeface="Arial"/>
                        </a:rPr>
                        <a:t>VQEG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5c5c5c"/>
                          </a:solidFill>
                          <a:latin typeface="Arial"/>
                        </a:rPr>
                        <a:t>(Hybrid project, JEG)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72000" marR="72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c5c5c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4997160" y="1268280"/>
            <a:ext cx="294300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Information</a:t>
            </a:r>
            <a:endParaRPr b="0" lang="en-US" sz="18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-915840" y="4146480"/>
            <a:ext cx="2943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Information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16" name="" hidden="1"/>
          <p:cNvSpPr/>
          <p:nvPr/>
        </p:nvSpPr>
        <p:spPr>
          <a:xfrm>
            <a:off x="0" y="-21600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342720" y="306360"/>
            <a:ext cx="85597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5ba2"/>
                </a:solidFill>
                <a:latin typeface="Verdana"/>
              </a:rPr>
              <a:t>Standards instrumental MM quality assessment</a:t>
            </a:r>
            <a:endParaRPr b="1" lang="en-US" sz="2800" spc="-1" strike="noStrike">
              <a:solidFill>
                <a:srgbClr val="1b5ba2"/>
              </a:solidFill>
              <a:latin typeface="Verdan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Slide Number Placeholder 1"/>
          <p:cNvSpPr/>
          <p:nvPr/>
        </p:nvSpPr>
        <p:spPr>
          <a:xfrm>
            <a:off x="8547480" y="6404040"/>
            <a:ext cx="799560" cy="26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4D5B-F99F-4CFD-9345-49325F4937F8}" type="slidenum">
              <a:rPr b="0" lang="en-US" sz="1000" spc="-1" strike="noStrike">
                <a:solidFill>
                  <a:srgbClr val="0e438a"/>
                </a:solidFill>
                <a:latin typeface="Zurich BT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428760" y="2519280"/>
            <a:ext cx="824688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438a"/>
                </a:solidFill>
                <a:latin typeface="Verdana"/>
              </a:rPr>
              <a:t>Thank you for your attention!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Verdana"/>
              </a:rPr>
              <a:t>Further information can be found under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438a"/>
                </a:solidFill>
                <a:latin typeface="Verdana"/>
              </a:rPr>
              <a:t>www.itu.int/ITU-T/studygroups/com12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1"/>
          <p:cNvSpPr/>
          <p:nvPr/>
        </p:nvSpPr>
        <p:spPr>
          <a:xfrm>
            <a:off x="8582400" y="6404040"/>
            <a:ext cx="799560" cy="26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24EAE-8E09-45AF-9076-E6592E230E98}" type="slidenum">
              <a:rPr b="0" lang="en-US" sz="1000" spc="-1" strike="noStrike">
                <a:solidFill>
                  <a:srgbClr val="0e438a"/>
                </a:solidFill>
                <a:latin typeface="Zurich BT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428760" y="1643040"/>
            <a:ext cx="850104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b5ba2"/>
                </a:solidFill>
                <a:latin typeface="Arial"/>
              </a:rPr>
              <a:t>Overview Video-related standardization </a:t>
            </a:r>
            <a:br>
              <a:rPr sz="2400"/>
            </a:br>
            <a:r>
              <a:rPr b="1" lang="en-US" sz="2400" spc="-1" strike="noStrike">
                <a:solidFill>
                  <a:srgbClr val="1b5ba2"/>
                </a:solidFill>
                <a:latin typeface="Arial"/>
              </a:rPr>
              <a:t>in ITU-T &amp; ITU-R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Overview active bodies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ITU-T SG9 &amp; 12 – Video-related questions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asks Q.13/12 &amp; Q.14/12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Subjective quality assessment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Instrumental quality assessment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343080" y="306360"/>
            <a:ext cx="8559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5ba2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646464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5877000"/>
            <a:ext cx="914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14480" y="1279440"/>
            <a:ext cx="6099120" cy="4883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88040" y="1482840"/>
            <a:ext cx="1428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20680" indent="-2206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c5c5c"/>
                </a:solidFill>
                <a:latin typeface="Tele-GroteskFet"/>
              </a:rPr>
              <a:t>Institution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3755160" y="1482840"/>
            <a:ext cx="835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20680" indent="-2206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c5c5c"/>
                </a:solidFill>
                <a:latin typeface="Tele-GroteskFet"/>
              </a:rPr>
              <a:t>Part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4432680" y="1482840"/>
            <a:ext cx="1267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20680" indent="-2206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c5c5c"/>
                </a:solidFill>
                <a:latin typeface="Tele-GroteskFet"/>
              </a:rPr>
              <a:t>Modality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5342040" y="1482840"/>
            <a:ext cx="2293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20680" indent="-2206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c5c5c"/>
                </a:solidFill>
                <a:latin typeface="Tele-GroteskFet"/>
              </a:rPr>
              <a:t>Quality assessment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2843280" y="1482840"/>
            <a:ext cx="0" cy="4897440"/>
          </a:xfrm>
          <a:prstGeom prst="line">
            <a:avLst/>
          </a:prstGeom>
          <a:ln w="1260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3780000" y="1482840"/>
            <a:ext cx="0" cy="4897440"/>
          </a:xfrm>
          <a:prstGeom prst="line">
            <a:avLst/>
          </a:prstGeom>
          <a:ln w="1260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4643280" y="1482840"/>
            <a:ext cx="0" cy="4897440"/>
          </a:xfrm>
          <a:prstGeom prst="line">
            <a:avLst/>
          </a:prstGeom>
          <a:ln w="1260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5580000" y="1482840"/>
            <a:ext cx="0" cy="4897440"/>
          </a:xfrm>
          <a:prstGeom prst="line">
            <a:avLst/>
          </a:prstGeom>
          <a:ln w="1260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15" name="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2720" y="306360"/>
            <a:ext cx="85597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5ba2"/>
                </a:solidFill>
                <a:latin typeface="Verdana"/>
              </a:rPr>
              <a:t>Overview video-related standardization activities in ITU-R, ITU-T &amp; VQEG</a:t>
            </a:r>
            <a:endParaRPr b="1" lang="en-US" sz="2800" spc="-1" strike="noStrike">
              <a:solidFill>
                <a:srgbClr val="1b5ba2"/>
              </a:solidFill>
              <a:latin typeface="Verdan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5877000"/>
            <a:ext cx="914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33360" y="1336680"/>
          <a:ext cx="8551800" cy="4214880"/>
        </p:xfrm>
        <a:graphic>
          <a:graphicData uri="http://schemas.openxmlformats.org/drawingml/2006/table">
            <a:tbl>
              <a:tblPr/>
              <a:tblGrid>
                <a:gridCol w="671400"/>
                <a:gridCol w="1224000"/>
                <a:gridCol w="6656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SG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uestion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Title (shortened)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46464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c5c5c"/>
                          </a:solidFill>
                          <a:latin typeface="Arial"/>
                          <a:ea typeface="Arial"/>
                        </a:rPr>
                        <a:t>Q.2/9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c5c5c"/>
                          </a:solidFill>
                          <a:latin typeface="Arial"/>
                          <a:ea typeface="Arial"/>
                        </a:rPr>
                        <a:t>Measurement</a:t>
                      </a:r>
                      <a:r>
                        <a:rPr b="0" lang="en-US" sz="1800" spc="-1" strike="noStrike">
                          <a:solidFill>
                            <a:srgbClr val="5c5c5c"/>
                          </a:solidFill>
                          <a:latin typeface="Arial"/>
                          <a:ea typeface="Arial"/>
                        </a:rPr>
                        <a:t> &amp; </a:t>
                      </a:r>
                      <a:r>
                        <a:rPr b="1" lang="en-US" sz="1800" spc="-1" strike="noStrike">
                          <a:solidFill>
                            <a:srgbClr val="5c5c5c"/>
                          </a:solidFill>
                          <a:latin typeface="Arial"/>
                          <a:ea typeface="Arial"/>
                        </a:rPr>
                        <a:t>control </a:t>
                      </a:r>
                      <a:r>
                        <a:rPr b="0" lang="en-US" sz="1800" spc="-1" strike="noStrike">
                          <a:solidFill>
                            <a:srgbClr val="5c5c5c"/>
                          </a:solidFill>
                          <a:latin typeface="Arial"/>
                          <a:ea typeface="Arial"/>
                        </a:rPr>
                        <a:t>of </a:t>
                      </a:r>
                      <a:r>
                        <a:rPr b="1" lang="en-US" sz="1800" spc="-1" strike="noStrike">
                          <a:solidFill>
                            <a:srgbClr val="5c5c5c"/>
                          </a:solidFill>
                          <a:latin typeface="Arial"/>
                          <a:ea typeface="Arial"/>
                        </a:rPr>
                        <a:t>QoS</a:t>
                      </a:r>
                      <a:r>
                        <a:rPr b="0" lang="en-US" sz="1800" spc="-1" strike="noStrike">
                          <a:solidFill>
                            <a:srgbClr val="5c5c5c"/>
                          </a:solidFill>
                          <a:latin typeface="Arial"/>
                          <a:ea typeface="Arial"/>
                        </a:rPr>
                        <a:t> for </a:t>
                      </a:r>
                      <a:r>
                        <a:rPr b="1" lang="en-US" sz="1800" spc="-1" strike="noStrike">
                          <a:solidFill>
                            <a:srgbClr val="5c5c5c"/>
                          </a:solidFill>
                          <a:latin typeface="Arial"/>
                          <a:ea typeface="Arial"/>
                        </a:rPr>
                        <a:t>television </a:t>
                      </a:r>
                      <a:r>
                        <a:rPr b="0" lang="en-US" sz="1800" spc="-1" strike="noStrike">
                          <a:solidFill>
                            <a:srgbClr val="5c5c5c"/>
                          </a:solidFill>
                          <a:latin typeface="Arial"/>
                          <a:ea typeface="Arial"/>
                        </a:rPr>
                        <a:t>transmission,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5c5c5c"/>
                          </a:solidFill>
                          <a:latin typeface="Arial"/>
                          <a:ea typeface="Arial"/>
                        </a:rPr>
                        <a:t>contribution &amp; distribution networks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c5c5c"/>
                          </a:solidFill>
                          <a:latin typeface="Arial"/>
                          <a:ea typeface="Arial"/>
                        </a:rPr>
                        <a:t>Q.12/9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c5c5c"/>
                          </a:solidFill>
                          <a:latin typeface="Arial"/>
                          <a:ea typeface="Arial"/>
                        </a:rPr>
                        <a:t>Objective</a:t>
                      </a:r>
                      <a:r>
                        <a:rPr b="0" lang="en-US" sz="1800" spc="-1" strike="noStrike">
                          <a:solidFill>
                            <a:srgbClr val="5c5c5c"/>
                          </a:solidFill>
                          <a:latin typeface="Arial"/>
                          <a:ea typeface="Arial"/>
                        </a:rPr>
                        <a:t> &amp; </a:t>
                      </a:r>
                      <a:r>
                        <a:rPr b="1" lang="en-US" sz="1800" spc="-1" strike="noStrike">
                          <a:solidFill>
                            <a:srgbClr val="5c5c5c"/>
                          </a:solidFill>
                          <a:latin typeface="Arial"/>
                          <a:ea typeface="Arial"/>
                        </a:rPr>
                        <a:t>subjective methods</a:t>
                      </a:r>
                      <a:r>
                        <a:rPr b="0" lang="en-US" sz="1800" spc="-1" strike="noStrike">
                          <a:solidFill>
                            <a:srgbClr val="5c5c5c"/>
                          </a:solidFill>
                          <a:latin typeface="Arial"/>
                          <a:ea typeface="Arial"/>
                        </a:rPr>
                        <a:t> for </a:t>
                      </a:r>
                      <a:r>
                        <a:rPr b="1" lang="en-US" sz="1800" spc="-1" strike="noStrike">
                          <a:solidFill>
                            <a:srgbClr val="5c5c5c"/>
                          </a:solidFill>
                          <a:latin typeface="Arial"/>
                          <a:ea typeface="Arial"/>
                        </a:rPr>
                        <a:t>audiovisual quality</a:t>
                      </a:r>
                      <a:r>
                        <a:rPr b="0" lang="en-US" sz="1800" spc="-1" strike="noStrike">
                          <a:solidFill>
                            <a:srgbClr val="5c5c5c"/>
                          </a:solidFill>
                          <a:latin typeface="Arial"/>
                          <a:ea typeface="Arial"/>
                        </a:rPr>
                        <a:t> in multimedia services within terms of SG9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Arial"/>
                          <a:ea typeface="Arial"/>
                        </a:rPr>
                        <a:t>Q.7/12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Arial"/>
                          <a:ea typeface="Arial"/>
                        </a:rPr>
                        <a:t>Methods, tools &amp; test plans for the </a:t>
                      </a:r>
                      <a:r>
                        <a:rPr b="1" lang="en-US" sz="1800" spc="-1" strike="noStrike">
                          <a:solidFill>
                            <a:srgbClr val="1b5ba2"/>
                          </a:solidFill>
                          <a:latin typeface="Arial"/>
                          <a:ea typeface="Arial"/>
                        </a:rPr>
                        <a:t>subjective assessment</a:t>
                      </a: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Arial"/>
                          <a:ea typeface="Arial"/>
                        </a:rPr>
                        <a:t> of </a:t>
                      </a:r>
                      <a:r>
                        <a:rPr b="1" lang="en-US" sz="1800" spc="-1" strike="noStrike">
                          <a:solidFill>
                            <a:srgbClr val="1b5ba2"/>
                          </a:solidFill>
                          <a:latin typeface="Arial"/>
                          <a:ea typeface="Arial"/>
                        </a:rPr>
                        <a:t>speech, audio </a:t>
                      </a: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Arial"/>
                          <a:ea typeface="Arial"/>
                        </a:rPr>
                        <a:t>&amp;</a:t>
                      </a:r>
                      <a:r>
                        <a:rPr b="1" lang="en-US" sz="1800" spc="-1" strike="noStrike">
                          <a:solidFill>
                            <a:srgbClr val="1b5ba2"/>
                          </a:solidFill>
                          <a:latin typeface="Arial"/>
                          <a:ea typeface="Arial"/>
                        </a:rPr>
                        <a:t> audiovisual quality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Arial"/>
                          <a:ea typeface="Arial"/>
                        </a:rPr>
                        <a:t>Q.9/12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b5ba2"/>
                          </a:solidFill>
                          <a:latin typeface="Arial"/>
                          <a:ea typeface="Arial"/>
                        </a:rPr>
                        <a:t>Perceptual-based</a:t>
                      </a: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Arial"/>
                          <a:ea typeface="Arial"/>
                        </a:rPr>
                        <a:t> objective methods for </a:t>
                      </a:r>
                      <a:r>
                        <a:rPr b="1" lang="en-US" sz="1800" spc="-1" strike="noStrike">
                          <a:solidFill>
                            <a:srgbClr val="1b5ba2"/>
                          </a:solidFill>
                          <a:latin typeface="Arial"/>
                          <a:ea typeface="Arial"/>
                        </a:rPr>
                        <a:t>voice</a:t>
                      </a: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Arial"/>
                          <a:ea typeface="Arial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1b5ba2"/>
                          </a:solidFill>
                          <a:latin typeface="Arial"/>
                          <a:ea typeface="Arial"/>
                        </a:rPr>
                        <a:t>audio</a:t>
                      </a: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Arial"/>
                          <a:ea typeface="Arial"/>
                        </a:rPr>
                        <a:t> &amp; </a:t>
                      </a:r>
                      <a:r>
                        <a:rPr b="1" lang="en-US" sz="1800" spc="-1" strike="noStrike">
                          <a:solidFill>
                            <a:srgbClr val="1b5ba2"/>
                          </a:solidFill>
                          <a:latin typeface="Arial"/>
                          <a:ea typeface="Arial"/>
                        </a:rPr>
                        <a:t>visual quality</a:t>
                      </a: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Arial"/>
                          <a:ea typeface="Arial"/>
                        </a:rPr>
                        <a:t> measurements in telecommunication services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Arial"/>
                          <a:ea typeface="Arial"/>
                        </a:rPr>
                        <a:t>Q.13/12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b5ba2"/>
                          </a:solidFill>
                          <a:latin typeface="Arial"/>
                          <a:ea typeface="Arial"/>
                        </a:rPr>
                        <a:t>QoE</a:t>
                      </a: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1b5ba2"/>
                          </a:solidFill>
                          <a:latin typeface="Arial"/>
                          <a:ea typeface="Arial"/>
                        </a:rPr>
                        <a:t> QoS</a:t>
                      </a: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Arial"/>
                          <a:ea typeface="Arial"/>
                        </a:rPr>
                        <a:t> &amp; performance requirements and assessment methods for </a:t>
                      </a:r>
                      <a:r>
                        <a:rPr b="1" lang="en-US" sz="1800" spc="-1" strike="noStrike">
                          <a:solidFill>
                            <a:srgbClr val="1b5ba2"/>
                          </a:solidFill>
                          <a:latin typeface="Arial"/>
                          <a:ea typeface="Arial"/>
                        </a:rPr>
                        <a:t>multimedia</a:t>
                      </a: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Arial"/>
                          <a:ea typeface="Arial"/>
                        </a:rPr>
                        <a:t> including IPTV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Arial"/>
                          <a:ea typeface="Arial"/>
                        </a:rPr>
                        <a:t>Q.14/12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Arial"/>
                          <a:ea typeface="Arial"/>
                        </a:rPr>
                        <a:t>Development of </a:t>
                      </a:r>
                      <a:r>
                        <a:rPr b="1" lang="en-US" sz="1800" spc="-1" strike="noStrike">
                          <a:solidFill>
                            <a:srgbClr val="1b5ba2"/>
                          </a:solidFill>
                          <a:latin typeface="Arial"/>
                          <a:ea typeface="Arial"/>
                        </a:rPr>
                        <a:t>parametric models</a:t>
                      </a: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Arial"/>
                          <a:ea typeface="Arial"/>
                        </a:rPr>
                        <a:t> and tools for </a:t>
                      </a:r>
                      <a:r>
                        <a:rPr b="1" lang="en-US" sz="1800" spc="-1" strike="noStrike">
                          <a:solidFill>
                            <a:srgbClr val="1b5ba2"/>
                          </a:solidFill>
                          <a:latin typeface="Arial"/>
                          <a:ea typeface="Arial"/>
                        </a:rPr>
                        <a:t>audiovisual</a:t>
                      </a: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Arial"/>
                          <a:ea typeface="Arial"/>
                        </a:rPr>
                        <a:t> &amp; </a:t>
                      </a:r>
                      <a:r>
                        <a:rPr b="1" lang="en-US" sz="1800" spc="-1" strike="noStrike">
                          <a:solidFill>
                            <a:srgbClr val="1b5ba2"/>
                          </a:solidFill>
                          <a:latin typeface="Arial"/>
                          <a:ea typeface="Arial"/>
                        </a:rPr>
                        <a:t>multimedia quality measurement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42720" y="306360"/>
            <a:ext cx="85597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5ba2"/>
                </a:solidFill>
                <a:latin typeface="Verdana"/>
              </a:rPr>
              <a:t>Overview of ITU-T SG9 &amp; SG12 Questions dealing with multimedia assessment</a:t>
            </a:r>
            <a:endParaRPr b="1" lang="en-US" sz="2800" spc="-1" strike="noStrike">
              <a:solidFill>
                <a:srgbClr val="1b5ba2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5877000"/>
            <a:ext cx="914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33360" y="1336680"/>
          <a:ext cx="8551800" cy="4214880"/>
        </p:xfrm>
        <a:graphic>
          <a:graphicData uri="http://schemas.openxmlformats.org/drawingml/2006/table">
            <a:tbl>
              <a:tblPr/>
              <a:tblGrid>
                <a:gridCol w="671400"/>
                <a:gridCol w="1224000"/>
                <a:gridCol w="6656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SG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Question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Title (shortened)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46464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c5c5c"/>
                          </a:solidFill>
                          <a:latin typeface="Arial"/>
                          <a:ea typeface="Arial"/>
                        </a:rPr>
                        <a:t>Q.2/9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c5c5c"/>
                          </a:solidFill>
                          <a:latin typeface="Arial"/>
                          <a:ea typeface="Arial"/>
                        </a:rPr>
                        <a:t>Measurement</a:t>
                      </a:r>
                      <a:r>
                        <a:rPr b="0" lang="en-US" sz="1800" spc="-1" strike="noStrike">
                          <a:solidFill>
                            <a:srgbClr val="5c5c5c"/>
                          </a:solidFill>
                          <a:latin typeface="Arial"/>
                          <a:ea typeface="Arial"/>
                        </a:rPr>
                        <a:t> &amp; </a:t>
                      </a:r>
                      <a:r>
                        <a:rPr b="1" lang="en-US" sz="1800" spc="-1" strike="noStrike">
                          <a:solidFill>
                            <a:srgbClr val="5c5c5c"/>
                          </a:solidFill>
                          <a:latin typeface="Arial"/>
                          <a:ea typeface="Arial"/>
                        </a:rPr>
                        <a:t>control </a:t>
                      </a:r>
                      <a:r>
                        <a:rPr b="0" lang="en-US" sz="1800" spc="-1" strike="noStrike">
                          <a:solidFill>
                            <a:srgbClr val="5c5c5c"/>
                          </a:solidFill>
                          <a:latin typeface="Arial"/>
                          <a:ea typeface="Arial"/>
                        </a:rPr>
                        <a:t>of </a:t>
                      </a:r>
                      <a:r>
                        <a:rPr b="1" lang="en-US" sz="1800" spc="-1" strike="noStrike">
                          <a:solidFill>
                            <a:srgbClr val="5c5c5c"/>
                          </a:solidFill>
                          <a:latin typeface="Arial"/>
                          <a:ea typeface="Arial"/>
                        </a:rPr>
                        <a:t>QoS</a:t>
                      </a:r>
                      <a:r>
                        <a:rPr b="0" lang="en-US" sz="1800" spc="-1" strike="noStrike">
                          <a:solidFill>
                            <a:srgbClr val="5c5c5c"/>
                          </a:solidFill>
                          <a:latin typeface="Arial"/>
                          <a:ea typeface="Arial"/>
                        </a:rPr>
                        <a:t> for </a:t>
                      </a:r>
                      <a:r>
                        <a:rPr b="1" lang="en-US" sz="1800" spc="-1" strike="noStrike">
                          <a:solidFill>
                            <a:srgbClr val="5c5c5c"/>
                          </a:solidFill>
                          <a:latin typeface="Arial"/>
                          <a:ea typeface="Arial"/>
                        </a:rPr>
                        <a:t>television </a:t>
                      </a:r>
                      <a:r>
                        <a:rPr b="0" lang="en-US" sz="1800" spc="-1" strike="noStrike">
                          <a:solidFill>
                            <a:srgbClr val="5c5c5c"/>
                          </a:solidFill>
                          <a:latin typeface="Arial"/>
                          <a:ea typeface="Arial"/>
                        </a:rPr>
                        <a:t>transmission,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5c5c5c"/>
                          </a:solidFill>
                          <a:latin typeface="Arial"/>
                          <a:ea typeface="Arial"/>
                        </a:rPr>
                        <a:t>contribution &amp; distribution networks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c5c5c"/>
                          </a:solidFill>
                          <a:latin typeface="Arial"/>
                          <a:ea typeface="Arial"/>
                        </a:rPr>
                        <a:t>Q.12/9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c5c5c"/>
                          </a:solidFill>
                          <a:latin typeface="Arial"/>
                          <a:ea typeface="Arial"/>
                        </a:rPr>
                        <a:t>Objective</a:t>
                      </a:r>
                      <a:r>
                        <a:rPr b="0" lang="en-US" sz="1800" spc="-1" strike="noStrike">
                          <a:solidFill>
                            <a:srgbClr val="5c5c5c"/>
                          </a:solidFill>
                          <a:latin typeface="Arial"/>
                          <a:ea typeface="Arial"/>
                        </a:rPr>
                        <a:t> &amp; </a:t>
                      </a:r>
                      <a:r>
                        <a:rPr b="1" lang="en-US" sz="1800" spc="-1" strike="noStrike">
                          <a:solidFill>
                            <a:srgbClr val="5c5c5c"/>
                          </a:solidFill>
                          <a:latin typeface="Arial"/>
                          <a:ea typeface="Arial"/>
                        </a:rPr>
                        <a:t>subjective methods</a:t>
                      </a:r>
                      <a:r>
                        <a:rPr b="0" lang="en-US" sz="1800" spc="-1" strike="noStrike">
                          <a:solidFill>
                            <a:srgbClr val="5c5c5c"/>
                          </a:solidFill>
                          <a:latin typeface="Arial"/>
                          <a:ea typeface="Arial"/>
                        </a:rPr>
                        <a:t> for </a:t>
                      </a:r>
                      <a:r>
                        <a:rPr b="1" lang="en-US" sz="1800" spc="-1" strike="noStrike">
                          <a:solidFill>
                            <a:srgbClr val="5c5c5c"/>
                          </a:solidFill>
                          <a:latin typeface="Arial"/>
                          <a:ea typeface="Arial"/>
                        </a:rPr>
                        <a:t>audiovisual quality</a:t>
                      </a:r>
                      <a:r>
                        <a:rPr b="0" lang="en-US" sz="1800" spc="-1" strike="noStrike">
                          <a:solidFill>
                            <a:srgbClr val="5c5c5c"/>
                          </a:solidFill>
                          <a:latin typeface="Arial"/>
                          <a:ea typeface="Arial"/>
                        </a:rPr>
                        <a:t> in multimedia services within terms of SG9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Arial"/>
                          <a:ea typeface="Arial"/>
                        </a:rPr>
                        <a:t>Q.7/12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Arial"/>
                          <a:ea typeface="Arial"/>
                        </a:rPr>
                        <a:t>Methods, tools &amp; test plans for the </a:t>
                      </a:r>
                      <a:r>
                        <a:rPr b="1" lang="en-US" sz="1800" spc="-1" strike="noStrike">
                          <a:solidFill>
                            <a:srgbClr val="1b5ba2"/>
                          </a:solidFill>
                          <a:latin typeface="Arial"/>
                          <a:ea typeface="Arial"/>
                        </a:rPr>
                        <a:t>subjective assessment</a:t>
                      </a: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Arial"/>
                          <a:ea typeface="Arial"/>
                        </a:rPr>
                        <a:t> of </a:t>
                      </a:r>
                      <a:r>
                        <a:rPr b="1" lang="en-US" sz="1800" spc="-1" strike="noStrike">
                          <a:solidFill>
                            <a:srgbClr val="1b5ba2"/>
                          </a:solidFill>
                          <a:latin typeface="Arial"/>
                          <a:ea typeface="Arial"/>
                        </a:rPr>
                        <a:t>speech, audio </a:t>
                      </a: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Arial"/>
                          <a:ea typeface="Arial"/>
                        </a:rPr>
                        <a:t>&amp;</a:t>
                      </a:r>
                      <a:r>
                        <a:rPr b="1" lang="en-US" sz="1800" spc="-1" strike="noStrike">
                          <a:solidFill>
                            <a:srgbClr val="1b5ba2"/>
                          </a:solidFill>
                          <a:latin typeface="Arial"/>
                          <a:ea typeface="Arial"/>
                        </a:rPr>
                        <a:t> audiovisual quality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Arial"/>
                          <a:ea typeface="Arial"/>
                        </a:rPr>
                        <a:t>Q.9/12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b5ba2"/>
                          </a:solidFill>
                          <a:latin typeface="Arial"/>
                          <a:ea typeface="Arial"/>
                        </a:rPr>
                        <a:t>Perceptual-based</a:t>
                      </a: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Arial"/>
                          <a:ea typeface="Arial"/>
                        </a:rPr>
                        <a:t> objective methods for </a:t>
                      </a:r>
                      <a:r>
                        <a:rPr b="1" lang="en-US" sz="1800" spc="-1" strike="noStrike">
                          <a:solidFill>
                            <a:srgbClr val="1b5ba2"/>
                          </a:solidFill>
                          <a:latin typeface="Arial"/>
                          <a:ea typeface="Arial"/>
                        </a:rPr>
                        <a:t>voice</a:t>
                      </a: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Arial"/>
                          <a:ea typeface="Arial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1b5ba2"/>
                          </a:solidFill>
                          <a:latin typeface="Arial"/>
                          <a:ea typeface="Arial"/>
                        </a:rPr>
                        <a:t>audio</a:t>
                      </a: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Arial"/>
                          <a:ea typeface="Arial"/>
                        </a:rPr>
                        <a:t> &amp; </a:t>
                      </a:r>
                      <a:r>
                        <a:rPr b="1" lang="en-US" sz="1800" spc="-1" strike="noStrike">
                          <a:solidFill>
                            <a:srgbClr val="1b5ba2"/>
                          </a:solidFill>
                          <a:latin typeface="Arial"/>
                          <a:ea typeface="Arial"/>
                        </a:rPr>
                        <a:t>visual quality</a:t>
                      </a: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Arial"/>
                          <a:ea typeface="Arial"/>
                        </a:rPr>
                        <a:t> measurements in telecommunication services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Arial"/>
                          <a:ea typeface="Arial"/>
                        </a:rPr>
                        <a:t>Q.13/12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b5ba2"/>
                          </a:solidFill>
                          <a:latin typeface="Arial"/>
                          <a:ea typeface="Arial"/>
                        </a:rPr>
                        <a:t>QoE</a:t>
                      </a: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1b5ba2"/>
                          </a:solidFill>
                          <a:latin typeface="Arial"/>
                          <a:ea typeface="Arial"/>
                        </a:rPr>
                        <a:t> QoS</a:t>
                      </a: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Arial"/>
                          <a:ea typeface="Arial"/>
                        </a:rPr>
                        <a:t> &amp; performance requirements and assessment methods for </a:t>
                      </a:r>
                      <a:r>
                        <a:rPr b="1" lang="en-US" sz="1800" spc="-1" strike="noStrike">
                          <a:solidFill>
                            <a:srgbClr val="1b5ba2"/>
                          </a:solidFill>
                          <a:latin typeface="Arial"/>
                          <a:ea typeface="Arial"/>
                        </a:rPr>
                        <a:t>multimedia</a:t>
                      </a: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Arial"/>
                          <a:ea typeface="Arial"/>
                        </a:rPr>
                        <a:t> including IPTV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Arial"/>
                          <a:ea typeface="Arial"/>
                        </a:rPr>
                        <a:t>Q.14/12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Arial"/>
                          <a:ea typeface="Arial"/>
                        </a:rPr>
                        <a:t>Development of </a:t>
                      </a:r>
                      <a:r>
                        <a:rPr b="1" lang="en-US" sz="1800" spc="-1" strike="noStrike">
                          <a:solidFill>
                            <a:srgbClr val="1b5ba2"/>
                          </a:solidFill>
                          <a:latin typeface="Arial"/>
                          <a:ea typeface="Arial"/>
                        </a:rPr>
                        <a:t>parametric models</a:t>
                      </a: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Arial"/>
                          <a:ea typeface="Arial"/>
                        </a:rPr>
                        <a:t> and tools for </a:t>
                      </a:r>
                      <a:r>
                        <a:rPr b="1" lang="en-US" sz="1800" spc="-1" strike="noStrike">
                          <a:solidFill>
                            <a:srgbClr val="1b5ba2"/>
                          </a:solidFill>
                          <a:latin typeface="Arial"/>
                          <a:ea typeface="Arial"/>
                        </a:rPr>
                        <a:t>audiovisual</a:t>
                      </a: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Arial"/>
                          <a:ea typeface="Arial"/>
                        </a:rPr>
                        <a:t> &amp; </a:t>
                      </a:r>
                      <a:r>
                        <a:rPr b="1" lang="en-US" sz="1800" spc="-1" strike="noStrike">
                          <a:solidFill>
                            <a:srgbClr val="1b5ba2"/>
                          </a:solidFill>
                          <a:latin typeface="Arial"/>
                          <a:ea typeface="Arial"/>
                        </a:rPr>
                        <a:t>multimedia quality measurement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306360"/>
            <a:ext cx="85597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5ba2"/>
                </a:solidFill>
                <a:latin typeface="Verdana"/>
              </a:rPr>
              <a:t>Overview of ITU-T SG9 &amp; SG12 Questions dealing with multimedia assessment</a:t>
            </a:r>
            <a:endParaRPr b="1" lang="en-US" sz="2800" spc="-1" strike="noStrike">
              <a:solidFill>
                <a:srgbClr val="1b5ba2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266760" y="4267080"/>
            <a:ext cx="8648640" cy="1447920"/>
          </a:xfrm>
          <a:prstGeom prst="rect">
            <a:avLst/>
          </a:prstGeom>
          <a:noFill/>
          <a:ln w="9360">
            <a:solidFill>
              <a:srgbClr val="5c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5877000"/>
            <a:ext cx="914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25" name="Slide Number Placeholder 1"/>
          <p:cNvSpPr/>
          <p:nvPr/>
        </p:nvSpPr>
        <p:spPr>
          <a:xfrm>
            <a:off x="8582400" y="6404040"/>
            <a:ext cx="799560" cy="26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10F9-0AD7-4386-A897-7DFE59FBC97F}" type="slidenum">
              <a:rPr b="0" lang="en-US" sz="1000" spc="-1" strike="noStrike">
                <a:solidFill>
                  <a:srgbClr val="0e438a"/>
                </a:solidFill>
                <a:latin typeface="Zurich BT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276120" y="1319040"/>
            <a:ext cx="850104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Arial"/>
              </a:rPr>
              <a:t>End-user performance expectations for multimedia </a:t>
            </a:r>
            <a:br>
              <a:rPr sz="2200"/>
            </a:br>
            <a:r>
              <a:rPr b="0" lang="en-US" sz="2200" spc="-1" strike="noStrike">
                <a:solidFill>
                  <a:srgbClr val="080808"/>
                </a:solidFill>
                <a:latin typeface="Arial"/>
              </a:rPr>
              <a:t>(esp. IPTV &amp; Home Network)</a:t>
            </a:r>
            <a:endParaRPr b="0" lang="en-US" sz="22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Arial"/>
              </a:rPr>
              <a:t>Planning models end-to-end multimedia services</a:t>
            </a:r>
            <a:endParaRPr b="0" lang="en-US" sz="22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Arial"/>
              </a:rPr>
              <a:t>Performance monitoring methods </a:t>
            </a:r>
            <a:br>
              <a:rPr sz="2200"/>
            </a:br>
            <a:r>
              <a:rPr b="0" lang="en-US" sz="2200" spc="-1" strike="noStrike">
                <a:solidFill>
                  <a:srgbClr val="080808"/>
                </a:solidFill>
                <a:latin typeface="Arial"/>
              </a:rPr>
              <a:t>(esp. IPTV &amp; Home Network)</a:t>
            </a:r>
            <a:endParaRPr b="0" lang="en-US" sz="22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Arial"/>
              </a:rPr>
              <a:t>Quality management &amp; assurance</a:t>
            </a:r>
            <a:endParaRPr b="0" lang="en-US" sz="22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Arial"/>
              </a:rPr>
              <a:t>QoE overview</a:t>
            </a:r>
            <a:endParaRPr b="0" lang="en-US" sz="22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Arial"/>
              </a:rPr>
              <a:t>Revisions of Recs. </a:t>
            </a:r>
            <a:br>
              <a:rPr sz="2200"/>
            </a:br>
            <a:r>
              <a:rPr b="0" lang="en-US" sz="2200" spc="-1" strike="noStrike">
                <a:solidFill>
                  <a:srgbClr val="080808"/>
                </a:solidFill>
                <a:latin typeface="Arial"/>
              </a:rPr>
              <a:t>G.1010, G.1030, G.1040, G.1050, G.1070, &amp; Y.1562</a:t>
            </a:r>
            <a:endParaRPr b="0" lang="en-US" sz="22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279360" y="28116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5ba2"/>
                </a:solidFill>
                <a:latin typeface="Verdana"/>
              </a:rPr>
              <a:t>Q.13/12 </a:t>
            </a:r>
            <a:br>
              <a:rPr sz="2800"/>
            </a:br>
            <a:r>
              <a:rPr b="1" lang="en-US" sz="2800" spc="-1" strike="noStrike">
                <a:solidFill>
                  <a:srgbClr val="1b5ba2"/>
                </a:solidFill>
                <a:latin typeface="Verdana"/>
              </a:rPr>
              <a:t>Tasks</a:t>
            </a:r>
            <a:endParaRPr b="0" lang="en-US" sz="2800" spc="-1" strike="noStrike">
              <a:solidFill>
                <a:srgbClr val="646464"/>
              </a:solidFill>
              <a:latin typeface="Verdan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5877000"/>
            <a:ext cx="914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29" name="Slide Number Placeholder 1"/>
          <p:cNvSpPr/>
          <p:nvPr/>
        </p:nvSpPr>
        <p:spPr>
          <a:xfrm>
            <a:off x="8582400" y="6404040"/>
            <a:ext cx="799560" cy="26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1CAA-EBA3-438C-9DDB-86F3596BC5BD}" type="slidenum">
              <a:rPr b="0" lang="en-US" sz="1000" spc="-1" strike="noStrike">
                <a:solidFill>
                  <a:srgbClr val="0e438a"/>
                </a:solidFill>
                <a:latin typeface="Zurich BT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76120" y="1319040"/>
            <a:ext cx="850104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Arial"/>
              </a:rPr>
              <a:t>P.NAMS – non-intrusive model, IP protocol information</a:t>
            </a:r>
            <a:endParaRPr b="0" lang="en-US" sz="22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Arial"/>
              </a:rPr>
              <a:t>P.NBAMS – non-intrusive model, IP protocol &amp; bit-stream information</a:t>
            </a:r>
            <a:endParaRPr b="0" lang="en-US" sz="22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279360" y="281160"/>
            <a:ext cx="777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5ba2"/>
                </a:solidFill>
                <a:latin typeface="Verdana"/>
              </a:rPr>
              <a:t>Q.14/12 </a:t>
            </a:r>
            <a:br>
              <a:rPr sz="2800"/>
            </a:br>
            <a:r>
              <a:rPr b="1" lang="en-US" sz="2800" spc="-1" strike="noStrike">
                <a:solidFill>
                  <a:srgbClr val="1b5ba2"/>
                </a:solidFill>
                <a:latin typeface="Verdana"/>
              </a:rPr>
              <a:t>Tasks</a:t>
            </a:r>
            <a:endParaRPr b="0" lang="en-US" sz="2800" spc="-1" strike="noStrike">
              <a:solidFill>
                <a:srgbClr val="646464"/>
              </a:solidFill>
              <a:latin typeface="Verdan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1"/>
          <p:cNvSpPr/>
          <p:nvPr/>
        </p:nvSpPr>
        <p:spPr>
          <a:xfrm>
            <a:off x="8582400" y="6404040"/>
            <a:ext cx="799560" cy="26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C26E-3488-438D-B771-CF492AA7C750}" type="slidenum">
              <a:rPr b="0" lang="en-US" sz="1000" spc="-1" strike="noStrike">
                <a:solidFill>
                  <a:srgbClr val="0e438a"/>
                </a:solidFill>
                <a:latin typeface="Zurich BT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428760" y="1643040"/>
            <a:ext cx="850104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Overview Video-related standardization </a:t>
            </a:r>
            <a:br>
              <a:rPr sz="2400"/>
            </a:b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in ITU-T &amp; ITU-R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Overview active bodies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ITU-T SG9 &amp; 12 – Video-related questions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asks Q.13/12 &amp; Q.14/12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b5ba2"/>
                </a:solidFill>
                <a:latin typeface="Arial"/>
              </a:rPr>
              <a:t>Subjective quality assessment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Instrumental quality assessment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43080" y="306360"/>
            <a:ext cx="8559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5ba2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646464"/>
              </a:solidFill>
              <a:latin typeface="Verdan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0T12:53:59Z</dcterms:created>
  <dc:creator>Sebastian Möller</dc:creator>
  <dc:description/>
  <cp:keywords/>
  <dc:language>en-US</dc:language>
  <cp:lastModifiedBy>Alexander Raake, Deutsche Telekom Labs</cp:lastModifiedBy>
  <cp:lastPrinted>2001-11-25T13:41:09Z</cp:lastPrinted>
  <dcterms:modified xsi:type="dcterms:W3CDTF">2010-06-21T13:13:32Z</dcterms:modified>
  <cp:revision>486</cp:revision>
  <dc:subject/>
  <dc:title>SG12 Speech Activit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uthor0">
    <vt:lpwstr/>
  </property>
  <property fmtid="{D5CDD505-2E9C-101B-9397-08002B2CF9AE}" pid="3" name="ContentType">
    <vt:lpwstr>Document</vt:lpwstr>
  </property>
  <property fmtid="{D5CDD505-2E9C-101B-9397-08002B2CF9AE}" pid="4" name="Date">
    <vt:lpwstr>2008-02-13T00:00:00Z</vt:lpwstr>
  </property>
  <property fmtid="{D5CDD505-2E9C-101B-9397-08002B2CF9AE}" pid="5" name="Event">
    <vt:lpwstr>GSMA Mobile World Congress</vt:lpwstr>
  </property>
  <property fmtid="{D5CDD505-2E9C-101B-9397-08002B2CF9AE}" pid="6" name="Location">
    <vt:lpwstr>Barcelona, Spain</vt:lpwstr>
  </property>
  <property fmtid="{D5CDD505-2E9C-101B-9397-08002B2CF9AE}" pid="7" name="Other Keyword(s)">
    <vt:lpwstr/>
  </property>
  <property fmtid="{D5CDD505-2E9C-101B-9397-08002B2CF9AE}" pid="8" name="PPTAuthor">
    <vt:lpwstr>78;#ITU_USERS\toure</vt:lpwstr>
  </property>
  <property fmtid="{D5CDD505-2E9C-101B-9397-08002B2CF9AE}" pid="9" name="Sector">
    <vt:lpwstr>;#ITU-D;#</vt:lpwstr>
  </property>
  <property fmtid="{D5CDD505-2E9C-101B-9397-08002B2CF9AE}" pid="10" name="Web Link">
    <vt:lpwstr>http://www.mobileworldcongress.com/homepage.htm, http://www.mobileworldcongress.com/homepage.htm</vt:lpwstr>
  </property>
  <property fmtid="{D5CDD505-2E9C-101B-9397-08002B2CF9AE}" pid="11" name="display_urn:schemas-microsoft-com:office:office#PPTAuthor">
    <vt:lpwstr>Touré, Hamadoun</vt:lpwstr>
  </property>
</Properties>
</file>