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77964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B9DF-9CCE-441F-83CF-CA1FCB71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780000" y="9431280"/>
            <a:ext cx="2889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DDEC-37D0-4C1B-AA3B-CBF8B3B068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08B9-FB19-4E46-9393-1EFA57ACF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722C8-36F1-4C5D-8ED5-C4A7ADC52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EE6A-822E-4C23-8141-20C7F9A17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00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EEC9-2DA2-4D62-AE91-E9E7FADB3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5595-A502-4EDD-A99E-1D0C14EA7D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82BD-2D34-4AD2-B1F6-A8072E8AFF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5FC0-3FF9-4151-A513-1BA8359651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F733-F5CE-4F23-A31F-853412DB49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F186-748E-429A-A89F-9AB66EE325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0807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6A49-A1AC-4737-8632-B6CF63C079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9B72-F3EC-4966-9BD2-46CED2FC6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E706-C75E-4C9D-94FC-B475F674C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BC6D-95F3-4D6B-9E80-FD9FD73812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FBD4F-0BE5-4339-B923-28B511D0EB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B79F-7C31-44DF-8671-8EA4223856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B98F-975D-4233-95CF-ADE55370B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236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0000" y="198864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4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236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0000" y="4212000"/>
            <a:ext cx="250236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E4D9-2A11-4363-A4E9-9790423E04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37D4-BFAE-405A-91E1-9F01BD842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5A91-4C57-41C6-BBE0-FB2B2F32E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E9A1-6A7E-402F-9EA7-CB022B29FE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8072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A0DE-3F22-4374-B9FB-DD1008F25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26A7-0FCE-471D-847F-84EDFB703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040" y="421200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BBB5-BDF4-4B60-B7AF-3702769AE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040" y="1988640"/>
            <a:ext cx="37926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4212000"/>
            <a:ext cx="7772400" cy="20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1857-ECCB-4795-9049-A28E3802D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Watermark"/>
          <p:cNvPicPr/>
          <p:nvPr/>
        </p:nvPicPr>
        <p:blipFill>
          <a:blip r:embed="rId2"/>
          <a:srcRect l="6724" t="0" r="0" b="12775"/>
          <a:stretch/>
        </p:blipFill>
        <p:spPr>
          <a:xfrm>
            <a:off x="0" y="809640"/>
            <a:ext cx="6467400" cy="60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769240" y="6403680"/>
            <a:ext cx="33984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C08C-C2CC-4EBB-824A-3A0725A649BA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pic>
        <p:nvPicPr>
          <p:cNvPr id="4" name="Picture 52" descr=""/>
          <p:cNvPicPr/>
          <p:nvPr/>
        </p:nvPicPr>
        <p:blipFill>
          <a:blip r:embed="rId3"/>
          <a:stretch/>
        </p:blipFill>
        <p:spPr>
          <a:xfrm>
            <a:off x="6804000" y="612468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66"/>
          <p:cNvSpPr/>
          <p:nvPr/>
        </p:nvSpPr>
        <p:spPr>
          <a:xfrm>
            <a:off x="3894480" y="63579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438a"/>
                </a:solidFill>
                <a:latin typeface="Zurich BlkEx BT"/>
              </a:rPr>
              <a:t>Committed to connecting the worl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214200" y="628668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438a"/>
                </a:solidFill>
                <a:latin typeface="Zurich BT"/>
              </a:rPr>
              <a:t>Trondheim, 21 June 2010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Watermark"/>
          <p:cNvPicPr/>
          <p:nvPr/>
        </p:nvPicPr>
        <p:blipFill>
          <a:blip r:embed="rId2"/>
          <a:srcRect l="6724" t="0" r="0" b="12775"/>
          <a:stretch/>
        </p:blipFill>
        <p:spPr>
          <a:xfrm>
            <a:off x="0" y="549360"/>
            <a:ext cx="6467400" cy="6048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7584480" y="6175440"/>
            <a:ext cx="1352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Internationa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Telecommunicat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Univers"/>
              </a:rPr>
              <a:t>Union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432120" y="43434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4b84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7326000" y="45244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4b84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285160" y="48020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3"/>
          <a:stretch/>
        </p:blipFill>
        <p:spPr>
          <a:xfrm>
            <a:off x="6670800" y="6080040"/>
            <a:ext cx="1933560" cy="733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3"/>
          <p:cNvSpPr/>
          <p:nvPr/>
        </p:nvSpPr>
        <p:spPr>
          <a:xfrm>
            <a:off x="3538440" y="6357960"/>
            <a:ext cx="31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e438a"/>
                </a:solidFill>
                <a:latin typeface="Verdana"/>
              </a:rPr>
              <a:t>Committed to connecting the world</a:t>
            </a:r>
            <a:endParaRPr b="0" lang="en-US" sz="1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242640" y="6381720"/>
            <a:ext cx="172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Trondheim, 21 June 2010</a:t>
            </a:r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80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5ba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4360" y="198864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c5c5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8769240" y="6403680"/>
            <a:ext cx="33984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511A-950D-4DAB-A405-5DF93B2B092B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7"/>
          <p:cNvSpPr/>
          <p:nvPr/>
        </p:nvSpPr>
        <p:spPr>
          <a:xfrm>
            <a:off x="853956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81D-C46D-40C7-B0E0-A46D071153C1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0" y="856800"/>
            <a:ext cx="8928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TU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International Telecommunication Union)</a:t>
            </a:r>
            <a:r>
              <a:rPr b="0" lang="en-US" sz="2000" spc="-1" strike="noStrike">
                <a:solidFill>
                  <a:srgbClr val="0e438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ITU-T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Telecommunication standardization sector) 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Study Group 12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e438a"/>
                </a:solidFill>
                <a:latin typeface="Verdana"/>
              </a:rPr>
              <a:t>(Performance, QoS and QoE)</a:t>
            </a:r>
            <a:endParaRPr b="0" lang="en-US" sz="20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c5c5c"/>
                </a:solidFill>
                <a:latin typeface="Verdana"/>
              </a:rPr>
              <a:t>Overview of Speech Activities in</a:t>
            </a:r>
            <a:br>
              <a:rPr sz="2800"/>
            </a:br>
            <a:r>
              <a:rPr b="0" i="1" lang="en-US" sz="2800" spc="-1" strike="noStrike">
                <a:solidFill>
                  <a:srgbClr val="5c5c5c"/>
                </a:solidFill>
                <a:latin typeface="Verdana"/>
              </a:rPr>
              <a:t>ITU-T Study Group 12 </a:t>
            </a:r>
            <a:endParaRPr b="0" lang="en-US" sz="28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1b5ba2"/>
                </a:solidFill>
                <a:latin typeface="Verdana"/>
              </a:rPr>
              <a:t>QoMEX’10, Trondheim, Norway</a:t>
            </a:r>
            <a:endParaRPr b="0" lang="en-US" sz="1600" spc="-1" strike="noStrike">
              <a:solidFill>
                <a:srgbClr val="5c5c5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c5c5c"/>
                </a:solidFill>
                <a:latin typeface="Verdana"/>
              </a:rPr>
              <a:t>Sebastian Möller</a:t>
            </a:r>
            <a:br>
              <a:rPr sz="1800"/>
            </a:br>
            <a:r>
              <a:rPr b="0" lang="en-US" sz="1800" spc="-1" strike="noStrike">
                <a:solidFill>
                  <a:srgbClr val="0099cc"/>
                </a:solidFill>
                <a:latin typeface="Verdana"/>
              </a:rPr>
              <a:t>Co-Rapporteur Q.8/12</a:t>
            </a:r>
            <a:br>
              <a:rPr sz="1800"/>
            </a:b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920880" y="1382760"/>
            <a:ext cx="362556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536400" indent="-536400">
              <a:spcAft>
                <a:spcPts val="249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438a"/>
                </a:solidFill>
                <a:latin typeface="Verdana"/>
                <a:ea typeface="Times New Roman"/>
              </a:rPr>
              <a:t>Input information: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Signal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lvl="1" marL="1174680" indent="-458640">
              <a:lnSpc>
                <a:spcPct val="100000"/>
              </a:lnSpc>
              <a:spcAft>
                <a:spcPts val="224"/>
              </a:spcAft>
              <a:buClr>
                <a:srgbClr val="5c5c5c"/>
              </a:buClr>
              <a:buSzPct val="65000"/>
              <a:buFont typeface="Tele-GroteskFet"/>
              <a:buChar char="−"/>
              <a:tabLst>
                <a:tab algn="l" pos="6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  <a:ea typeface="Times New Roman"/>
              </a:rPr>
              <a:t>one or two signa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1174680" indent="-458640">
              <a:lnSpc>
                <a:spcPct val="100000"/>
              </a:lnSpc>
              <a:spcAft>
                <a:spcPts val="224"/>
              </a:spcAft>
              <a:buClr>
                <a:srgbClr val="5c5c5c"/>
              </a:buClr>
              <a:buSzPct val="65000"/>
              <a:buFont typeface="Tele-GroteskFet"/>
              <a:buChar char="−"/>
              <a:tabLst>
                <a:tab algn="l" pos="6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  <a:ea typeface="Times New Roman"/>
              </a:rPr>
              <a:t>acoustic or electric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Parameter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Protocol information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Combinations hereof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438a"/>
                </a:solidFill>
                <a:latin typeface="Verdana"/>
                <a:ea typeface="Times New Roman"/>
              </a:rPr>
              <a:t>Measurement of input information: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Online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Offline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Estimation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38a"/>
                </a:solidFill>
                <a:latin typeface="Verdana"/>
              </a:rPr>
              <a:t>Quality Prediction Approaches</a:t>
            </a:r>
            <a:br>
              <a:rPr sz="2800"/>
            </a:b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Taxonomy of prediction model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984920" y="1382760"/>
            <a:ext cx="362556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536400" indent="-53640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438a"/>
                </a:solidFill>
                <a:latin typeface="Verdana"/>
                <a:ea typeface="Times New Roman"/>
              </a:rPr>
              <a:t>Output information: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Listening-only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lvl="1" marL="1174680" indent="-458640">
              <a:lnSpc>
                <a:spcPct val="100000"/>
              </a:lnSpc>
              <a:spcAft>
                <a:spcPts val="224"/>
              </a:spcAft>
              <a:buClr>
                <a:srgbClr val="5c5c5c"/>
              </a:buClr>
              <a:buSzPct val="65000"/>
              <a:buFont typeface="Tele-GroteskHal"/>
              <a:buChar char="−"/>
              <a:tabLst>
                <a:tab algn="l" pos="6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  <a:ea typeface="Times New Roman"/>
              </a:rPr>
              <a:t>integral quality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lvl="1" marL="1174680" indent="-458640">
              <a:lnSpc>
                <a:spcPct val="100000"/>
              </a:lnSpc>
              <a:spcAft>
                <a:spcPts val="224"/>
              </a:spcAft>
              <a:buClr>
                <a:srgbClr val="5c5c5c"/>
              </a:buClr>
              <a:buSzPct val="65000"/>
              <a:buFont typeface="Tele-GroteskHal"/>
              <a:buChar char="−"/>
              <a:tabLst>
                <a:tab algn="l" pos="6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Verdana"/>
                <a:ea typeface="Times New Roman"/>
              </a:rPr>
              <a:t>quality feature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Conversational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Talking-only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438a"/>
                </a:solidFill>
                <a:latin typeface="Verdana"/>
                <a:ea typeface="Times New Roman"/>
              </a:rPr>
              <a:t>Application area: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Planning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Set-up and optimization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Monitoring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438a"/>
                </a:solidFill>
                <a:latin typeface="Verdana"/>
                <a:ea typeface="Times New Roman"/>
              </a:rPr>
              <a:t>Network type: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Narrowband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 marL="536400" indent="-536400">
              <a:spcAft>
                <a:spcPts val="249"/>
              </a:spcAft>
              <a:buClr>
                <a:srgbClr val="5c5c5c"/>
              </a:buClr>
              <a:buSzPct val="65000"/>
              <a:buFont typeface="Wingdings" charset="2"/>
              <a:buChar char="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Verdana"/>
                <a:ea typeface="Times New Roman"/>
              </a:rPr>
              <a:t>Wideband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38a"/>
                </a:solidFill>
                <a:latin typeface="Verdana"/>
              </a:rPr>
              <a:t>Quality Prediction Approaches</a:t>
            </a:r>
            <a:br>
              <a:rPr sz="2800"/>
            </a:br>
            <a:r>
              <a:rPr b="1" lang="en-US" sz="2200" spc="-1" strike="noStrike">
                <a:solidFill>
                  <a:srgbClr val="5c5c5c"/>
                </a:solidFill>
                <a:latin typeface="Verdana"/>
              </a:rPr>
              <a:t>Taxonomy of prediction models: Narrowband case.</a:t>
            </a:r>
            <a:endParaRPr b="1" lang="en-US" sz="2200" spc="-1" strike="noStrike">
              <a:solidFill>
                <a:srgbClr val="1b5ba2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93920" y="1536840"/>
          <a:ext cx="6418080" cy="4605120"/>
        </p:xfrm>
        <a:graphic>
          <a:graphicData uri="http://schemas.openxmlformats.org/drawingml/2006/table">
            <a:tbl>
              <a:tblPr/>
              <a:tblGrid>
                <a:gridCol w="1436760"/>
                <a:gridCol w="996840"/>
                <a:gridCol w="993600"/>
                <a:gridCol w="997200"/>
                <a:gridCol w="996840"/>
                <a:gridCol w="99684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Listen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Conversation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>
                      <a:noFill/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Feat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Feat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1058760">
                <a:tc rowSpan="4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Signal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1, el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563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sycho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CCI (P.562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10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1, 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sycho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2, el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86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OLQ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AMD/ P.TC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CQO?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CQO?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2, 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OLQ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AMD/ P.TC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Protoc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Meas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564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CQO?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CQO?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Parameter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Estim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107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Meas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NIEM (P.562)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29080" y="1231920"/>
            <a:ext cx="294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Fet"/>
              </a:rPr>
              <a:t>Output Information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-402840" y="4380840"/>
            <a:ext cx="2943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Fet"/>
              </a:rPr>
              <a:t>Input Inform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3870360" y="3554280"/>
            <a:ext cx="2030400" cy="1130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913360" y="5257800"/>
            <a:ext cx="1003320" cy="5587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1112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38a"/>
                </a:solidFill>
                <a:latin typeface="Verdana"/>
              </a:rPr>
              <a:t>Quality Prediction Approaches </a:t>
            </a:r>
            <a:br>
              <a:rPr sz="2800"/>
            </a:br>
            <a:r>
              <a:rPr b="1" lang="en-US" sz="2200" spc="-1" strike="noStrike">
                <a:solidFill>
                  <a:srgbClr val="5c5c5c"/>
                </a:solidFill>
                <a:latin typeface="Verdana"/>
              </a:rPr>
              <a:t>Taxonomy of prediction models: Wideband case.</a:t>
            </a:r>
            <a:endParaRPr b="1" lang="en-US" sz="22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29080" y="1231920"/>
            <a:ext cx="294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Fet"/>
              </a:rPr>
              <a:t>Output Information</a:t>
            </a:r>
            <a:endParaRPr b="0" lang="en-US" sz="18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-402840" y="4380840"/>
            <a:ext cx="2943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Fet"/>
              </a:rPr>
              <a:t>Input Inform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93920" y="1536840"/>
          <a:ext cx="6543720" cy="4609800"/>
        </p:xfrm>
        <a:graphic>
          <a:graphicData uri="http://schemas.openxmlformats.org/drawingml/2006/table">
            <a:tbl>
              <a:tblPr/>
              <a:tblGrid>
                <a:gridCol w="1463760"/>
                <a:gridCol w="1015920"/>
                <a:gridCol w="1015920"/>
                <a:gridCol w="1015920"/>
                <a:gridCol w="1015920"/>
                <a:gridCol w="101628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Listen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Conversation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>
                      <a:noFill/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9360">
                      <a:solidFill>
                        <a:srgbClr val="5c5c5c"/>
                      </a:solidFill>
                    </a:lnR>
                    <a:lnT>
                      <a:noFill/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Feat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Over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Feat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1058760">
                <a:tc rowSpan="4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Signal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1, el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sycho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105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1, 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sycho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2, el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862.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OLQ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AMD/ P.TC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2, ac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OLQ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P.AMD/ P.TCA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Protoc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Meas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93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Parameter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Estim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WB-E-Mode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93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b5ba2"/>
                          </a:solidFill>
                          <a:latin typeface="Tele-GroteskFet"/>
                        </a:rPr>
                        <a:t>Meas.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93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93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5c5c5c"/>
                      </a:solidFill>
                    </a:lnL>
                    <a:lnR w="5760">
                      <a:solidFill>
                        <a:srgbClr val="5c5c5c"/>
                      </a:solidFill>
                    </a:lnR>
                    <a:lnT w="5760">
                      <a:solidFill>
                        <a:srgbClr val="5c5c5c"/>
                      </a:solidFill>
                    </a:lnT>
                    <a:lnB w="5760">
                      <a:solidFill>
                        <a:srgbClr val="5c5c5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2221-D853-46CA-A801-82639FE51AB1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8BC-910D-4BDC-B16E-28EEE584FC2A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684360" y="328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Tasks of Q.9/12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Overview.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New model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overall speech quality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(P.OLQA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New models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degradation decomposition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(P.AMD, P.TCA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New model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prediction of P.835 scores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(P.ONRA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Methods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talking quality prediction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Models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audio signals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(e.g. music) transmitted over telecommunication links like GSM or VoIP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Models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synthesized speech quality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Models for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video quality 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(restriction to low bit-rate coding and limited image sizes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e438a"/>
                </a:solidFill>
                <a:latin typeface="Verdana"/>
              </a:rPr>
              <a:t>Quality Prediction Models</a:t>
            </a:r>
            <a:br>
              <a:rPr sz="2800"/>
            </a:br>
            <a:r>
              <a:rPr b="1" lang="de-DE" sz="2800" spc="-1" strike="noStrike">
                <a:solidFill>
                  <a:srgbClr val="5c5c5c"/>
                </a:solidFill>
                <a:latin typeface="Verdana"/>
              </a:rPr>
              <a:t>Signal-based model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34760" y="1482480"/>
            <a:ext cx="773892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5c5c"/>
                </a:solidFill>
                <a:latin typeface="Tele-GroteskUlt"/>
              </a:rPr>
              <a:t>Reference-based approach:</a:t>
            </a: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898560" y="3125880"/>
            <a:ext cx="1201680" cy="595080"/>
          </a:xfrm>
          <a:prstGeom prst="rect">
            <a:avLst/>
          </a:prstGeom>
          <a:solidFill>
            <a:srgbClr val="ff9900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Transmiss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ystem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2187720" y="2448000"/>
            <a:ext cx="1118880" cy="5983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e- Processing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187720" y="3844800"/>
            <a:ext cx="1118880" cy="598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e-Processing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3465360" y="2449440"/>
            <a:ext cx="1043280" cy="598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ternal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epresent.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4667400" y="3083040"/>
            <a:ext cx="1009440" cy="66996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Distance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5886360" y="3097080"/>
            <a:ext cx="855720" cy="6559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4400" bIns="12600"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Average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961320" y="3097080"/>
            <a:ext cx="1008000" cy="65592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Transform.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488960" y="4130640"/>
            <a:ext cx="6987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3306600" y="2749680"/>
            <a:ext cx="1558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3306600" y="4145040"/>
            <a:ext cx="16200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4508640" y="2749680"/>
            <a:ext cx="663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4508640" y="4127400"/>
            <a:ext cx="6634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5159520" y="3753000"/>
            <a:ext cx="0" cy="374400"/>
          </a:xfrm>
          <a:prstGeom prst="line">
            <a:avLst/>
          </a:prstGeom>
          <a:ln w="25560">
            <a:solidFill>
              <a:srgbClr val="0000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57360" y="2749320"/>
            <a:ext cx="1800" cy="330120"/>
          </a:xfrm>
          <a:prstGeom prst="line">
            <a:avLst/>
          </a:prstGeom>
          <a:ln w="25560">
            <a:solidFill>
              <a:srgbClr val="0000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5678640" y="3429000"/>
            <a:ext cx="2044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3429000"/>
            <a:ext cx="223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7964640" y="3441240"/>
            <a:ext cx="26640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3156120" y="2112840"/>
            <a:ext cx="4330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x’(k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1498680" y="3722760"/>
            <a:ext cx="0" cy="419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3465360" y="3844800"/>
            <a:ext cx="1043280" cy="598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ternal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epresent.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870120" y="2230560"/>
            <a:ext cx="1323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Clean speech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ignal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1704960" y="4456080"/>
            <a:ext cx="482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y(k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105000" y="4456080"/>
            <a:ext cx="470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y’(k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8236080" y="3281400"/>
            <a:ext cx="5936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MO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1525680" y="2727360"/>
            <a:ext cx="1440" cy="396720"/>
          </a:xfrm>
          <a:prstGeom prst="line">
            <a:avLst/>
          </a:prstGeom>
          <a:ln w="25560">
            <a:solidFill>
              <a:srgbClr val="0000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514520" y="2731680"/>
            <a:ext cx="644400" cy="1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048040" y="5815080"/>
            <a:ext cx="647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e.g. ITU-T Rec. P.862, 2001; Hauenstein, 1997; Hansen &amp; Kollmeier, 1997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33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e438a"/>
                </a:solidFill>
                <a:latin typeface="Verdana"/>
              </a:rPr>
              <a:t>Quality Prediction Models</a:t>
            </a:r>
            <a:br>
              <a:rPr sz="2800"/>
            </a:br>
            <a:r>
              <a:rPr b="1" lang="de-DE" sz="2800" spc="-1" strike="noStrike">
                <a:solidFill>
                  <a:srgbClr val="5c5c5c"/>
                </a:solidFill>
                <a:latin typeface="Verdana"/>
              </a:rPr>
              <a:t>Signal-based model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1482480"/>
            <a:ext cx="773928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ele-GroteskUlt"/>
              </a:rPr>
              <a:t>Internal Representation:</a:t>
            </a: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c5c5c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3000240" y="5776920"/>
            <a:ext cx="552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Hauenstein, 1997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1271520" y="2738520"/>
            <a:ext cx="706680" cy="2168280"/>
          </a:xfrm>
          <a:prstGeom prst="rect">
            <a:avLst/>
          </a:prstGeom>
          <a:solidFill>
            <a:srgbClr val="6699ff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Filter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Bank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373480" y="2892600"/>
            <a:ext cx="623880" cy="698400"/>
          </a:xfrm>
          <a:prstGeom prst="rect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801720" y="3813120"/>
            <a:ext cx="465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712800" y="3279600"/>
            <a:ext cx="49860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x‘(k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2298600" y="2717640"/>
            <a:ext cx="1611360" cy="2168640"/>
          </a:xfrm>
          <a:prstGeom prst="rect">
            <a:avLst/>
          </a:prstGeom>
          <a:solidFill>
            <a:srgbClr val="6699ff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674800" y="3040200"/>
            <a:ext cx="0" cy="4824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2424240" y="3456000"/>
            <a:ext cx="5205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2484360" y="3067200"/>
            <a:ext cx="362160" cy="392040"/>
          </a:xfrm>
          <a:custGeom>
            <a:avLst/>
            <a:gdLst/>
            <a:ahLst/>
            <a:rect l="l" t="t" r="r" b="b"/>
            <a:pathLst>
              <a:path w="228" h="247">
                <a:moveTo>
                  <a:pt x="0" y="0"/>
                </a:moveTo>
                <a:cubicBezTo>
                  <a:pt x="16" y="72"/>
                  <a:pt x="32" y="144"/>
                  <a:pt x="53" y="185"/>
                </a:cubicBezTo>
                <a:cubicBezTo>
                  <a:pt x="74" y="226"/>
                  <a:pt x="103" y="247"/>
                  <a:pt x="125" y="245"/>
                </a:cubicBezTo>
                <a:cubicBezTo>
                  <a:pt x="147" y="243"/>
                  <a:pt x="168" y="215"/>
                  <a:pt x="185" y="175"/>
                </a:cubicBezTo>
                <a:cubicBezTo>
                  <a:pt x="202" y="135"/>
                  <a:pt x="215" y="71"/>
                  <a:pt x="228" y="7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73480" y="4043520"/>
            <a:ext cx="623880" cy="698400"/>
            <a:chOff x="2373480" y="4043520"/>
            <a:chExt cx="623880" cy="698400"/>
          </a:xfrm>
        </p:grpSpPr>
        <p:sp>
          <p:nvSpPr>
            <p:cNvPr id="256" name=""/>
            <p:cNvSpPr/>
            <p:nvPr/>
          </p:nvSpPr>
          <p:spPr>
            <a:xfrm>
              <a:off x="2373480" y="4043520"/>
              <a:ext cx="623880" cy="6984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2673720" y="4193640"/>
              <a:ext cx="1440" cy="482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24240" y="4610160"/>
              <a:ext cx="520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4720" y="4221000"/>
              <a:ext cx="361800" cy="392400"/>
            </a:xfrm>
            <a:custGeom>
              <a:avLst/>
              <a:gdLst/>
              <a:ahLst/>
              <a:rect l="l" t="t" r="r" b="b"/>
              <a:pathLst>
                <a:path w="228" h="247">
                  <a:moveTo>
                    <a:pt x="0" y="0"/>
                  </a:moveTo>
                  <a:cubicBezTo>
                    <a:pt x="16" y="72"/>
                    <a:pt x="32" y="144"/>
                    <a:pt x="53" y="185"/>
                  </a:cubicBezTo>
                  <a:cubicBezTo>
                    <a:pt x="74" y="226"/>
                    <a:pt x="103" y="247"/>
                    <a:pt x="125" y="245"/>
                  </a:cubicBezTo>
                  <a:cubicBezTo>
                    <a:pt x="147" y="243"/>
                    <a:pt x="168" y="215"/>
                    <a:pt x="185" y="175"/>
                  </a:cubicBezTo>
                  <a:cubicBezTo>
                    <a:pt x="202" y="135"/>
                    <a:pt x="215" y="71"/>
                    <a:pt x="228" y="7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260" name=""/>
          <p:cNvSpPr/>
          <p:nvPr/>
        </p:nvSpPr>
        <p:spPr>
          <a:xfrm flipH="1">
            <a:off x="2685600" y="3713040"/>
            <a:ext cx="1800" cy="2588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1982880" y="3243240"/>
            <a:ext cx="388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982880" y="367668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90800" y="380952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976400" y="439272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979640" y="395244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193920" y="2892600"/>
            <a:ext cx="623880" cy="698400"/>
            <a:chOff x="3193920" y="2892600"/>
            <a:chExt cx="623880" cy="698400"/>
          </a:xfrm>
        </p:grpSpPr>
        <p:sp>
          <p:nvSpPr>
            <p:cNvPr id="267" name=""/>
            <p:cNvSpPr/>
            <p:nvPr/>
          </p:nvSpPr>
          <p:spPr>
            <a:xfrm>
              <a:off x="3193920" y="2892600"/>
              <a:ext cx="623880" cy="6984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316320" y="3018960"/>
              <a:ext cx="144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52600" y="3456000"/>
              <a:ext cx="520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16320" y="3132000"/>
              <a:ext cx="1443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8880" y="3125880"/>
              <a:ext cx="1800" cy="32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182760" y="4043520"/>
            <a:ext cx="623880" cy="698400"/>
            <a:chOff x="3182760" y="4043520"/>
            <a:chExt cx="623880" cy="698400"/>
          </a:xfrm>
        </p:grpSpPr>
        <p:sp>
          <p:nvSpPr>
            <p:cNvPr id="273" name=""/>
            <p:cNvSpPr/>
            <p:nvPr/>
          </p:nvSpPr>
          <p:spPr>
            <a:xfrm>
              <a:off x="3182760" y="4043520"/>
              <a:ext cx="623880" cy="6984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305160" y="4169880"/>
              <a:ext cx="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1440" y="4606920"/>
              <a:ext cx="520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05160" y="4282920"/>
              <a:ext cx="1443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449520" y="4280040"/>
              <a:ext cx="1440" cy="32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000240" y="3243240"/>
            <a:ext cx="18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2997360" y="4392720"/>
            <a:ext cx="18252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2478240" y="4897440"/>
            <a:ext cx="3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x</a:t>
            </a:r>
            <a:r>
              <a:rPr b="1" lang="de-DE" sz="1600" spc="-1" strike="noStrike" baseline="30000">
                <a:solidFill>
                  <a:srgbClr val="080808"/>
                </a:solidFill>
                <a:latin typeface="Tele-GroteskHal"/>
                <a:ea typeface="Times New Roman"/>
              </a:rPr>
              <a:t>2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438000" y="4894200"/>
            <a:ext cx="42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TP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4151160" y="2711520"/>
            <a:ext cx="1222560" cy="2168280"/>
          </a:xfrm>
          <a:prstGeom prst="rect">
            <a:avLst/>
          </a:prstGeom>
          <a:solidFill>
            <a:srgbClr val="6699ff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13160" y="2903400"/>
            <a:ext cx="900360" cy="677880"/>
            <a:chOff x="4313160" y="2903400"/>
            <a:chExt cx="900360" cy="677880"/>
          </a:xfrm>
        </p:grpSpPr>
        <p:sp>
          <p:nvSpPr>
            <p:cNvPr id="284" name=""/>
            <p:cNvSpPr/>
            <p:nvPr/>
          </p:nvSpPr>
          <p:spPr>
            <a:xfrm>
              <a:off x="4557600" y="3136680"/>
              <a:ext cx="503280" cy="274680"/>
            </a:xfrm>
            <a:custGeom>
              <a:avLst/>
              <a:gdLst/>
              <a:ahLst/>
              <a:rect l="l" t="t" r="r" b="b"/>
              <a:pathLst>
                <a:path w="317" h="173">
                  <a:moveTo>
                    <a:pt x="70" y="0"/>
                  </a:moveTo>
                  <a:lnTo>
                    <a:pt x="317" y="173"/>
                  </a:lnTo>
                  <a:lnTo>
                    <a:pt x="0" y="17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86240" y="3420720"/>
              <a:ext cx="765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3160" y="2903400"/>
              <a:ext cx="90036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5480" y="3294000"/>
              <a:ext cx="1440" cy="128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72080" y="3135240"/>
              <a:ext cx="0" cy="295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737240" y="3189240"/>
              <a:ext cx="1440" cy="22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05280" y="3236760"/>
              <a:ext cx="0" cy="181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69000" y="3281040"/>
              <a:ext cx="1440" cy="135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35600" y="3325680"/>
              <a:ext cx="1440" cy="95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98960" y="3363840"/>
              <a:ext cx="1800" cy="5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451400" y="3009240"/>
              <a:ext cx="144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319640" y="4054320"/>
            <a:ext cx="900000" cy="677880"/>
            <a:chOff x="4319640" y="4054320"/>
            <a:chExt cx="900000" cy="677880"/>
          </a:xfrm>
        </p:grpSpPr>
        <p:sp>
          <p:nvSpPr>
            <p:cNvPr id="296" name=""/>
            <p:cNvSpPr/>
            <p:nvPr/>
          </p:nvSpPr>
          <p:spPr>
            <a:xfrm>
              <a:off x="4563720" y="4287600"/>
              <a:ext cx="502920" cy="274680"/>
            </a:xfrm>
            <a:custGeom>
              <a:avLst/>
              <a:gdLst/>
              <a:ahLst/>
              <a:rect l="l" t="t" r="r" b="b"/>
              <a:pathLst>
                <a:path w="317" h="173">
                  <a:moveTo>
                    <a:pt x="70" y="0"/>
                  </a:moveTo>
                  <a:lnTo>
                    <a:pt x="317" y="173"/>
                  </a:lnTo>
                  <a:lnTo>
                    <a:pt x="0" y="17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6699ff"/>
            </a:solidFill>
            <a:ln w="0">
              <a:solidFill>
                <a:srgbClr val="0000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92360" y="4571640"/>
              <a:ext cx="765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19640" y="4054320"/>
              <a:ext cx="90000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11600" y="4444920"/>
              <a:ext cx="1080" cy="128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78200" y="4286160"/>
              <a:ext cx="0" cy="295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743000" y="4340160"/>
              <a:ext cx="1080" cy="22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11400" y="4387680"/>
              <a:ext cx="0" cy="181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75120" y="4431960"/>
              <a:ext cx="1080" cy="135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41720" y="4476600"/>
              <a:ext cx="1080" cy="95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05080" y="4514760"/>
              <a:ext cx="1440" cy="5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457520" y="4160160"/>
              <a:ext cx="108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V="1">
            <a:off x="3811680" y="3241800"/>
            <a:ext cx="49356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800520" y="4392720"/>
            <a:ext cx="50652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3454560" y="227340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Power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5627520" y="2711520"/>
            <a:ext cx="1171800" cy="2168280"/>
          </a:xfrm>
          <a:prstGeom prst="rect">
            <a:avLst/>
          </a:prstGeom>
          <a:solidFill>
            <a:srgbClr val="6699ff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775480" y="2903400"/>
            <a:ext cx="900000" cy="677880"/>
            <a:chOff x="5775480" y="2903400"/>
            <a:chExt cx="900000" cy="677880"/>
          </a:xfrm>
        </p:grpSpPr>
        <p:sp>
          <p:nvSpPr>
            <p:cNvPr id="312" name=""/>
            <p:cNvSpPr/>
            <p:nvPr/>
          </p:nvSpPr>
          <p:spPr>
            <a:xfrm>
              <a:off x="5848560" y="3420720"/>
              <a:ext cx="765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75480" y="2903400"/>
              <a:ext cx="90000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913360" y="3009240"/>
              <a:ext cx="180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10480" y="3087360"/>
              <a:ext cx="555480" cy="330120"/>
            </a:xfrm>
            <a:custGeom>
              <a:avLst/>
              <a:gdLst/>
              <a:ahLst/>
              <a:rect l="l" t="t" r="r" b="b"/>
              <a:pathLst>
                <a:path w="350" h="208">
                  <a:moveTo>
                    <a:pt x="0" y="208"/>
                  </a:moveTo>
                  <a:cubicBezTo>
                    <a:pt x="6" y="186"/>
                    <a:pt x="13" y="164"/>
                    <a:pt x="33" y="139"/>
                  </a:cubicBezTo>
                  <a:cubicBezTo>
                    <a:pt x="53" y="114"/>
                    <a:pt x="69" y="78"/>
                    <a:pt x="122" y="55"/>
                  </a:cubicBezTo>
                  <a:cubicBezTo>
                    <a:pt x="175" y="32"/>
                    <a:pt x="312" y="9"/>
                    <a:pt x="350" y="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5789520" y="4052880"/>
            <a:ext cx="900000" cy="677880"/>
            <a:chOff x="5789520" y="4052880"/>
            <a:chExt cx="900000" cy="677880"/>
          </a:xfrm>
        </p:grpSpPr>
        <p:sp>
          <p:nvSpPr>
            <p:cNvPr id="317" name=""/>
            <p:cNvSpPr/>
            <p:nvPr/>
          </p:nvSpPr>
          <p:spPr>
            <a:xfrm>
              <a:off x="5862600" y="4570200"/>
              <a:ext cx="765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89520" y="4052880"/>
              <a:ext cx="90000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927400" y="4158720"/>
              <a:ext cx="1800" cy="484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24520" y="4236840"/>
              <a:ext cx="555480" cy="330120"/>
            </a:xfrm>
            <a:custGeom>
              <a:avLst/>
              <a:gdLst/>
              <a:ahLst/>
              <a:rect l="l" t="t" r="r" b="b"/>
              <a:pathLst>
                <a:path w="350" h="208">
                  <a:moveTo>
                    <a:pt x="0" y="208"/>
                  </a:moveTo>
                  <a:cubicBezTo>
                    <a:pt x="6" y="186"/>
                    <a:pt x="13" y="164"/>
                    <a:pt x="33" y="139"/>
                  </a:cubicBezTo>
                  <a:cubicBezTo>
                    <a:pt x="53" y="114"/>
                    <a:pt x="69" y="78"/>
                    <a:pt x="122" y="55"/>
                  </a:cubicBezTo>
                  <a:cubicBezTo>
                    <a:pt x="175" y="32"/>
                    <a:pt x="312" y="9"/>
                    <a:pt x="350" y="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321" name=""/>
          <p:cNvSpPr/>
          <p:nvPr/>
        </p:nvSpPr>
        <p:spPr>
          <a:xfrm flipV="1">
            <a:off x="5216400" y="3241800"/>
            <a:ext cx="55584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214960" y="4390920"/>
            <a:ext cx="57456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4929120" y="2305080"/>
            <a:ext cx="11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Excitation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229440" y="205740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Specific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Loudnes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686640" y="3241800"/>
            <a:ext cx="517320" cy="1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164440" y="3614760"/>
            <a:ext cx="60156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8148600" y="3819600"/>
            <a:ext cx="60336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8175600" y="4056120"/>
            <a:ext cx="5824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6694560" y="4392720"/>
            <a:ext cx="520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476160" y="3683160"/>
            <a:ext cx="1800" cy="258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50920" y="3683160"/>
            <a:ext cx="1800" cy="258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245280" y="3666960"/>
            <a:ext cx="1440" cy="2588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5485320" y="48862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Compress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4157280" y="488952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Spectral 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Mask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066080" y="2711520"/>
            <a:ext cx="1171440" cy="2168280"/>
          </a:xfrm>
          <a:prstGeom prst="rect">
            <a:avLst/>
          </a:prstGeom>
          <a:solidFill>
            <a:srgbClr val="6699ff"/>
          </a:solidFill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683480" y="3666960"/>
            <a:ext cx="1440" cy="2588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067160" y="4876920"/>
            <a:ext cx="114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Tempor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Mask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213680" y="2903400"/>
            <a:ext cx="900000" cy="677880"/>
            <a:chOff x="7213680" y="2903400"/>
            <a:chExt cx="900000" cy="677880"/>
          </a:xfrm>
        </p:grpSpPr>
        <p:sp>
          <p:nvSpPr>
            <p:cNvPr id="339" name=""/>
            <p:cNvSpPr/>
            <p:nvPr/>
          </p:nvSpPr>
          <p:spPr>
            <a:xfrm>
              <a:off x="7286400" y="3421080"/>
              <a:ext cx="765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13680" y="2903400"/>
              <a:ext cx="90000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351560" y="3009960"/>
              <a:ext cx="1080" cy="483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15000" y="3151080"/>
              <a:ext cx="0" cy="26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602480" y="3155760"/>
              <a:ext cx="0" cy="26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15000" y="3155760"/>
              <a:ext cx="91800" cy="1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10400" y="3163680"/>
              <a:ext cx="402840" cy="243000"/>
            </a:xfrm>
            <a:custGeom>
              <a:avLst/>
              <a:gdLst/>
              <a:ahLst/>
              <a:rect l="l" t="t" r="r" b="b"/>
              <a:pathLst>
                <a:path w="254" h="153">
                  <a:moveTo>
                    <a:pt x="0" y="0"/>
                  </a:moveTo>
                  <a:cubicBezTo>
                    <a:pt x="7" y="24"/>
                    <a:pt x="14" y="49"/>
                    <a:pt x="41" y="72"/>
                  </a:cubicBezTo>
                  <a:cubicBezTo>
                    <a:pt x="68" y="95"/>
                    <a:pt x="128" y="122"/>
                    <a:pt x="163" y="136"/>
                  </a:cubicBezTo>
                  <a:cubicBezTo>
                    <a:pt x="198" y="150"/>
                    <a:pt x="226" y="151"/>
                    <a:pt x="254" y="153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213680" y="4052880"/>
            <a:ext cx="900000" cy="677880"/>
            <a:chOff x="7213680" y="4052880"/>
            <a:chExt cx="900000" cy="677880"/>
          </a:xfrm>
        </p:grpSpPr>
        <p:sp>
          <p:nvSpPr>
            <p:cNvPr id="347" name=""/>
            <p:cNvSpPr/>
            <p:nvPr/>
          </p:nvSpPr>
          <p:spPr>
            <a:xfrm>
              <a:off x="7286400" y="4570560"/>
              <a:ext cx="765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3680" y="4052880"/>
              <a:ext cx="900000" cy="67788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51560" y="4159440"/>
              <a:ext cx="1080" cy="483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15000" y="4300560"/>
              <a:ext cx="0" cy="26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02480" y="4305240"/>
              <a:ext cx="0" cy="26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5000" y="4305240"/>
              <a:ext cx="91800" cy="1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10400" y="4313160"/>
              <a:ext cx="402840" cy="243000"/>
            </a:xfrm>
            <a:custGeom>
              <a:avLst/>
              <a:gdLst/>
              <a:ahLst/>
              <a:rect l="l" t="t" r="r" b="b"/>
              <a:pathLst>
                <a:path w="254" h="153">
                  <a:moveTo>
                    <a:pt x="0" y="0"/>
                  </a:moveTo>
                  <a:cubicBezTo>
                    <a:pt x="7" y="24"/>
                    <a:pt x="14" y="49"/>
                    <a:pt x="41" y="72"/>
                  </a:cubicBezTo>
                  <a:cubicBezTo>
                    <a:pt x="68" y="95"/>
                    <a:pt x="128" y="122"/>
                    <a:pt x="163" y="136"/>
                  </a:cubicBezTo>
                  <a:cubicBezTo>
                    <a:pt x="198" y="150"/>
                    <a:pt x="226" y="151"/>
                    <a:pt x="254" y="153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354" name=""/>
          <p:cNvSpPr/>
          <p:nvPr/>
        </p:nvSpPr>
        <p:spPr>
          <a:xfrm flipV="1">
            <a:off x="8120160" y="3239640"/>
            <a:ext cx="628560" cy="3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8115480" y="4392720"/>
            <a:ext cx="628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840120" y="367668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848040" y="380952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36880" y="395244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303880" y="366552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311800" y="379836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300640" y="394128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737400" y="3666600"/>
            <a:ext cx="395280" cy="18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6745320" y="380052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6734160" y="3943440"/>
            <a:ext cx="395280" cy="14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e438a"/>
                </a:solidFill>
                <a:latin typeface="Verdana"/>
              </a:rPr>
              <a:t>Quality Prediction Models</a:t>
            </a:r>
            <a:br>
              <a:rPr sz="2800"/>
            </a:br>
            <a:r>
              <a:rPr b="1" lang="de-DE" sz="2800" spc="-1" strike="noStrike">
                <a:solidFill>
                  <a:srgbClr val="5c5c5c"/>
                </a:solidFill>
                <a:latin typeface="Verdana"/>
              </a:rPr>
              <a:t>P.OLQA, P.AMD and P.TCA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219640" y="3287880"/>
            <a:ext cx="762120" cy="144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22120" y="1743120"/>
            <a:ext cx="5040" cy="1531800"/>
          </a:xfrm>
          <a:prstGeom prst="line">
            <a:avLst/>
          </a:prstGeom>
          <a:ln w="3168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668160" y="1611720"/>
            <a:ext cx="1359000" cy="487080"/>
          </a:xfrm>
          <a:prstGeom prst="rect">
            <a:avLst/>
          </a:prstGeom>
          <a:solidFill>
            <a:srgbClr val="ff9900"/>
          </a:solidFill>
          <a:ln w="3168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Transmiss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ystem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100080" y="1763640"/>
            <a:ext cx="447480" cy="0"/>
          </a:xfrm>
          <a:prstGeom prst="line">
            <a:avLst/>
          </a:prstGeom>
          <a:ln w="3168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8410680" y="1868400"/>
            <a:ext cx="1440" cy="35712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4175280" y="2982960"/>
            <a:ext cx="99360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tern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epresent.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058840" y="1787040"/>
            <a:ext cx="387360" cy="1800"/>
          </a:xfrm>
          <a:prstGeom prst="line">
            <a:avLst/>
          </a:prstGeom>
          <a:ln w="3168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4172040" y="1525680"/>
            <a:ext cx="99360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ternal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epresent.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2476440" y="2973240"/>
            <a:ext cx="993960" cy="54324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e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ocess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2476440" y="1525680"/>
            <a:ext cx="99396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e-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Process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5460840" y="2274840"/>
            <a:ext cx="99396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Comparis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6730920" y="2274840"/>
            <a:ext cx="99396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tegrat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7975440" y="2274840"/>
            <a:ext cx="99396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Transform.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14200" y="3268440"/>
            <a:ext cx="2239920" cy="4680"/>
          </a:xfrm>
          <a:prstGeom prst="line">
            <a:avLst/>
          </a:prstGeom>
          <a:ln w="3168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6491160" y="2538360"/>
            <a:ext cx="216000" cy="180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7745400" y="2538360"/>
            <a:ext cx="216000" cy="180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>
            <a:off x="3529080" y="1789200"/>
            <a:ext cx="615960" cy="612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3525840" y="3268800"/>
            <a:ext cx="606600" cy="144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5178600" y="1787400"/>
            <a:ext cx="790560" cy="504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5958000" y="1800360"/>
            <a:ext cx="4680" cy="43956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957640" y="2835360"/>
            <a:ext cx="4680" cy="46836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2948040" y="2097000"/>
            <a:ext cx="4680" cy="83520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056440" y="1473120"/>
            <a:ext cx="701640" cy="3524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264280" y="4370400"/>
            <a:ext cx="137448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Noisines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dicator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5264280" y="5018040"/>
            <a:ext cx="137448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Coloration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dicator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5264280" y="5678640"/>
            <a:ext cx="137448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Loudnes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dicator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5264280" y="3684600"/>
            <a:ext cx="1374480" cy="542880"/>
          </a:xfrm>
          <a:prstGeom prst="rect">
            <a:avLst/>
          </a:prstGeom>
          <a:solidFill>
            <a:srgbClr val="6699ff"/>
          </a:solidFill>
          <a:ln w="381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Discontinuity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ndicator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-84960" y="5527800"/>
            <a:ext cx="3893040" cy="5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Côté 2010; Wältermann et al., 2008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3621240" y="1747800"/>
            <a:ext cx="88920" cy="88920"/>
          </a:xfrm>
          <a:prstGeom prst="ellipse">
            <a:avLst/>
          </a:prstGeom>
          <a:solidFill>
            <a:srgbClr val="1b5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846600" y="3220920"/>
            <a:ext cx="88920" cy="88920"/>
          </a:xfrm>
          <a:prstGeom prst="ellipse">
            <a:avLst/>
          </a:prstGeom>
          <a:solidFill>
            <a:srgbClr val="1b5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3666960" y="1809720"/>
            <a:ext cx="0" cy="428940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3892680" y="3301920"/>
            <a:ext cx="0" cy="251460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670200" y="5819760"/>
            <a:ext cx="1568520" cy="273240"/>
            <a:chOff x="3670200" y="5819760"/>
            <a:chExt cx="1568520" cy="273240"/>
          </a:xfrm>
        </p:grpSpPr>
        <p:sp>
          <p:nvSpPr>
            <p:cNvPr id="399" name=""/>
            <p:cNvSpPr/>
            <p:nvPr/>
          </p:nvSpPr>
          <p:spPr>
            <a:xfrm>
              <a:off x="3670200" y="6093000"/>
              <a:ext cx="1562040" cy="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89440" y="5819760"/>
              <a:ext cx="1349280" cy="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24120" y="5113440"/>
            <a:ext cx="1607760" cy="355320"/>
            <a:chOff x="3624120" y="5113440"/>
            <a:chExt cx="1607760" cy="355320"/>
          </a:xfrm>
        </p:grpSpPr>
        <p:sp>
          <p:nvSpPr>
            <p:cNvPr id="402" name=""/>
            <p:cNvSpPr/>
            <p:nvPr/>
          </p:nvSpPr>
          <p:spPr>
            <a:xfrm>
              <a:off x="3624120" y="5380200"/>
              <a:ext cx="88920" cy="8856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3664080" y="5156280"/>
              <a:ext cx="1567800" cy="272880"/>
              <a:chOff x="3664080" y="5156280"/>
              <a:chExt cx="1567800" cy="272880"/>
            </a:xfrm>
          </p:grpSpPr>
          <p:sp>
            <p:nvSpPr>
              <p:cNvPr id="404" name=""/>
              <p:cNvSpPr/>
              <p:nvPr/>
            </p:nvSpPr>
            <p:spPr>
              <a:xfrm>
                <a:off x="3664080" y="5429160"/>
                <a:ext cx="156168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2960" y="5156280"/>
                <a:ext cx="134892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3849840" y="511344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624120" y="4449600"/>
            <a:ext cx="1607760" cy="355320"/>
            <a:chOff x="3624120" y="4449600"/>
            <a:chExt cx="1607760" cy="355320"/>
          </a:xfrm>
        </p:grpSpPr>
        <p:sp>
          <p:nvSpPr>
            <p:cNvPr id="408" name=""/>
            <p:cNvSpPr/>
            <p:nvPr/>
          </p:nvSpPr>
          <p:spPr>
            <a:xfrm>
              <a:off x="3624120" y="4716360"/>
              <a:ext cx="88920" cy="8856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664080" y="4492440"/>
              <a:ext cx="1567800" cy="272880"/>
              <a:chOff x="3664080" y="4492440"/>
              <a:chExt cx="1567800" cy="272880"/>
            </a:xfrm>
          </p:grpSpPr>
          <p:sp>
            <p:nvSpPr>
              <p:cNvPr id="410" name=""/>
              <p:cNvSpPr/>
              <p:nvPr/>
            </p:nvSpPr>
            <p:spPr>
              <a:xfrm>
                <a:off x="3664080" y="4765320"/>
                <a:ext cx="156168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82960" y="4492440"/>
                <a:ext cx="134892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3849840" y="444960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624120" y="3814920"/>
            <a:ext cx="1607760" cy="355320"/>
            <a:chOff x="3624120" y="3814920"/>
            <a:chExt cx="1607760" cy="355320"/>
          </a:xfrm>
        </p:grpSpPr>
        <p:sp>
          <p:nvSpPr>
            <p:cNvPr id="414" name=""/>
            <p:cNvSpPr/>
            <p:nvPr/>
          </p:nvSpPr>
          <p:spPr>
            <a:xfrm>
              <a:off x="3624120" y="4081680"/>
              <a:ext cx="88920" cy="8856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664080" y="3857760"/>
              <a:ext cx="1567800" cy="272880"/>
              <a:chOff x="3664080" y="3857760"/>
              <a:chExt cx="1567800" cy="272880"/>
            </a:xfrm>
          </p:grpSpPr>
          <p:sp>
            <p:nvSpPr>
              <p:cNvPr id="416" name=""/>
              <p:cNvSpPr/>
              <p:nvPr/>
            </p:nvSpPr>
            <p:spPr>
              <a:xfrm>
                <a:off x="3664080" y="4130640"/>
                <a:ext cx="156168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882960" y="3857760"/>
                <a:ext cx="1348920" cy="0"/>
              </a:xfrm>
              <a:prstGeom prst="line">
                <a:avLst/>
              </a:prstGeom>
              <a:ln w="31680">
                <a:solidFill>
                  <a:srgbClr val="1b5ba2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3849840" y="381492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629400" y="3975120"/>
            <a:ext cx="12063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720800"/>
            <a:ext cx="88920" cy="88920"/>
          </a:xfrm>
          <a:prstGeom prst="ellipse">
            <a:avLst/>
          </a:prstGeom>
          <a:solidFill>
            <a:srgbClr val="1b5b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6649920" y="4662360"/>
            <a:ext cx="118296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6656400" y="5297400"/>
            <a:ext cx="119520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6657840" y="5975280"/>
            <a:ext cx="1192320" cy="0"/>
          </a:xfrm>
          <a:prstGeom prst="line">
            <a:avLst/>
          </a:prstGeom>
          <a:ln w="31680">
            <a:solidFill>
              <a:srgbClr val="1b5ba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24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821640" y="2870280"/>
            <a:ext cx="787320" cy="3149640"/>
            <a:chOff x="6821640" y="2870280"/>
            <a:chExt cx="787320" cy="3149640"/>
          </a:xfrm>
        </p:grpSpPr>
        <p:sp>
          <p:nvSpPr>
            <p:cNvPr id="426" name=""/>
            <p:cNvSpPr/>
            <p:nvPr/>
          </p:nvSpPr>
          <p:spPr>
            <a:xfrm flipV="1">
              <a:off x="6870600" y="2882880"/>
              <a:ext cx="0" cy="105408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099200" y="2870280"/>
              <a:ext cx="0" cy="175248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327800" y="2882880"/>
              <a:ext cx="0" cy="242568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556400" y="2882880"/>
              <a:ext cx="0" cy="3137040"/>
            </a:xfrm>
            <a:prstGeom prst="line">
              <a:avLst/>
            </a:prstGeom>
            <a:ln w="31680">
              <a:solidFill>
                <a:srgbClr val="1b5ba2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21640" y="393228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50240" y="460548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78840" y="524016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20040" y="5925960"/>
              <a:ext cx="88920" cy="88920"/>
            </a:xfrm>
            <a:prstGeom prst="ellipse">
              <a:avLst/>
            </a:prstGeom>
            <a:solidFill>
              <a:srgbClr val="1b5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872480" y="3759120"/>
            <a:ext cx="460440" cy="38124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7845480" y="4444920"/>
            <a:ext cx="488880" cy="3841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4"/>
          <a:stretch/>
        </p:blipFill>
        <p:spPr>
          <a:xfrm>
            <a:off x="7883640" y="5765760"/>
            <a:ext cx="488880" cy="38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7" name="Rectangle 3"/>
              <p:cNvSpPr txBox="1"/>
              <p:nvPr/>
            </p:nvSpPr>
            <p:spPr>
              <a:xfrm>
                <a:off x="7872480" y="5091120"/>
                <a:ext cx="4096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93280" y="32364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1b5ba2"/>
                </a:solidFill>
                <a:latin typeface="Verdana"/>
              </a:rPr>
              <a:t>Quality Prediction Models</a:t>
            </a:r>
            <a:br>
              <a:rPr sz="2800"/>
            </a:br>
            <a:r>
              <a:rPr b="1" lang="de-DE" sz="2800" spc="-1" strike="noStrike">
                <a:solidFill>
                  <a:srgbClr val="808080"/>
                </a:solidFill>
                <a:latin typeface="Verdana"/>
              </a:rPr>
              <a:t>Multi-dimensional approache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762200" y="1461960"/>
            <a:ext cx="4533840" cy="49262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5563800" y="5532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F</a:t>
            </a:r>
            <a:r>
              <a:rPr b="1" lang="de-DE" sz="2400" spc="-1" strike="noStrike" baseline="-25000">
                <a:solidFill>
                  <a:srgbClr val="5c5c5c"/>
                </a:solidFill>
                <a:latin typeface="Tele-GroteskFet"/>
                <a:ea typeface="Times New Roman"/>
              </a:rPr>
              <a:t>1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2407680" y="52912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F</a:t>
            </a:r>
            <a:r>
              <a:rPr b="1" lang="de-DE" sz="2400" spc="-1" strike="noStrike" baseline="-25000">
                <a:solidFill>
                  <a:srgbClr val="5c5c5c"/>
                </a:solidFill>
                <a:latin typeface="Tele-GroteskFet"/>
                <a:ea typeface="Times New Roman"/>
              </a:rPr>
              <a:t>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1509120" y="30970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F</a:t>
            </a:r>
            <a:r>
              <a:rPr b="1" lang="de-DE" sz="2400" spc="-1" strike="noStrike" baseline="-25000">
                <a:solidFill>
                  <a:srgbClr val="5c5c5c"/>
                </a:solidFill>
                <a:latin typeface="Tele-GroteskFet"/>
                <a:ea typeface="Times New Roman"/>
              </a:rPr>
              <a:t>3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3805560" y="601668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indirect, dark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6091200" y="515952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direct, bright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2523240" y="600696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interrupted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905760" y="49212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continuou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936000" y="4565520"/>
            <a:ext cx="105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not noisy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116360" y="2013120"/>
            <a:ext cx="84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   </a:t>
            </a: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noisy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5928480" y="1565280"/>
            <a:ext cx="2756160" cy="1438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F</a:t>
            </a:r>
            <a:r>
              <a:rPr b="1" lang="de-DE" sz="2000" spc="-1" strike="noStrike" baseline="-25000">
                <a:solidFill>
                  <a:srgbClr val="292929"/>
                </a:solidFill>
                <a:latin typeface="Tele-GroteskFet"/>
                <a:ea typeface="Times New Roman"/>
              </a:rPr>
              <a:t>1</a:t>
            </a: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: </a:t>
            </a:r>
            <a:r>
              <a:rPr b="0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Directness/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      </a:t>
            </a:r>
            <a:r>
              <a:rPr b="0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frequency content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F</a:t>
            </a:r>
            <a:r>
              <a:rPr b="1" lang="de-DE" sz="2000" spc="-1" strike="noStrike" baseline="-25000">
                <a:solidFill>
                  <a:srgbClr val="292929"/>
                </a:solidFill>
                <a:latin typeface="Tele-GroteskFet"/>
                <a:ea typeface="Times New Roman"/>
              </a:rPr>
              <a:t>2</a:t>
            </a: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: </a:t>
            </a:r>
            <a:r>
              <a:rPr b="0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Continuity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F</a:t>
            </a:r>
            <a:r>
              <a:rPr b="1" lang="de-DE" sz="2000" spc="-1" strike="noStrike" baseline="-25000">
                <a:solidFill>
                  <a:srgbClr val="292929"/>
                </a:solidFill>
                <a:latin typeface="Tele-GroteskFet"/>
                <a:ea typeface="Times New Roman"/>
              </a:rPr>
              <a:t>3</a:t>
            </a:r>
            <a:r>
              <a:rPr b="1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: </a:t>
            </a:r>
            <a:r>
              <a:rPr b="0" lang="de-DE" sz="2000" spc="-1" strike="noStrike">
                <a:solidFill>
                  <a:srgbClr val="292929"/>
                </a:solidFill>
                <a:latin typeface="Tele-GroteskFet"/>
                <a:ea typeface="Times New Roman"/>
              </a:rPr>
              <a:t>Noisiness</a:t>
            </a: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5864400" y="5837400"/>
            <a:ext cx="274140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Wältermann et al., 2006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2DF-5F84-4C86-93EB-2870B27D80FB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3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44F2-B5E9-4741-A90B-B7EF8E03590D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3913-FE6D-4DD9-98D7-9DE7BEA04885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4360" y="328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Tasks of Q.8/12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Overview.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428760" y="159228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Wideband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and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mixed-band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transmission scenarios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Terminal equipment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other than standard handset telephones (e.g. HFTs, headsets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Degradations introduced by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speech-processing devices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(e.g. EC, VAD, NR)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Use of the E-model for quality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Perceptual dimensions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other than “impairment”, i.e. “speech sound quality” and conversational quality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Additivity property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 of the E-model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Coverage of </a:t>
            </a:r>
            <a:r>
              <a:rPr b="1" lang="en-US" sz="2200" spc="-1" strike="noStrike">
                <a:solidFill>
                  <a:srgbClr val="080808"/>
                </a:solidFill>
                <a:latin typeface="Verdana"/>
              </a:rPr>
              <a:t>user expectation</a:t>
            </a: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, development of user expectation over time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040" y="310320"/>
            <a:ext cx="79218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Quality Assessment and Prediction </a:t>
            </a:r>
            <a:br>
              <a:rPr sz="2800"/>
            </a:b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E-model for narrowband network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1800000" y="2650680"/>
            <a:ext cx="237960" cy="9810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1572480" y="3633840"/>
            <a:ext cx="8236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Backgr.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noise,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acoustic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coupl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1742760" y="1670040"/>
            <a:ext cx="1609560" cy="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3241080" y="1535040"/>
            <a:ext cx="219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Linear distortion, delay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5451480" y="1666800"/>
            <a:ext cx="1793880" cy="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682720" y="2905200"/>
            <a:ext cx="190800" cy="71424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22560" y="3273120"/>
            <a:ext cx="324000" cy="3618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2659680" y="3633840"/>
            <a:ext cx="58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Codec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4533480" y="3289320"/>
            <a:ext cx="142920" cy="3240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4496760" y="3633840"/>
            <a:ext cx="630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Packet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loss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3605040" y="3633840"/>
            <a:ext cx="643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Jitter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buffer,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VAD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768840" y="3304800"/>
            <a:ext cx="123840" cy="31428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502320" y="2857320"/>
            <a:ext cx="762120" cy="78084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>
            <a:off x="5809320" y="3633840"/>
            <a:ext cx="1224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Talker echo,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listener echo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>
            <a:off x="7150680" y="3633840"/>
            <a:ext cx="612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Circuit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noise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537320" y="2759040"/>
            <a:ext cx="0" cy="86688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4" name=""/>
          <p:cNvSpPr/>
          <p:nvPr/>
        </p:nvSpPr>
        <p:spPr>
          <a:xfrm>
            <a:off x="8020080" y="3683160"/>
            <a:ext cx="733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Backgr.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noise,</a:t>
            </a:r>
            <a:br>
              <a:rPr sz="1600"/>
            </a:b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acoustic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c5c5c"/>
                </a:solidFill>
                <a:latin typeface="Tele-GroteskFet"/>
                <a:ea typeface="Times New Roman"/>
              </a:rPr>
              <a:t>coupling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8302680" y="2437920"/>
            <a:ext cx="85680" cy="1171800"/>
          </a:xfrm>
          <a:prstGeom prst="line">
            <a:avLst/>
          </a:prstGeom>
          <a:ln w="25560">
            <a:solidFill>
              <a:srgbClr val="1b5ba2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452520" y="1390680"/>
            <a:ext cx="8354880" cy="2063880"/>
            <a:chOff x="452520" y="1390680"/>
            <a:chExt cx="8354880" cy="2063880"/>
          </a:xfrm>
        </p:grpSpPr>
        <p:graphicFrame>
          <p:nvGraphicFramePr>
            <p:cNvPr id="477" name=""/>
            <p:cNvGraphicFramePr/>
            <p:nvPr/>
          </p:nvGraphicFramePr>
          <p:xfrm>
            <a:off x="1442880" y="1994040"/>
            <a:ext cx="57636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2880" y="1994040"/>
                      <a:ext cx="57636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9" name=""/>
            <p:cNvSpPr/>
            <p:nvPr/>
          </p:nvSpPr>
          <p:spPr>
            <a:xfrm>
              <a:off x="2362320" y="20862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80" name="Cloud"/>
            <p:cNvSpPr/>
            <p:nvPr/>
          </p:nvSpPr>
          <p:spPr>
            <a:xfrm>
              <a:off x="4297320" y="2754360"/>
              <a:ext cx="1044720" cy="7002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1b5ba2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5c5c5c"/>
                  </a:solidFill>
                  <a:latin typeface="Tele-GroteskFet"/>
                  <a:ea typeface="Times New Roman"/>
                </a:rPr>
                <a:t>IP WAN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481" name=""/>
            <p:cNvGraphicFramePr/>
            <p:nvPr/>
          </p:nvGraphicFramePr>
          <p:xfrm>
            <a:off x="5492880" y="2955960"/>
            <a:ext cx="925560" cy="2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92880" y="2955960"/>
                      <a:ext cx="9255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3" name=""/>
            <p:cNvSpPr/>
            <p:nvPr/>
          </p:nvSpPr>
          <p:spPr>
            <a:xfrm>
              <a:off x="2011320" y="2573640"/>
              <a:ext cx="2383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19280" y="2789280"/>
              <a:ext cx="62388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485" name=""/>
            <p:cNvGraphicFramePr/>
            <p:nvPr/>
          </p:nvGraphicFramePr>
          <p:xfrm>
            <a:off x="8050320" y="1632240"/>
            <a:ext cx="576000" cy="67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50320" y="1632240"/>
                      <a:ext cx="5760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 flipV="1">
              <a:off x="2982960" y="2209680"/>
              <a:ext cx="0" cy="27756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989440" y="2826000"/>
              <a:ext cx="0" cy="27144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78280" y="2211480"/>
              <a:ext cx="35064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84400" y="3094200"/>
              <a:ext cx="3222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491" name=""/>
            <p:cNvGraphicFramePr/>
            <p:nvPr/>
          </p:nvGraphicFramePr>
          <p:xfrm>
            <a:off x="2224080" y="2470320"/>
            <a:ext cx="91116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24080" y="2470320"/>
                      <a:ext cx="9111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"/>
            <p:cNvSpPr/>
            <p:nvPr/>
          </p:nvSpPr>
          <p:spPr>
            <a:xfrm>
              <a:off x="4200480" y="2211480"/>
              <a:ext cx="3063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48440" y="2211480"/>
              <a:ext cx="2905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495" name=""/>
            <p:cNvGraphicFramePr/>
            <p:nvPr/>
          </p:nvGraphicFramePr>
          <p:xfrm>
            <a:off x="5508720" y="1990800"/>
            <a:ext cx="9111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08720" y="1990800"/>
                      <a:ext cx="9111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7" name=""/>
            <p:cNvSpPr/>
            <p:nvPr/>
          </p:nvSpPr>
          <p:spPr>
            <a:xfrm>
              <a:off x="4206960" y="3081600"/>
              <a:ext cx="871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16560" y="3144960"/>
              <a:ext cx="8748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04040" y="2205360"/>
              <a:ext cx="3222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10160" y="3081600"/>
              <a:ext cx="3225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6723000" y="2200320"/>
              <a:ext cx="0" cy="27144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6729480" y="2812680"/>
              <a:ext cx="0" cy="27180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03" name=""/>
            <p:cNvGraphicFramePr/>
            <p:nvPr/>
          </p:nvGraphicFramePr>
          <p:xfrm>
            <a:off x="6510240" y="2438640"/>
            <a:ext cx="91116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0240" y="2438640"/>
                      <a:ext cx="9111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5" name=""/>
            <p:cNvSpPr/>
            <p:nvPr/>
          </p:nvSpPr>
          <p:spPr>
            <a:xfrm>
              <a:off x="7407360" y="2706840"/>
              <a:ext cx="3603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00880" y="2548080"/>
              <a:ext cx="6876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7729560" y="2592720"/>
            <a:ext cx="549360" cy="40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29560" y="2592720"/>
                      <a:ext cx="5493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9" name=""/>
            <p:cNvSpPr/>
            <p:nvPr/>
          </p:nvSpPr>
          <p:spPr>
            <a:xfrm>
              <a:off x="8070840" y="215928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0" y="246"/>
                  </a:moveTo>
                  <a:cubicBezTo>
                    <a:pt x="15" y="244"/>
                    <a:pt x="52" y="249"/>
                    <a:pt x="92" y="232"/>
                  </a:cubicBezTo>
                  <a:cubicBezTo>
                    <a:pt x="132" y="215"/>
                    <a:pt x="206" y="185"/>
                    <a:pt x="240" y="146"/>
                  </a:cubicBezTo>
                  <a:cubicBezTo>
                    <a:pt x="274" y="107"/>
                    <a:pt x="284" y="30"/>
                    <a:pt x="296" y="0"/>
                  </a:cubicBezTo>
                </a:path>
              </a:pathLst>
            </a:custGeom>
            <a:noFill/>
            <a:ln w="12600">
              <a:solidFill>
                <a:srgbClr val="1b5b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40640" y="2117880"/>
              <a:ext cx="149400" cy="108000"/>
            </a:xfrm>
            <a:custGeom>
              <a:avLst/>
              <a:gdLst>
                <a:gd name="textAreaLeft" fmla="*/ 22320 w 149400"/>
                <a:gd name="textAreaRight" fmla="*/ 127080 w 149400"/>
                <a:gd name="textAreaTop" fmla="*/ 16200 h 108000"/>
                <a:gd name="textAreaBottom" fmla="*/ 9180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rot="16200000">
              <a:off x="4293000" y="2073240"/>
              <a:ext cx="682560" cy="260280"/>
            </a:xfrm>
            <a:custGeom>
              <a:avLst/>
              <a:gdLst>
                <a:gd name="textAreaLeft" fmla="*/ 200880 w 682560"/>
                <a:gd name="textAreaRight" fmla="*/ 481680 w 682560"/>
                <a:gd name="textAreaTop" fmla="*/ 76680 h 260280"/>
                <a:gd name="textAreaBottom" fmla="*/ 18360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296" y="21600"/>
                  </a:lnTo>
                  <a:lnTo>
                    <a:pt x="8304" y="21600"/>
                  </a:lnTo>
                  <a:close/>
                </a:path>
              </a:pathLst>
            </a:custGeom>
            <a:noFill/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4781160" y="2073240"/>
              <a:ext cx="682560" cy="260280"/>
            </a:xfrm>
            <a:custGeom>
              <a:avLst/>
              <a:gdLst>
                <a:gd name="textAreaLeft" fmla="*/ 200880 w 682560"/>
                <a:gd name="textAreaRight" fmla="*/ 481680 w 682560"/>
                <a:gd name="textAreaTop" fmla="*/ 76680 h 260280"/>
                <a:gd name="textAreaBottom" fmla="*/ 18360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296" y="21600"/>
                  </a:lnTo>
                  <a:lnTo>
                    <a:pt x="8304" y="21600"/>
                  </a:lnTo>
                  <a:close/>
                </a:path>
              </a:pathLst>
            </a:custGeom>
            <a:noFill/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cxnSp>
          <p:nvCxnSpPr>
            <p:cNvPr id="513" name=""/>
            <p:cNvCxnSpPr>
              <a:stCxn id="511" idx="1"/>
              <a:endCxn id="512" idx="1"/>
            </p:cNvCxnSpPr>
            <p:nvPr/>
          </p:nvCxnSpPr>
          <p:spPr>
            <a:xfrm>
              <a:off x="4765320" y="2203200"/>
              <a:ext cx="227880" cy="1080"/>
            </a:xfrm>
            <a:prstGeom prst="bentConnector2">
              <a:avLst/>
            </a:prstGeom>
            <a:ln w="12600">
              <a:solidFill>
                <a:srgbClr val="1b5ba2"/>
              </a:solidFill>
              <a:miter/>
            </a:ln>
          </p:spPr>
        </p:cxnSp>
        <p:graphicFrame>
          <p:nvGraphicFramePr>
            <p:cNvPr id="514" name=""/>
            <p:cNvGraphicFramePr/>
            <p:nvPr/>
          </p:nvGraphicFramePr>
          <p:xfrm>
            <a:off x="3316320" y="1989360"/>
            <a:ext cx="91116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16320" y="1989360"/>
                      <a:ext cx="9111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6" name=""/>
            <p:cNvGraphicFramePr/>
            <p:nvPr/>
          </p:nvGraphicFramePr>
          <p:xfrm>
            <a:off x="3297240" y="2955960"/>
            <a:ext cx="925560" cy="297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1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97240" y="2955960"/>
                      <a:ext cx="9255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8" name=""/>
            <p:cNvGraphicFramePr/>
            <p:nvPr/>
          </p:nvGraphicFramePr>
          <p:xfrm>
            <a:off x="452520" y="2132280"/>
            <a:ext cx="214200" cy="971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2520" y="2132280"/>
                      <a:ext cx="21420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0" name=""/>
            <p:cNvGraphicFramePr/>
            <p:nvPr/>
          </p:nvGraphicFramePr>
          <p:xfrm>
            <a:off x="8593200" y="1766880"/>
            <a:ext cx="214200" cy="971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21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593200" y="1766880"/>
                      <a:ext cx="21420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22" name=""/>
            <p:cNvGraphicFramePr/>
            <p:nvPr/>
          </p:nvGraphicFramePr>
          <p:xfrm>
            <a:off x="1085760" y="2686320"/>
            <a:ext cx="549360" cy="401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2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085760" y="2686320"/>
                      <a:ext cx="5493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24" name="" descr=""/>
            <p:cNvPicPr/>
            <p:nvPr/>
          </p:nvPicPr>
          <p:blipFill>
            <a:blip r:embed="rId25"/>
            <a:stretch/>
          </p:blipFill>
          <p:spPr>
            <a:xfrm>
              <a:off x="777960" y="1746360"/>
              <a:ext cx="6555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26"/>
            <a:stretch/>
          </p:blipFill>
          <p:spPr>
            <a:xfrm>
              <a:off x="7458120" y="1390680"/>
              <a:ext cx="655560" cy="925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2235240" y="5181480"/>
            <a:ext cx="851040" cy="571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>
            <a:off x="7264440" y="5181480"/>
            <a:ext cx="851040" cy="571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28" name=""/>
          <p:cNvSpPr/>
          <p:nvPr/>
        </p:nvSpPr>
        <p:spPr>
          <a:xfrm>
            <a:off x="2230560" y="5165640"/>
            <a:ext cx="5881680" cy="600120"/>
          </a:xfrm>
          <a:prstGeom prst="rect">
            <a:avLst/>
          </a:prstGeom>
          <a:noFill/>
          <a:ln w="25560">
            <a:solidFill>
              <a:srgbClr val="1b5b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52520" y="1390680"/>
            <a:ext cx="8354880" cy="2063880"/>
            <a:chOff x="452520" y="1390680"/>
            <a:chExt cx="8354880" cy="2063880"/>
          </a:xfrm>
        </p:grpSpPr>
        <p:graphicFrame>
          <p:nvGraphicFramePr>
            <p:cNvPr id="530" name=""/>
            <p:cNvGraphicFramePr/>
            <p:nvPr/>
          </p:nvGraphicFramePr>
          <p:xfrm>
            <a:off x="1442880" y="1994040"/>
            <a:ext cx="57636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2880" y="1994040"/>
                      <a:ext cx="57636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2" name=""/>
            <p:cNvSpPr/>
            <p:nvPr/>
          </p:nvSpPr>
          <p:spPr>
            <a:xfrm>
              <a:off x="2362320" y="20862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33" name="Cloud"/>
            <p:cNvSpPr/>
            <p:nvPr/>
          </p:nvSpPr>
          <p:spPr>
            <a:xfrm>
              <a:off x="4297320" y="2754360"/>
              <a:ext cx="1044720" cy="700200"/>
            </a:xfrm>
            <a:prstGeom prst="pie">
              <a:avLst/>
            </a:prstGeom>
            <a:solidFill>
              <a:srgbClr val="b2b2b2"/>
            </a:solidFill>
            <a:ln w="9360">
              <a:solidFill>
                <a:srgbClr val="1b5ba2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5c5c5c"/>
                  </a:solidFill>
                  <a:latin typeface="Tele-GroteskFet"/>
                  <a:ea typeface="Times New Roman"/>
                </a:rPr>
                <a:t>IP WAN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34" name=""/>
            <p:cNvGraphicFramePr/>
            <p:nvPr/>
          </p:nvGraphicFramePr>
          <p:xfrm>
            <a:off x="5492880" y="2955960"/>
            <a:ext cx="925560" cy="2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92880" y="2955960"/>
                      <a:ext cx="9255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6" name=""/>
            <p:cNvSpPr/>
            <p:nvPr/>
          </p:nvSpPr>
          <p:spPr>
            <a:xfrm>
              <a:off x="2011320" y="2573640"/>
              <a:ext cx="2383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19280" y="2789280"/>
              <a:ext cx="62388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38" name=""/>
            <p:cNvGraphicFramePr/>
            <p:nvPr/>
          </p:nvGraphicFramePr>
          <p:xfrm>
            <a:off x="8050320" y="1632240"/>
            <a:ext cx="576000" cy="674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50320" y="1632240"/>
                      <a:ext cx="5760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 flipV="1">
              <a:off x="2982960" y="2209680"/>
              <a:ext cx="0" cy="27756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989440" y="2826000"/>
              <a:ext cx="0" cy="27144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8280" y="2211480"/>
              <a:ext cx="35064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984400" y="3094200"/>
              <a:ext cx="3222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44" name=""/>
            <p:cNvGraphicFramePr/>
            <p:nvPr/>
          </p:nvGraphicFramePr>
          <p:xfrm>
            <a:off x="2224080" y="2470320"/>
            <a:ext cx="91116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24080" y="2470320"/>
                      <a:ext cx="9111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6" name=""/>
            <p:cNvSpPr/>
            <p:nvPr/>
          </p:nvSpPr>
          <p:spPr>
            <a:xfrm>
              <a:off x="4200480" y="2211480"/>
              <a:ext cx="3063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248440" y="2211480"/>
              <a:ext cx="2905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48" name=""/>
            <p:cNvGraphicFramePr/>
            <p:nvPr/>
          </p:nvGraphicFramePr>
          <p:xfrm>
            <a:off x="5508720" y="1990800"/>
            <a:ext cx="91116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4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08720" y="1990800"/>
                      <a:ext cx="91116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0" name=""/>
            <p:cNvSpPr/>
            <p:nvPr/>
          </p:nvSpPr>
          <p:spPr>
            <a:xfrm>
              <a:off x="4206960" y="3081600"/>
              <a:ext cx="8712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16560" y="3144960"/>
              <a:ext cx="8748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404040" y="2205360"/>
              <a:ext cx="3222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10160" y="3081600"/>
              <a:ext cx="3225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6723000" y="2200320"/>
              <a:ext cx="0" cy="27144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6729480" y="2812680"/>
              <a:ext cx="0" cy="27180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6510240" y="2438640"/>
            <a:ext cx="911160" cy="393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0240" y="2438640"/>
                      <a:ext cx="9111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8" name=""/>
            <p:cNvSpPr/>
            <p:nvPr/>
          </p:nvSpPr>
          <p:spPr>
            <a:xfrm>
              <a:off x="7407360" y="2706840"/>
              <a:ext cx="36036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00880" y="2548080"/>
              <a:ext cx="687600" cy="0"/>
            </a:xfrm>
            <a:prstGeom prst="line">
              <a:avLst/>
            </a:prstGeom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aphicFrame>
          <p:nvGraphicFramePr>
            <p:cNvPr id="560" name=""/>
            <p:cNvGraphicFramePr/>
            <p:nvPr/>
          </p:nvGraphicFramePr>
          <p:xfrm>
            <a:off x="7729560" y="2592720"/>
            <a:ext cx="549360" cy="401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6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729560" y="2592720"/>
                      <a:ext cx="5493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2" name=""/>
            <p:cNvSpPr/>
            <p:nvPr/>
          </p:nvSpPr>
          <p:spPr>
            <a:xfrm>
              <a:off x="8070840" y="2159280"/>
              <a:ext cx="469800" cy="395280"/>
            </a:xfrm>
            <a:custGeom>
              <a:avLst/>
              <a:gdLst/>
              <a:ahLst/>
              <a:rect l="l" t="t" r="r" b="b"/>
              <a:pathLst>
                <a:path w="296" h="249">
                  <a:moveTo>
                    <a:pt x="0" y="246"/>
                  </a:moveTo>
                  <a:cubicBezTo>
                    <a:pt x="15" y="244"/>
                    <a:pt x="52" y="249"/>
                    <a:pt x="92" y="232"/>
                  </a:cubicBezTo>
                  <a:cubicBezTo>
                    <a:pt x="132" y="215"/>
                    <a:pt x="206" y="185"/>
                    <a:pt x="240" y="146"/>
                  </a:cubicBezTo>
                  <a:cubicBezTo>
                    <a:pt x="274" y="107"/>
                    <a:pt x="284" y="30"/>
                    <a:pt x="296" y="0"/>
                  </a:cubicBezTo>
                </a:path>
              </a:pathLst>
            </a:custGeom>
            <a:noFill/>
            <a:ln w="12600">
              <a:solidFill>
                <a:srgbClr val="1b5ba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540640" y="2117880"/>
              <a:ext cx="149400" cy="108000"/>
            </a:xfrm>
            <a:custGeom>
              <a:avLst/>
              <a:gdLst>
                <a:gd name="textAreaLeft" fmla="*/ 22320 w 149400"/>
                <a:gd name="textAreaRight" fmla="*/ 127080 w 149400"/>
                <a:gd name="textAreaTop" fmla="*/ 16200 h 108000"/>
                <a:gd name="textAreaBottom" fmla="*/ 91800 h 1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000066"/>
            </a:solidFill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16200000">
              <a:off x="4293000" y="2073240"/>
              <a:ext cx="682560" cy="260280"/>
            </a:xfrm>
            <a:custGeom>
              <a:avLst/>
              <a:gdLst>
                <a:gd name="textAreaLeft" fmla="*/ 200880 w 682560"/>
                <a:gd name="textAreaRight" fmla="*/ 481680 w 682560"/>
                <a:gd name="textAreaTop" fmla="*/ 76680 h 260280"/>
                <a:gd name="textAreaBottom" fmla="*/ 18360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296" y="21600"/>
                  </a:lnTo>
                  <a:lnTo>
                    <a:pt x="8304" y="21600"/>
                  </a:lnTo>
                  <a:close/>
                </a:path>
              </a:pathLst>
            </a:custGeom>
            <a:noFill/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4781160" y="2073240"/>
              <a:ext cx="682560" cy="260280"/>
            </a:xfrm>
            <a:custGeom>
              <a:avLst/>
              <a:gdLst>
                <a:gd name="textAreaLeft" fmla="*/ 200880 w 682560"/>
                <a:gd name="textAreaRight" fmla="*/ 481680 w 682560"/>
                <a:gd name="textAreaTop" fmla="*/ 76680 h 260280"/>
                <a:gd name="textAreaBottom" fmla="*/ 183600 h 26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3296" y="21600"/>
                  </a:lnTo>
                  <a:lnTo>
                    <a:pt x="8304" y="21600"/>
                  </a:lnTo>
                  <a:close/>
                </a:path>
              </a:pathLst>
            </a:custGeom>
            <a:noFill/>
            <a:ln w="12600">
              <a:solidFill>
                <a:srgbClr val="1b5b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cxnSp>
          <p:nvCxnSpPr>
            <p:cNvPr id="566" name=""/>
            <p:cNvCxnSpPr>
              <a:stCxn id="564" idx="1"/>
              <a:endCxn id="565" idx="1"/>
            </p:cNvCxnSpPr>
            <p:nvPr/>
          </p:nvCxnSpPr>
          <p:spPr>
            <a:xfrm>
              <a:off x="4765320" y="2203200"/>
              <a:ext cx="227880" cy="1080"/>
            </a:xfrm>
            <a:prstGeom prst="bentConnector2">
              <a:avLst/>
            </a:prstGeom>
            <a:ln w="12600">
              <a:solidFill>
                <a:srgbClr val="1b5ba2"/>
              </a:solidFill>
              <a:miter/>
            </a:ln>
          </p:spPr>
        </p:cxnSp>
        <p:graphicFrame>
          <p:nvGraphicFramePr>
            <p:cNvPr id="567" name=""/>
            <p:cNvGraphicFramePr/>
            <p:nvPr/>
          </p:nvGraphicFramePr>
          <p:xfrm>
            <a:off x="3316320" y="1989360"/>
            <a:ext cx="911160" cy="393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316320" y="1989360"/>
                      <a:ext cx="91116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9" name=""/>
            <p:cNvGraphicFramePr/>
            <p:nvPr/>
          </p:nvGraphicFramePr>
          <p:xfrm>
            <a:off x="3297240" y="2955960"/>
            <a:ext cx="925560" cy="2970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97240" y="2955960"/>
                      <a:ext cx="925560" cy="2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1" name=""/>
            <p:cNvGraphicFramePr/>
            <p:nvPr/>
          </p:nvGraphicFramePr>
          <p:xfrm>
            <a:off x="452520" y="2132280"/>
            <a:ext cx="214200" cy="971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72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52520" y="2132280"/>
                      <a:ext cx="214200" cy="97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3" name=""/>
            <p:cNvGraphicFramePr/>
            <p:nvPr/>
          </p:nvGraphicFramePr>
          <p:xfrm>
            <a:off x="8593200" y="1766880"/>
            <a:ext cx="214200" cy="971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74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593200" y="1766880"/>
                      <a:ext cx="214200" cy="9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5" name=""/>
            <p:cNvGraphicFramePr/>
            <p:nvPr/>
          </p:nvGraphicFramePr>
          <p:xfrm>
            <a:off x="1085760" y="2686320"/>
            <a:ext cx="549360" cy="4014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085760" y="2686320"/>
                      <a:ext cx="549360" cy="40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77" name="" descr=""/>
            <p:cNvPicPr/>
            <p:nvPr/>
          </p:nvPicPr>
          <p:blipFill>
            <a:blip r:embed="rId25"/>
            <a:stretch/>
          </p:blipFill>
          <p:spPr>
            <a:xfrm>
              <a:off x="777960" y="1746360"/>
              <a:ext cx="6555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6"/>
            <a:stretch/>
          </p:blipFill>
          <p:spPr>
            <a:xfrm>
              <a:off x="7458120" y="1390680"/>
              <a:ext cx="65556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3330720" y="4780080"/>
            <a:ext cx="4259160" cy="302760"/>
            <a:chOff x="3330720" y="4780080"/>
            <a:chExt cx="4259160" cy="302760"/>
          </a:xfrm>
        </p:grpSpPr>
        <p:sp>
          <p:nvSpPr>
            <p:cNvPr id="580" name=""/>
            <p:cNvSpPr/>
            <p:nvPr/>
          </p:nvSpPr>
          <p:spPr>
            <a:xfrm>
              <a:off x="3330720" y="4784760"/>
              <a:ext cx="0" cy="2930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49840" y="4787640"/>
              <a:ext cx="0" cy="2952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69320" y="4787640"/>
              <a:ext cx="0" cy="2952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7588440" y="4780080"/>
              <a:ext cx="1440" cy="29808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385920" y="5281560"/>
            <a:ext cx="80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152800"/>
                <a:tab algn="ctr" pos="2854440"/>
                <a:tab algn="ctr" pos="4305240"/>
                <a:tab algn="ctr" pos="5648400"/>
                <a:tab algn="ctr" pos="70866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Overall quality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 =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o 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- Is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- Id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- Ie,eff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366840" y="5948280"/>
            <a:ext cx="80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193840"/>
                <a:tab algn="ctr" pos="2854440"/>
                <a:tab algn="ctr" pos="4378320"/>
                <a:tab algn="ctr" pos="5618160"/>
                <a:tab algn="ctr" pos="705168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Estimated user judgment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MOS = 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  (</a:t>
            </a:r>
            <a:r>
              <a:rPr b="0" i="1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368280" y="4413240"/>
            <a:ext cx="842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867040"/>
                <a:tab algn="ctr" pos="4305240"/>
                <a:tab algn="ctr" pos="5743440"/>
                <a:tab algn="ctr" pos="717228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Impairments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NR 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imultaneous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delayed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nonlin./timevar.</a:t>
            </a:r>
            <a:endParaRPr b="0" lang="en-US" sz="16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1704600" y="1666800"/>
            <a:ext cx="6645600" cy="1971720"/>
            <a:chOff x="1704600" y="1666800"/>
            <a:chExt cx="6645600" cy="1971720"/>
          </a:xfrm>
        </p:grpSpPr>
        <p:sp>
          <p:nvSpPr>
            <p:cNvPr id="588" name=""/>
            <p:cNvSpPr/>
            <p:nvPr/>
          </p:nvSpPr>
          <p:spPr>
            <a:xfrm flipH="1" flipV="1">
              <a:off x="1761840" y="2650680"/>
              <a:ext cx="238320" cy="9810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04600" y="1669680"/>
              <a:ext cx="1695240" cy="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21320" y="1666800"/>
              <a:ext cx="1685880" cy="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 flipV="1">
              <a:off x="2644200" y="2904480"/>
              <a:ext cx="190440" cy="7146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984400" y="3273120"/>
              <a:ext cx="323640" cy="3621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4495320" y="3288960"/>
              <a:ext cx="142920" cy="3240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3730320" y="3304800"/>
              <a:ext cx="123840" cy="3146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464160" y="2857320"/>
              <a:ext cx="762120" cy="78120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99160" y="2758680"/>
              <a:ext cx="0" cy="86652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8264520" y="2438280"/>
              <a:ext cx="85680" cy="11714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981080" y="1809720"/>
            <a:ext cx="5952960" cy="2612880"/>
            <a:chOff x="1981080" y="1809720"/>
            <a:chExt cx="5952960" cy="2612880"/>
          </a:xfrm>
        </p:grpSpPr>
        <p:sp>
          <p:nvSpPr>
            <p:cNvPr id="599" name=""/>
            <p:cNvSpPr/>
            <p:nvPr/>
          </p:nvSpPr>
          <p:spPr>
            <a:xfrm>
              <a:off x="1981080" y="3927240"/>
              <a:ext cx="1257120" cy="4953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282840" y="1809720"/>
              <a:ext cx="1123920" cy="26096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584520" y="3904920"/>
              <a:ext cx="4349520" cy="4953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438000" y="3920760"/>
              <a:ext cx="4048200" cy="47628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057400" y="1803240"/>
            <a:ext cx="5864040" cy="2600280"/>
            <a:chOff x="2057400" y="1803240"/>
            <a:chExt cx="5864040" cy="2600280"/>
          </a:xfrm>
        </p:grpSpPr>
        <p:sp>
          <p:nvSpPr>
            <p:cNvPr id="604" name=""/>
            <p:cNvSpPr/>
            <p:nvPr/>
          </p:nvSpPr>
          <p:spPr>
            <a:xfrm>
              <a:off x="3070080" y="3902040"/>
              <a:ext cx="1666800" cy="4856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95680" y="1803240"/>
              <a:ext cx="342720" cy="260028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057400" y="3898800"/>
              <a:ext cx="2428560" cy="4953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921200" y="3936960"/>
              <a:ext cx="3000240" cy="4539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626000" y="1800360"/>
            <a:ext cx="1624680" cy="2635200"/>
            <a:chOff x="4626000" y="1800360"/>
            <a:chExt cx="1624680" cy="2635200"/>
          </a:xfrm>
        </p:grpSpPr>
        <p:sp>
          <p:nvSpPr>
            <p:cNvPr id="609" name=""/>
            <p:cNvSpPr/>
            <p:nvPr/>
          </p:nvSpPr>
          <p:spPr>
            <a:xfrm>
              <a:off x="4626000" y="1800360"/>
              <a:ext cx="1495080" cy="262908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203520" y="4131000"/>
              <a:ext cx="47160" cy="30456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000240" y="3895560"/>
            <a:ext cx="4521240" cy="488880"/>
            <a:chOff x="3000240" y="3895560"/>
            <a:chExt cx="4521240" cy="488880"/>
          </a:xfrm>
        </p:grpSpPr>
        <p:sp>
          <p:nvSpPr>
            <p:cNvPr id="612" name=""/>
            <p:cNvSpPr/>
            <p:nvPr/>
          </p:nvSpPr>
          <p:spPr>
            <a:xfrm>
              <a:off x="3000240" y="3898800"/>
              <a:ext cx="4390920" cy="48564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02040" y="3895560"/>
              <a:ext cx="3619440" cy="476280"/>
            </a:xfrm>
            <a:prstGeom prst="line">
              <a:avLst/>
            </a:prstGeom>
            <a:ln w="25560">
              <a:solidFill>
                <a:srgbClr val="1b5ba2"/>
              </a:solidFill>
              <a:prstDash val="sysDot"/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559880" y="1562040"/>
            <a:ext cx="7355520" cy="2547360"/>
            <a:chOff x="1559880" y="1562040"/>
            <a:chExt cx="7355520" cy="2547360"/>
          </a:xfrm>
        </p:grpSpPr>
        <p:sp>
          <p:nvSpPr>
            <p:cNvPr id="615" name=""/>
            <p:cNvSpPr/>
            <p:nvPr/>
          </p:nvSpPr>
          <p:spPr>
            <a:xfrm>
              <a:off x="1559880" y="3660480"/>
              <a:ext cx="596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Ps, Ds,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STMR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888720" y="1562040"/>
              <a:ext cx="11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SLR, RLR, Ta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99280" y="3660480"/>
              <a:ext cx="5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Ie, qdu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45720" y="3660480"/>
              <a:ext cx="27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Ppl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36080" y="366048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Bpl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85280" y="3660480"/>
              <a:ext cx="793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TELR, T,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WEPL, Tr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160760" y="3660480"/>
              <a:ext cx="69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Nc, Nfor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59600" y="3682800"/>
              <a:ext cx="955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Pr, Dr,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1b5ba2"/>
                  </a:solidFill>
                  <a:latin typeface="Arial"/>
                  <a:ea typeface="Times New Roman"/>
                </a:rPr>
                <a:t>LSTR</a:t>
              </a:r>
              <a:endParaRPr b="0" lang="en-US" sz="14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623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44040" y="310320"/>
            <a:ext cx="79218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Quality Assessment and Prediction </a:t>
            </a:r>
            <a:br>
              <a:rPr sz="2800"/>
            </a:b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E-model for narrowband network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4680" y="350640"/>
            <a:ext cx="855684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Quality Assessment and Prediction </a:t>
            </a:r>
            <a:br>
              <a:rPr sz="2800"/>
            </a:br>
            <a:r>
              <a:rPr b="1" lang="en-US" sz="2600" spc="-1" strike="noStrike">
                <a:solidFill>
                  <a:srgbClr val="5c5c5c"/>
                </a:solidFill>
                <a:latin typeface="Verdana"/>
              </a:rPr>
              <a:t>E-model extension for wideband networks.</a:t>
            </a:r>
            <a:endParaRPr b="1" lang="en-US" sz="2600" spc="-1" strike="noStrike">
              <a:solidFill>
                <a:srgbClr val="1b5ba2"/>
              </a:solidFill>
              <a:latin typeface="Verdana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560520" y="1320840"/>
            <a:ext cx="3795480" cy="48290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3895560" y="5913360"/>
            <a:ext cx="4710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Raake, 2006; Appendix II, ITU-T Rec. G.107, 2006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4491000" y="1557360"/>
            <a:ext cx="4415040" cy="35575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222640" y="1892160"/>
            <a:ext cx="21081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268360" y="1787400"/>
            <a:ext cx="363600" cy="0"/>
          </a:xfrm>
          <a:prstGeom prst="line">
            <a:avLst/>
          </a:prstGeom>
          <a:ln w="2844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32" name=""/>
          <p:cNvSpPr/>
          <p:nvPr/>
        </p:nvSpPr>
        <p:spPr>
          <a:xfrm>
            <a:off x="2577240" y="1611360"/>
            <a:ext cx="145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Ro,max</a:t>
            </a:r>
            <a:r>
              <a:rPr b="0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  = 129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34" name=""/>
          <p:cNvSpPr/>
          <p:nvPr/>
        </p:nvSpPr>
        <p:spPr>
          <a:xfrm>
            <a:off x="3556080" y="5867280"/>
            <a:ext cx="55879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975200" y="1284120"/>
          <a:ext cx="3382920" cy="5407200"/>
        </p:xfrm>
        <a:graphic>
          <a:graphicData uri="http://schemas.openxmlformats.org/drawingml/2006/table">
            <a:tbl>
              <a:tblPr/>
              <a:tblGrid>
                <a:gridCol w="1478160"/>
                <a:gridCol w="760320"/>
                <a:gridCol w="11444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Ref.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Operating rate kbit/s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Ie,wb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 row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2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64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20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3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2.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32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24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9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rowSpan="9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2.2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23.8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23.0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9.8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8.2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5.8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7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4.2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0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2.6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8.8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2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6.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1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64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3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9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9A + VAD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7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IS-54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8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SM 06.10, FR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6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SM 06.60, EFR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12.2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4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3.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.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5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G.723.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81080"/>
                          <a:tab algn="l" pos="504720"/>
                          <a:tab algn="l" pos="539640"/>
                          <a:tab algn="l" pos="755640"/>
                          <a:tab algn="l" pos="900000"/>
                          <a:tab algn="l" pos="1008000"/>
                          <a:tab algn="l" pos="1260360"/>
                          <a:tab algn="l" pos="1620720"/>
                          <a:tab algn="l" pos="1981080"/>
                          <a:tab algn="l" pos="23400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6.3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80808"/>
                          </a:solidFill>
                          <a:latin typeface="Tele-GroteskFet"/>
                        </a:rPr>
                        <a:t>51</a:t>
                      </a:r>
                      <a:endParaRPr b="0" lang="en-US" sz="16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560520" y="1320840"/>
            <a:ext cx="3795480" cy="48290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 flipH="1">
            <a:off x="2243160" y="1787400"/>
            <a:ext cx="388800" cy="0"/>
          </a:xfrm>
          <a:prstGeom prst="line">
            <a:avLst/>
          </a:prstGeom>
          <a:ln w="2844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38" name=""/>
          <p:cNvSpPr/>
          <p:nvPr/>
        </p:nvSpPr>
        <p:spPr>
          <a:xfrm>
            <a:off x="2577240" y="1611360"/>
            <a:ext cx="145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Ro,max</a:t>
            </a:r>
            <a:r>
              <a:rPr b="0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  = 129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005640" y="6154560"/>
            <a:ext cx="198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(Raake, 2006;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ele-GroteskHal"/>
                <a:ea typeface="Times New Roman"/>
              </a:rPr>
              <a:t>Möller et al., 2006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2222640" y="1892160"/>
            <a:ext cx="21081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1" name=""/>
          <p:cNvSpPr/>
          <p:nvPr/>
        </p:nvSpPr>
        <p:spPr>
          <a:xfrm>
            <a:off x="2235240" y="3594240"/>
            <a:ext cx="21207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2255400" y="1875960"/>
            <a:ext cx="376200" cy="165240"/>
          </a:xfrm>
          <a:prstGeom prst="line">
            <a:avLst/>
          </a:prstGeom>
          <a:ln w="2844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2701800" y="1887480"/>
            <a:ext cx="1508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AMR-WB (23.05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4" name=""/>
          <p:cNvSpPr/>
          <p:nvPr/>
        </p:nvSpPr>
        <p:spPr>
          <a:xfrm>
            <a:off x="2676600" y="3614760"/>
            <a:ext cx="122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5ba2"/>
                </a:solidFill>
                <a:latin typeface="Tele-GroteskFet"/>
                <a:ea typeface="Times New Roman"/>
              </a:rPr>
              <a:t>AMR-WB (6.6)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2217600" y="3768840"/>
            <a:ext cx="401760" cy="0"/>
          </a:xfrm>
          <a:prstGeom prst="line">
            <a:avLst/>
          </a:prstGeom>
          <a:ln w="28440">
            <a:solidFill>
              <a:srgbClr val="1b5ba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4680" y="350640"/>
            <a:ext cx="8556840" cy="9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Quality Assessment and Prediction </a:t>
            </a:r>
            <a:br>
              <a:rPr sz="2800"/>
            </a:br>
            <a:r>
              <a:rPr b="1" lang="en-US" sz="2600" spc="-1" strike="noStrike">
                <a:solidFill>
                  <a:srgbClr val="5c5c5c"/>
                </a:solidFill>
                <a:latin typeface="Verdana"/>
              </a:rPr>
              <a:t>E-model extension for wideband networks.</a:t>
            </a:r>
            <a:endParaRPr b="1" lang="en-US" sz="2600" spc="-1" strike="noStrike">
              <a:solidFill>
                <a:srgbClr val="1b5ba2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CFA8-B6F1-4971-8B3E-993D25B7468B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428760" y="2519280"/>
            <a:ext cx="8246880" cy="18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Thank you for your attention!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Further information can be found under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438a"/>
                </a:solidFill>
                <a:latin typeface="Verdana"/>
              </a:rPr>
              <a:t>www.itu.int/ITU-T/studygroups/com12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632C-1C5E-49DB-805A-0A8AE35F3ADC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4002-E8C6-4E9D-8012-2A6F668C9F15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6" name="Date Placeholder 2"/>
          <p:cNvSpPr/>
          <p:nvPr/>
        </p:nvSpPr>
        <p:spPr>
          <a:xfrm>
            <a:off x="324000" y="6021360"/>
            <a:ext cx="619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277920" y="387360"/>
            <a:ext cx="85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Verdana"/>
              </a:rPr>
              <a:t>Speech-related Questions in SG 12 </a:t>
            </a:r>
            <a:r>
              <a:rPr b="1" lang="en-US" sz="1200" spc="-1" strike="noStrike">
                <a:solidFill>
                  <a:srgbClr val="646464"/>
                </a:solidFill>
                <a:latin typeface="Verdana"/>
              </a:rPr>
              <a:t>(1/2)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2440" y="1198440"/>
          <a:ext cx="7500600" cy="4721040"/>
        </p:xfrm>
        <a:graphic>
          <a:graphicData uri="http://schemas.openxmlformats.org/drawingml/2006/table">
            <a:tbl>
              <a:tblPr/>
              <a:tblGrid>
                <a:gridCol w="1946160"/>
                <a:gridCol w="5554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Question number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Question title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Work programme, QoS/QoE coordination and bridging the standardization gap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2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Multimedia performance considerations for IP gateway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3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Speech transmission characteristics of speech terminals for fixed circuit-switched, mobile and packet-switched (IP) network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4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Hands-free communication in vehicle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5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Telephonometric methodologies for handset and headset terminal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6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80808"/>
                          </a:solidFill>
                          <a:latin typeface="Verdana"/>
                          <a:ea typeface="Times New Roman"/>
                        </a:rPr>
                        <a:t>Analysis methods using complex measurement signals incl. application for speech enhancement techniques and hands-free telephony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7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thods, tools and test plans for the subjective assessment of speech, audio and audiovisual quality interaction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8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-Model extension towards WB transmission and future telecom. and application scenario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60D-7C19-4AA8-B415-67A15D54FEC8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0" name="Date Placeholder 2"/>
          <p:cNvSpPr/>
          <p:nvPr/>
        </p:nvSpPr>
        <p:spPr>
          <a:xfrm>
            <a:off x="324000" y="6021360"/>
            <a:ext cx="619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57120" y="1071720"/>
          <a:ext cx="8001000" cy="4987800"/>
        </p:xfrm>
        <a:graphic>
          <a:graphicData uri="http://schemas.openxmlformats.org/drawingml/2006/table">
            <a:tbl>
              <a:tblPr/>
              <a:tblGrid>
                <a:gridCol w="1357560"/>
                <a:gridCol w="66434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Question number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Question title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9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erceptual-based objective methods for voice, audio and visual quality measurements in telecommunication service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0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Transmission planning and performance considerations for voiceband, data and multimedia service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1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Performance interworking and traffic management for Next Generation Network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2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Operational aspects of telecommunication network service quality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3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QoE, QoS and performance requirements and assessment methods for multimedia including IPTV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4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Development of parametric models and tools for audiovisual and multimedia quality measurement purpose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e438a"/>
                          </a:solidFill>
                          <a:latin typeface="Verdana"/>
                          <a:ea typeface="Times New Roman"/>
                        </a:rPr>
                        <a:t>15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e438a"/>
                          </a:solidFill>
                          <a:latin typeface="Verdana"/>
                          <a:ea typeface="Times New Roman"/>
                        </a:rPr>
                        <a:t>Objective assessment of speech and sound transmission performance quality in network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d6f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6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Framework for diagnostic functions and their interaction with external objective models predicting media quality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17/12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04720"/>
                          <a:tab algn="l" pos="75564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1b5ba2"/>
                          </a:solidFill>
                          <a:latin typeface="Verdana"/>
                          <a:ea typeface="Times New Roman"/>
                        </a:rPr>
                        <a:t>Performance of packet-based networks and other networking technologies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 Box 41"/>
          <p:cNvSpPr/>
          <p:nvPr/>
        </p:nvSpPr>
        <p:spPr>
          <a:xfrm>
            <a:off x="277920" y="387360"/>
            <a:ext cx="85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Verdana"/>
              </a:rPr>
              <a:t>Speech-related Questions in SG 12 </a:t>
            </a:r>
            <a:r>
              <a:rPr b="1" lang="en-US" sz="1200" spc="-1" strike="noStrike">
                <a:solidFill>
                  <a:srgbClr val="646464"/>
                </a:solidFill>
                <a:latin typeface="Verdana"/>
              </a:rPr>
              <a:t>(2/2)</a:t>
            </a:r>
            <a:endParaRPr b="0" lang="en-US" sz="12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571-B012-499C-8E20-219BFF7F4DE3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1"/>
          <p:cNvSpPr/>
          <p:nvPr/>
        </p:nvSpPr>
        <p:spPr>
          <a:xfrm>
            <a:off x="854748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2FC8-D284-40D0-8F4E-4E0642C98202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32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Subjective Quality Assessment Approaches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Recommendations under Q.7/12.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28760" y="1643040"/>
            <a:ext cx="850104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00: Main Recommendation 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05: Conversational Speech Quality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10: Modulated Noise Reference Unit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30: Speech Codec Assessment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35: Speech Quality in Noise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40: Circuit Multiplication Equipment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5: Voice Output Devices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51: Spoken Dialogue Systems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Rec. P.880: Time-varying Quality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Suppl. 24 to P-Series Rec.: Interaction Parameters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Verdana"/>
              </a:rPr>
              <a:t>[Handbook on Subjective Testing Practical Procedures] </a:t>
            </a:r>
            <a:endParaRPr b="0" lang="en-US" sz="22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1"/>
          <p:cNvSpPr/>
          <p:nvPr/>
        </p:nvSpPr>
        <p:spPr>
          <a:xfrm>
            <a:off x="8582400" y="6404040"/>
            <a:ext cx="799560" cy="26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562-3C1E-4AAA-A5DD-9BF818F33E9E}" type="slidenum">
              <a:rPr b="0" lang="en-US" sz="1000" spc="-1" strike="noStrike">
                <a:solidFill>
                  <a:srgbClr val="0e438a"/>
                </a:solidFill>
                <a:latin typeface="Zurich BT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684360" y="46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5ba2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28760" y="1643040"/>
            <a:ext cx="8501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peech-related question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Subjective quality assessment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438a"/>
                </a:solidFill>
                <a:latin typeface="Verdana"/>
              </a:rPr>
              <a:t>Quality prediction approache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9/12: Signal-based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e438a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Verdana"/>
              </a:rPr>
              <a:t>Tasks of Q.8/12: Parametric models</a:t>
            </a:r>
            <a:endParaRPr b="0" lang="en-US" sz="24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8384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e438a"/>
                </a:solidFill>
                <a:latin typeface="Verdana"/>
              </a:rPr>
              <a:t>Quality Prediction Approaches</a:t>
            </a:r>
            <a:br>
              <a:rPr sz="2800"/>
            </a:br>
            <a:r>
              <a:rPr b="1" lang="en-US" sz="2800" spc="-1" strike="noStrike">
                <a:solidFill>
                  <a:srgbClr val="5c5c5c"/>
                </a:solidFill>
                <a:latin typeface="Verdana"/>
              </a:rPr>
              <a:t>Speech transmission services.</a:t>
            </a:r>
            <a:endParaRPr b="1" lang="en-US" sz="2800" spc="-1" strike="noStrike">
              <a:solidFill>
                <a:srgbClr val="1b5ba2"/>
              </a:solidFill>
              <a:latin typeface="Verdana"/>
            </a:endParaRPr>
          </a:p>
        </p:txBody>
      </p:sp>
      <p:sp>
        <p:nvSpPr>
          <p:cNvPr id="123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089080" y="2241720"/>
            <a:ext cx="519768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62480" y="4799160"/>
            <a:ext cx="3625560" cy="833760"/>
            <a:chOff x="4362480" y="4799160"/>
            <a:chExt cx="3625560" cy="833760"/>
          </a:xfrm>
        </p:grpSpPr>
        <p:sp>
          <p:nvSpPr>
            <p:cNvPr id="126" name=""/>
            <p:cNvSpPr/>
            <p:nvPr/>
          </p:nvSpPr>
          <p:spPr>
            <a:xfrm>
              <a:off x="4362480" y="4819680"/>
              <a:ext cx="977760" cy="658800"/>
            </a:xfrm>
            <a:prstGeom prst="rect">
              <a:avLst/>
            </a:prstGeom>
            <a:solidFill>
              <a:srgbClr val="6699ff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Model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400720" y="5129280"/>
              <a:ext cx="758520" cy="1440"/>
            </a:xfrm>
            <a:prstGeom prst="line">
              <a:avLst/>
            </a:prstGeom>
            <a:ln w="3168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1560" y="4799160"/>
              <a:ext cx="15364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Estimated Quality Index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03640" y="4149720"/>
            <a:ext cx="1811160" cy="858600"/>
            <a:chOff x="2303640" y="4149720"/>
            <a:chExt cx="1811160" cy="858600"/>
          </a:xfrm>
        </p:grpSpPr>
        <p:sp>
          <p:nvSpPr>
            <p:cNvPr id="130" name=""/>
            <p:cNvSpPr/>
            <p:nvPr/>
          </p:nvSpPr>
          <p:spPr>
            <a:xfrm>
              <a:off x="3459240" y="4417920"/>
              <a:ext cx="655560" cy="590400"/>
            </a:xfrm>
            <a:prstGeom prst="line">
              <a:avLst/>
            </a:prstGeom>
            <a:ln w="3168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03640" y="4149720"/>
              <a:ext cx="139824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System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Parameters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44600" y="1773360"/>
            <a:ext cx="4489560" cy="1400040"/>
            <a:chOff x="2244600" y="1773360"/>
            <a:chExt cx="4489560" cy="1400040"/>
          </a:xfrm>
        </p:grpSpPr>
        <p:sp>
          <p:nvSpPr>
            <p:cNvPr id="133" name=""/>
            <p:cNvSpPr/>
            <p:nvPr/>
          </p:nvSpPr>
          <p:spPr>
            <a:xfrm>
              <a:off x="2244600" y="1773360"/>
              <a:ext cx="4489560" cy="8874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323800" y="1925640"/>
              <a:ext cx="711000" cy="445680"/>
              <a:chOff x="2323800" y="1925640"/>
              <a:chExt cx="711000" cy="44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2352240" y="1977120"/>
                <a:ext cx="646200" cy="33876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351160" y="2275920"/>
                <a:ext cx="64764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51160" y="1925640"/>
                <a:ext cx="64764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359800" y="2253240"/>
                <a:ext cx="632520" cy="7128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23800" y="2022480"/>
                <a:ext cx="7110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Linguist.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Backgr.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990880" y="1925640"/>
              <a:ext cx="852840" cy="445680"/>
              <a:chOff x="2990880" y="1925640"/>
              <a:chExt cx="852840" cy="445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083040" y="1977120"/>
                <a:ext cx="641880" cy="33876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081960" y="2275920"/>
                <a:ext cx="64296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81960" y="1925640"/>
                <a:ext cx="64296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090600" y="2253240"/>
                <a:ext cx="628200" cy="7128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990880" y="2088720"/>
                <a:ext cx="85284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Attitude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687840" y="1925640"/>
              <a:ext cx="966960" cy="445680"/>
              <a:chOff x="3687840" y="1925640"/>
              <a:chExt cx="966960" cy="445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831840" y="1977120"/>
                <a:ext cx="672120" cy="33876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830400" y="2275920"/>
                <a:ext cx="67320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830400" y="1925640"/>
                <a:ext cx="67320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9040" y="2253240"/>
                <a:ext cx="658440" cy="7128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87840" y="2090160"/>
                <a:ext cx="96696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Emotions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040360" y="1925640"/>
              <a:ext cx="646200" cy="445680"/>
              <a:chOff x="5040360" y="1925640"/>
              <a:chExt cx="646200" cy="445680"/>
            </a:xfrm>
          </p:grpSpPr>
          <p:sp>
            <p:nvSpPr>
              <p:cNvPr id="153" name=""/>
              <p:cNvSpPr/>
              <p:nvPr/>
            </p:nvSpPr>
            <p:spPr>
              <a:xfrm>
                <a:off x="5041440" y="1977120"/>
                <a:ext cx="645120" cy="33876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40360" y="2275920"/>
                <a:ext cx="64620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40360" y="1925640"/>
                <a:ext cx="64620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49000" y="2253240"/>
                <a:ext cx="631080" cy="7128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83200" y="2022480"/>
                <a:ext cx="5814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Experi-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ence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824440" y="1925640"/>
              <a:ext cx="887400" cy="692640"/>
              <a:chOff x="5824440" y="1925640"/>
              <a:chExt cx="887400" cy="69264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6120" y="1976760"/>
                <a:ext cx="790920" cy="338040"/>
              </a:xfrm>
              <a:prstGeom prst="rect">
                <a:avLst/>
              </a:prstGeom>
              <a:noFill/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855040" y="2275200"/>
                <a:ext cx="792000" cy="9540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55040" y="1925640"/>
                <a:ext cx="792000" cy="95040"/>
              </a:xfrm>
              <a:prstGeom prst="ellipse">
                <a:avLst/>
              </a:prstGeom>
              <a:solidFill>
                <a:srgbClr val="6699ff"/>
              </a:solidFill>
              <a:ln w="190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3680" y="2252880"/>
                <a:ext cx="774720" cy="7128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0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24440" y="2013480"/>
                <a:ext cx="88740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Motivation,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80808"/>
                    </a:solidFill>
                    <a:latin typeface="Tele-GroteskFet"/>
                    <a:ea typeface="Times New Roman"/>
                  </a:rPr>
                  <a:t>Goals</a:t>
                </a:r>
                <a:endParaRPr b="0" lang="en-US" sz="1400" spc="-1" strike="noStrike">
                  <a:solidFill>
                    <a:srgbClr val="646464"/>
                  </a:solidFill>
                  <a:latin typeface="Verdana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912120" y="23083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User Factors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73360" y="2408400"/>
              <a:ext cx="1708200" cy="7556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3160" y="2414520"/>
              <a:ext cx="1096920" cy="7081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68560" y="2401920"/>
              <a:ext cx="781200" cy="71280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665240" y="2408400"/>
              <a:ext cx="723960" cy="70776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886280" y="2408400"/>
              <a:ext cx="1370160" cy="76500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950840" y="3967200"/>
            <a:ext cx="2260440" cy="1136520"/>
            <a:chOff x="1950840" y="3967200"/>
            <a:chExt cx="2260440" cy="1136520"/>
          </a:xfrm>
        </p:grpSpPr>
        <p:sp>
          <p:nvSpPr>
            <p:cNvPr id="171" name=""/>
            <p:cNvSpPr/>
            <p:nvPr/>
          </p:nvSpPr>
          <p:spPr>
            <a:xfrm flipH="1">
              <a:off x="1950840" y="3992760"/>
              <a:ext cx="4680" cy="1110960"/>
            </a:xfrm>
            <a:prstGeom prst="line">
              <a:avLst/>
            </a:prstGeom>
            <a:ln w="316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55880" y="5097600"/>
              <a:ext cx="2255400" cy="6120"/>
            </a:xfrm>
            <a:prstGeom prst="line">
              <a:avLst/>
            </a:prstGeom>
            <a:ln w="3168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11400" y="3967200"/>
              <a:ext cx="274320" cy="870120"/>
            </a:xfrm>
            <a:prstGeom prst="line">
              <a:avLst/>
            </a:prstGeom>
            <a:ln w="3168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81480" y="3481560"/>
            <a:ext cx="2665440" cy="885960"/>
            <a:chOff x="5181480" y="3481560"/>
            <a:chExt cx="2665440" cy="885960"/>
          </a:xfrm>
        </p:grpSpPr>
        <p:sp>
          <p:nvSpPr>
            <p:cNvPr id="175" name=""/>
            <p:cNvSpPr/>
            <p:nvPr/>
          </p:nvSpPr>
          <p:spPr>
            <a:xfrm>
              <a:off x="6443640" y="3533760"/>
              <a:ext cx="14032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Subjective Quality Judgment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43360" y="3610080"/>
              <a:ext cx="433440" cy="62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89440" y="3544920"/>
              <a:ext cx="434880" cy="62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38760" y="3481560"/>
              <a:ext cx="433440" cy="62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32360" y="3610080"/>
              <a:ext cx="2620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32360" y="3689280"/>
              <a:ext cx="26208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3000" y="3762360"/>
              <a:ext cx="26352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32360" y="3826080"/>
              <a:ext cx="26208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81480" y="3846600"/>
              <a:ext cx="414360" cy="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758960" y="3251160"/>
            <a:ext cx="507960" cy="45900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676680" y="3263760"/>
            <a:ext cx="507960" cy="459000"/>
          </a:xfrm>
          <a:custGeom>
            <a:avLst/>
            <a:gdLst/>
            <a:ahLst/>
            <a:rect l="l" t="t" r="r" b="b"/>
            <a:pathLst>
              <a:path w="5101" h="3028">
                <a:moveTo>
                  <a:pt x="0" y="1466"/>
                </a:moveTo>
                <a:cubicBezTo>
                  <a:pt x="38" y="1346"/>
                  <a:pt x="13" y="1215"/>
                  <a:pt x="51" y="1095"/>
                </a:cubicBezTo>
                <a:cubicBezTo>
                  <a:pt x="64" y="997"/>
                  <a:pt x="91" y="896"/>
                  <a:pt x="115" y="800"/>
                </a:cubicBezTo>
                <a:cubicBezTo>
                  <a:pt x="117" y="792"/>
                  <a:pt x="120" y="783"/>
                  <a:pt x="122" y="775"/>
                </a:cubicBezTo>
                <a:cubicBezTo>
                  <a:pt x="126" y="758"/>
                  <a:pt x="130" y="741"/>
                  <a:pt x="134" y="724"/>
                </a:cubicBezTo>
                <a:cubicBezTo>
                  <a:pt x="140" y="700"/>
                  <a:pt x="154" y="653"/>
                  <a:pt x="154" y="653"/>
                </a:cubicBezTo>
                <a:cubicBezTo>
                  <a:pt x="167" y="558"/>
                  <a:pt x="201" y="463"/>
                  <a:pt x="230" y="372"/>
                </a:cubicBezTo>
                <a:cubicBezTo>
                  <a:pt x="232" y="357"/>
                  <a:pt x="232" y="341"/>
                  <a:pt x="237" y="327"/>
                </a:cubicBezTo>
                <a:cubicBezTo>
                  <a:pt x="239" y="320"/>
                  <a:pt x="247" y="315"/>
                  <a:pt x="250" y="308"/>
                </a:cubicBezTo>
                <a:cubicBezTo>
                  <a:pt x="281" y="229"/>
                  <a:pt x="291" y="153"/>
                  <a:pt x="346" y="84"/>
                </a:cubicBezTo>
                <a:cubicBezTo>
                  <a:pt x="358" y="45"/>
                  <a:pt x="384" y="14"/>
                  <a:pt x="422" y="0"/>
                </a:cubicBezTo>
                <a:cubicBezTo>
                  <a:pt x="432" y="15"/>
                  <a:pt x="446" y="29"/>
                  <a:pt x="454" y="45"/>
                </a:cubicBezTo>
                <a:cubicBezTo>
                  <a:pt x="473" y="82"/>
                  <a:pt x="482" y="117"/>
                  <a:pt x="506" y="154"/>
                </a:cubicBezTo>
                <a:cubicBezTo>
                  <a:pt x="526" y="185"/>
                  <a:pt x="555" y="223"/>
                  <a:pt x="570" y="256"/>
                </a:cubicBezTo>
                <a:cubicBezTo>
                  <a:pt x="587" y="292"/>
                  <a:pt x="597" y="329"/>
                  <a:pt x="614" y="365"/>
                </a:cubicBezTo>
                <a:cubicBezTo>
                  <a:pt x="639" y="523"/>
                  <a:pt x="644" y="686"/>
                  <a:pt x="659" y="845"/>
                </a:cubicBezTo>
                <a:cubicBezTo>
                  <a:pt x="665" y="1212"/>
                  <a:pt x="657" y="1579"/>
                  <a:pt x="666" y="1946"/>
                </a:cubicBezTo>
                <a:cubicBezTo>
                  <a:pt x="670" y="2113"/>
                  <a:pt x="675" y="2268"/>
                  <a:pt x="685" y="2432"/>
                </a:cubicBezTo>
                <a:cubicBezTo>
                  <a:pt x="691" y="2533"/>
                  <a:pt x="683" y="2642"/>
                  <a:pt x="717" y="2740"/>
                </a:cubicBezTo>
                <a:cubicBezTo>
                  <a:pt x="723" y="2782"/>
                  <a:pt x="723" y="2841"/>
                  <a:pt x="742" y="2880"/>
                </a:cubicBezTo>
                <a:cubicBezTo>
                  <a:pt x="753" y="2902"/>
                  <a:pt x="764" y="2921"/>
                  <a:pt x="774" y="2944"/>
                </a:cubicBezTo>
                <a:cubicBezTo>
                  <a:pt x="791" y="2984"/>
                  <a:pt x="795" y="3012"/>
                  <a:pt x="838" y="3028"/>
                </a:cubicBezTo>
                <a:cubicBezTo>
                  <a:pt x="909" y="3012"/>
                  <a:pt x="919" y="3007"/>
                  <a:pt x="960" y="2944"/>
                </a:cubicBezTo>
                <a:cubicBezTo>
                  <a:pt x="968" y="2919"/>
                  <a:pt x="974" y="2897"/>
                  <a:pt x="986" y="2874"/>
                </a:cubicBezTo>
                <a:cubicBezTo>
                  <a:pt x="995" y="2795"/>
                  <a:pt x="1025" y="2700"/>
                  <a:pt x="1050" y="2624"/>
                </a:cubicBezTo>
                <a:cubicBezTo>
                  <a:pt x="1064" y="2583"/>
                  <a:pt x="1062" y="2542"/>
                  <a:pt x="1082" y="2503"/>
                </a:cubicBezTo>
                <a:cubicBezTo>
                  <a:pt x="1098" y="2417"/>
                  <a:pt x="1117" y="2333"/>
                  <a:pt x="1133" y="2247"/>
                </a:cubicBezTo>
                <a:cubicBezTo>
                  <a:pt x="1137" y="1971"/>
                  <a:pt x="1152" y="1712"/>
                  <a:pt x="1171" y="1440"/>
                </a:cubicBezTo>
                <a:cubicBezTo>
                  <a:pt x="1168" y="1289"/>
                  <a:pt x="1163" y="1177"/>
                  <a:pt x="1152" y="1037"/>
                </a:cubicBezTo>
                <a:cubicBezTo>
                  <a:pt x="1158" y="917"/>
                  <a:pt x="1166" y="782"/>
                  <a:pt x="1203" y="666"/>
                </a:cubicBezTo>
                <a:cubicBezTo>
                  <a:pt x="1231" y="668"/>
                  <a:pt x="1260" y="663"/>
                  <a:pt x="1286" y="672"/>
                </a:cubicBezTo>
                <a:cubicBezTo>
                  <a:pt x="1295" y="675"/>
                  <a:pt x="1293" y="691"/>
                  <a:pt x="1299" y="698"/>
                </a:cubicBezTo>
                <a:cubicBezTo>
                  <a:pt x="1375" y="786"/>
                  <a:pt x="1287" y="662"/>
                  <a:pt x="1338" y="736"/>
                </a:cubicBezTo>
                <a:cubicBezTo>
                  <a:pt x="1348" y="770"/>
                  <a:pt x="1410" y="861"/>
                  <a:pt x="1434" y="896"/>
                </a:cubicBezTo>
                <a:cubicBezTo>
                  <a:pt x="1446" y="937"/>
                  <a:pt x="1455" y="970"/>
                  <a:pt x="1472" y="1012"/>
                </a:cubicBezTo>
                <a:cubicBezTo>
                  <a:pt x="1476" y="1023"/>
                  <a:pt x="1485" y="1044"/>
                  <a:pt x="1485" y="1044"/>
                </a:cubicBezTo>
                <a:cubicBezTo>
                  <a:pt x="1500" y="1123"/>
                  <a:pt x="1513" y="1202"/>
                  <a:pt x="1530" y="1280"/>
                </a:cubicBezTo>
                <a:cubicBezTo>
                  <a:pt x="1532" y="1408"/>
                  <a:pt x="1532" y="1536"/>
                  <a:pt x="1536" y="1664"/>
                </a:cubicBezTo>
                <a:cubicBezTo>
                  <a:pt x="1537" y="1709"/>
                  <a:pt x="1585" y="1739"/>
                  <a:pt x="1613" y="1767"/>
                </a:cubicBezTo>
                <a:cubicBezTo>
                  <a:pt x="1629" y="1783"/>
                  <a:pt x="1664" y="1812"/>
                  <a:pt x="1664" y="1812"/>
                </a:cubicBezTo>
                <a:cubicBezTo>
                  <a:pt x="1741" y="1759"/>
                  <a:pt x="1794" y="1612"/>
                  <a:pt x="1824" y="1524"/>
                </a:cubicBezTo>
                <a:cubicBezTo>
                  <a:pt x="1834" y="1459"/>
                  <a:pt x="1861" y="1400"/>
                  <a:pt x="1882" y="1338"/>
                </a:cubicBezTo>
                <a:cubicBezTo>
                  <a:pt x="1900" y="1284"/>
                  <a:pt x="1903" y="1225"/>
                  <a:pt x="1926" y="1172"/>
                </a:cubicBezTo>
                <a:cubicBezTo>
                  <a:pt x="1944" y="1130"/>
                  <a:pt x="1952" y="1075"/>
                  <a:pt x="1971" y="1037"/>
                </a:cubicBezTo>
                <a:cubicBezTo>
                  <a:pt x="1978" y="1023"/>
                  <a:pt x="1997" y="999"/>
                  <a:pt x="1997" y="999"/>
                </a:cubicBezTo>
                <a:cubicBezTo>
                  <a:pt x="2013" y="931"/>
                  <a:pt x="2068" y="863"/>
                  <a:pt x="2118" y="813"/>
                </a:cubicBezTo>
                <a:cubicBezTo>
                  <a:pt x="2150" y="829"/>
                  <a:pt x="2187" y="849"/>
                  <a:pt x="2202" y="884"/>
                </a:cubicBezTo>
                <a:cubicBezTo>
                  <a:pt x="2212" y="907"/>
                  <a:pt x="2219" y="931"/>
                  <a:pt x="2227" y="954"/>
                </a:cubicBezTo>
                <a:cubicBezTo>
                  <a:pt x="2229" y="960"/>
                  <a:pt x="2234" y="973"/>
                  <a:pt x="2234" y="973"/>
                </a:cubicBezTo>
                <a:cubicBezTo>
                  <a:pt x="2238" y="1018"/>
                  <a:pt x="2242" y="1063"/>
                  <a:pt x="2246" y="1108"/>
                </a:cubicBezTo>
                <a:cubicBezTo>
                  <a:pt x="2253" y="1186"/>
                  <a:pt x="2250" y="1265"/>
                  <a:pt x="2253" y="1344"/>
                </a:cubicBezTo>
                <a:cubicBezTo>
                  <a:pt x="2254" y="1370"/>
                  <a:pt x="2257" y="1395"/>
                  <a:pt x="2259" y="1421"/>
                </a:cubicBezTo>
                <a:cubicBezTo>
                  <a:pt x="2268" y="1529"/>
                  <a:pt x="2279" y="1748"/>
                  <a:pt x="2381" y="1818"/>
                </a:cubicBezTo>
                <a:cubicBezTo>
                  <a:pt x="2402" y="1797"/>
                  <a:pt x="2425" y="1782"/>
                  <a:pt x="2445" y="1760"/>
                </a:cubicBezTo>
                <a:cubicBezTo>
                  <a:pt x="2489" y="1710"/>
                  <a:pt x="2506" y="1649"/>
                  <a:pt x="2541" y="1594"/>
                </a:cubicBezTo>
                <a:cubicBezTo>
                  <a:pt x="2581" y="1531"/>
                  <a:pt x="2604" y="1468"/>
                  <a:pt x="2637" y="1402"/>
                </a:cubicBezTo>
                <a:cubicBezTo>
                  <a:pt x="2645" y="1366"/>
                  <a:pt x="2662" y="1320"/>
                  <a:pt x="2694" y="1300"/>
                </a:cubicBezTo>
                <a:cubicBezTo>
                  <a:pt x="2730" y="1228"/>
                  <a:pt x="2682" y="1316"/>
                  <a:pt x="2726" y="1255"/>
                </a:cubicBezTo>
                <a:cubicBezTo>
                  <a:pt x="2758" y="1211"/>
                  <a:pt x="2775" y="1178"/>
                  <a:pt x="2822" y="1146"/>
                </a:cubicBezTo>
                <a:cubicBezTo>
                  <a:pt x="2831" y="1140"/>
                  <a:pt x="2834" y="1127"/>
                  <a:pt x="2842" y="1120"/>
                </a:cubicBezTo>
                <a:cubicBezTo>
                  <a:pt x="2849" y="1114"/>
                  <a:pt x="2859" y="1112"/>
                  <a:pt x="2867" y="1108"/>
                </a:cubicBezTo>
                <a:cubicBezTo>
                  <a:pt x="2905" y="1117"/>
                  <a:pt x="2901" y="1115"/>
                  <a:pt x="2918" y="1146"/>
                </a:cubicBezTo>
                <a:cubicBezTo>
                  <a:pt x="2928" y="1164"/>
                  <a:pt x="2939" y="1180"/>
                  <a:pt x="2950" y="1197"/>
                </a:cubicBezTo>
                <a:cubicBezTo>
                  <a:pt x="2954" y="1203"/>
                  <a:pt x="2963" y="1216"/>
                  <a:pt x="2963" y="1216"/>
                </a:cubicBezTo>
                <a:cubicBezTo>
                  <a:pt x="2981" y="1282"/>
                  <a:pt x="2993" y="1349"/>
                  <a:pt x="3008" y="1415"/>
                </a:cubicBezTo>
                <a:cubicBezTo>
                  <a:pt x="3014" y="1473"/>
                  <a:pt x="3023" y="1528"/>
                  <a:pt x="3046" y="1581"/>
                </a:cubicBezTo>
                <a:cubicBezTo>
                  <a:pt x="3064" y="1623"/>
                  <a:pt x="3036" y="1575"/>
                  <a:pt x="3078" y="1639"/>
                </a:cubicBezTo>
                <a:cubicBezTo>
                  <a:pt x="3082" y="1645"/>
                  <a:pt x="3091" y="1658"/>
                  <a:pt x="3091" y="1658"/>
                </a:cubicBezTo>
                <a:cubicBezTo>
                  <a:pt x="3139" y="1647"/>
                  <a:pt x="3168" y="1603"/>
                  <a:pt x="3200" y="1568"/>
                </a:cubicBezTo>
                <a:cubicBezTo>
                  <a:pt x="3230" y="1535"/>
                  <a:pt x="3264" y="1504"/>
                  <a:pt x="3296" y="1472"/>
                </a:cubicBezTo>
                <a:cubicBezTo>
                  <a:pt x="3313" y="1455"/>
                  <a:pt x="3337" y="1445"/>
                  <a:pt x="3354" y="1428"/>
                </a:cubicBezTo>
                <a:cubicBezTo>
                  <a:pt x="3405" y="1377"/>
                  <a:pt x="3444" y="1324"/>
                  <a:pt x="3501" y="1280"/>
                </a:cubicBezTo>
                <a:cubicBezTo>
                  <a:pt x="3592" y="1300"/>
                  <a:pt x="3568" y="1400"/>
                  <a:pt x="3667" y="1428"/>
                </a:cubicBezTo>
                <a:cubicBezTo>
                  <a:pt x="3693" y="1426"/>
                  <a:pt x="3718" y="1424"/>
                  <a:pt x="3744" y="1421"/>
                </a:cubicBezTo>
                <a:cubicBezTo>
                  <a:pt x="3788" y="1415"/>
                  <a:pt x="3831" y="1393"/>
                  <a:pt x="3872" y="1376"/>
                </a:cubicBezTo>
                <a:cubicBezTo>
                  <a:pt x="3904" y="1362"/>
                  <a:pt x="3947" y="1356"/>
                  <a:pt x="3981" y="1351"/>
                </a:cubicBezTo>
                <a:cubicBezTo>
                  <a:pt x="4108" y="1355"/>
                  <a:pt x="4161" y="1341"/>
                  <a:pt x="4256" y="1389"/>
                </a:cubicBezTo>
                <a:cubicBezTo>
                  <a:pt x="4294" y="1441"/>
                  <a:pt x="4253" y="1390"/>
                  <a:pt x="4307" y="1440"/>
                </a:cubicBezTo>
                <a:cubicBezTo>
                  <a:pt x="4325" y="1457"/>
                  <a:pt x="4341" y="1475"/>
                  <a:pt x="4358" y="1492"/>
                </a:cubicBezTo>
                <a:cubicBezTo>
                  <a:pt x="4361" y="1495"/>
                  <a:pt x="4415" y="1517"/>
                  <a:pt x="4416" y="1517"/>
                </a:cubicBezTo>
                <a:cubicBezTo>
                  <a:pt x="4479" y="1549"/>
                  <a:pt x="4529" y="1550"/>
                  <a:pt x="4602" y="1556"/>
                </a:cubicBezTo>
                <a:cubicBezTo>
                  <a:pt x="4696" y="1552"/>
                  <a:pt x="4763" y="1542"/>
                  <a:pt x="4851" y="1530"/>
                </a:cubicBezTo>
                <a:cubicBezTo>
                  <a:pt x="4873" y="1523"/>
                  <a:pt x="4893" y="1512"/>
                  <a:pt x="4915" y="1504"/>
                </a:cubicBezTo>
                <a:cubicBezTo>
                  <a:pt x="4953" y="1506"/>
                  <a:pt x="4992" y="1507"/>
                  <a:pt x="5030" y="1511"/>
                </a:cubicBezTo>
                <a:cubicBezTo>
                  <a:pt x="5054" y="1514"/>
                  <a:pt x="5101" y="1524"/>
                  <a:pt x="5101" y="15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646464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942840" y="3179880"/>
            <a:ext cx="4079880" cy="1128600"/>
            <a:chOff x="942840" y="3179880"/>
            <a:chExt cx="4079880" cy="1128600"/>
          </a:xfrm>
        </p:grpSpPr>
        <p:sp>
          <p:nvSpPr>
            <p:cNvPr id="187" name=""/>
            <p:cNvSpPr/>
            <p:nvPr/>
          </p:nvSpPr>
          <p:spPr>
            <a:xfrm>
              <a:off x="2341440" y="3401280"/>
              <a:ext cx="1258920" cy="74016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Transmission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ele-GroteskFet"/>
                  <a:ea typeface="Times New Roman"/>
                </a:rPr>
                <a:t>System</a:t>
              </a:r>
              <a:endParaRPr b="0" lang="en-US" sz="18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2800" y="3846600"/>
              <a:ext cx="414360" cy="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15840" y="3846600"/>
              <a:ext cx="414360" cy="0"/>
            </a:xfrm>
            <a:prstGeom prst="line">
              <a:avLst/>
            </a:prstGeom>
            <a:ln w="316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646464"/>
                </a:solidFill>
                <a:latin typeface="Verdana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942840" y="3179880"/>
              <a:ext cx="80028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"/>
            <a:stretch/>
          </p:blipFill>
          <p:spPr>
            <a:xfrm>
              <a:off x="4222800" y="3179880"/>
              <a:ext cx="799920" cy="11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"/>
          <p:cNvSpPr/>
          <p:nvPr/>
        </p:nvSpPr>
        <p:spPr>
          <a:xfrm>
            <a:off x="2309760" y="4149720"/>
            <a:ext cx="1398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80808"/>
                </a:solidFill>
                <a:latin typeface="Tele-GroteskFet"/>
                <a:ea typeface="Times New Roman"/>
              </a:rPr>
              <a:t>Speech Signals</a:t>
            </a:r>
            <a:endParaRPr b="0" lang="en-US" sz="1800" spc="-1" strike="noStrike">
              <a:solidFill>
                <a:srgbClr val="646464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3:59Z</dcterms:created>
  <dc:creator>Sebastian Möller</dc:creator>
  <dc:description/>
  <cp:keywords/>
  <dc:language>en-US</dc:language>
  <cp:lastModifiedBy>Deutsche Telekom</cp:lastModifiedBy>
  <cp:lastPrinted>2001-11-25T13:41:09Z</cp:lastPrinted>
  <dcterms:modified xsi:type="dcterms:W3CDTF">2010-06-20T08:38:53Z</dcterms:modified>
  <cp:revision>328</cp:revision>
  <dc:subject/>
  <dc:title>SG12 Speech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0">
    <vt:lpwstr/>
  </property>
  <property fmtid="{D5CDD505-2E9C-101B-9397-08002B2CF9AE}" pid="3" name="ContentType">
    <vt:lpwstr>Document</vt:lpwstr>
  </property>
  <property fmtid="{D5CDD505-2E9C-101B-9397-08002B2CF9AE}" pid="4" name="Date">
    <vt:lpwstr>2008-02-13T00:00:00Z</vt:lpwstr>
  </property>
  <property fmtid="{D5CDD505-2E9C-101B-9397-08002B2CF9AE}" pid="5" name="Event">
    <vt:lpwstr>GSMA Mobile World Congress</vt:lpwstr>
  </property>
  <property fmtid="{D5CDD505-2E9C-101B-9397-08002B2CF9AE}" pid="6" name="Location">
    <vt:lpwstr>Barcelona, Spain</vt:lpwstr>
  </property>
  <property fmtid="{D5CDD505-2E9C-101B-9397-08002B2CF9AE}" pid="7" name="Other Keyword(s)">
    <vt:lpwstr/>
  </property>
  <property fmtid="{D5CDD505-2E9C-101B-9397-08002B2CF9AE}" pid="8" name="PPTAuthor">
    <vt:lpwstr>78;#ITU_USERS\toure</vt:lpwstr>
  </property>
  <property fmtid="{D5CDD505-2E9C-101B-9397-08002B2CF9AE}" pid="9" name="Sector">
    <vt:lpwstr>;#ITU-D;#</vt:lpwstr>
  </property>
  <property fmtid="{D5CDD505-2E9C-101B-9397-08002B2CF9AE}" pid="10" name="Web Link">
    <vt:lpwstr>http://www.mobileworldcongress.com/homepage.htm, http://www.mobileworldcongress.com/homepage.htm</vt:lpwstr>
  </property>
  <property fmtid="{D5CDD505-2E9C-101B-9397-08002B2CF9AE}" pid="11" name="display_urn:schemas-microsoft-com:office:office#PPTAuthor">
    <vt:lpwstr>Touré, Hamadoun</vt:lpwstr>
  </property>
</Properties>
</file>